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26C-9F5C-4030-B525-95E10CDC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7C4-A220-47EE-B0CE-808CECD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B61-BCC2-4B96-9631-48637FB6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6D2-226E-462E-9F92-AEA2B9C9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02D-B53A-49E2-B17E-41EECAC0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CD0B-0A50-457F-A086-EB986F55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1D03-3108-45F4-B47F-4DB02E7C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FC31-F843-460D-9258-B77A24C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928-33EB-4E28-A145-3AFA0C7B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508-E0D5-4310-A5B7-B902704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CF85-FD30-4025-8C07-AD227EB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C79-A731-4D42-B5FC-47F37B5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608C-E301-40F3-828A-37CF2E9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6C4-79D8-4CE0-84F8-57D1D94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246C-9D5A-492C-8F18-17A2804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C326-5730-4CAE-B8F0-40C965C6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F2A7-2D90-43C0-8583-DA77FB2F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907-D3C0-4B91-B841-908CEB7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837-E154-4888-8A1A-2DABC274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3B9-14BF-468F-8462-B9ADF15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F6F-582D-4301-9276-1C66313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77E-AEC1-4275-92E1-0B111A2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1B8-7377-43FC-888B-2CFF674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A35-EE96-4846-96AB-7D394C0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52D-1B08-44C9-980B-F8B468FEEF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DCF-8111-4ED0-84EF-2199B31683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6400800" cy="25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ech</a:t>
            </a:r>
            <a:r>
              <a:rPr b="0" lang="pl-P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elpr</a:t>
            </a:r>
            <a:r>
              <a:rPr b="0" lang="pl-PL" sz="4400" spc="-1" strike="noStrike">
                <a:solidFill>
                  <a:srgbClr val="ff0000"/>
                </a:solidFill>
                <a:latin typeface="Comic Sans MS"/>
              </a:rPr>
              <a:t>ä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positione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Prezentacja Elizy Du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liegt die Fra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ie liegt u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chi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3241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ist die Flieg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145728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Sie ist üb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pl-PL" sz="3600" spc="-1" strike="noStrike">
                <a:solidFill>
                  <a:srgbClr val="ff0000"/>
                </a:solidFill>
                <a:latin typeface="Comic Sans MS"/>
              </a:rPr>
              <a:t>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0" lang="pl-PL" sz="3600" spc="-1" strike="noStrike">
                <a:solidFill>
                  <a:srgbClr val="000000"/>
                </a:solidFill>
                <a:latin typeface="Comic Sans MS"/>
              </a:rPr>
              <a:t>Ku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1" dur="1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2" dur="1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3" dur="1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9" dur="1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befindet sich der Polizis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Er steht zwisch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Polizeiwag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2105280" cy="1579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0000"/>
                </a:solidFill>
                <a:latin typeface="Comic Sans MS"/>
              </a:rPr>
              <a:t>Wo</a:t>
            </a:r>
            <a:r>
              <a:rPr b="0" lang="pl-PL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befindet sich……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itzt  /  steht  / hängt  / liegt /  ist / arbeitet /stec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Auf diese Frage antworte immer m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0000"/>
                </a:solidFill>
                <a:latin typeface="Comic Sans MS"/>
              </a:rPr>
              <a:t>Dativ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6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itzt das Mädch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4000" y="3200400"/>
            <a:ext cx="525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Es sitzt au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o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ind die Fisch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ie sind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Akwa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348000" y="1924200"/>
            <a:ext cx="237636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15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15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115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115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4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155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155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155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0"/>
                            </p:stCondLst>
                            <p:childTnLst>
                              <p:par>
                                <p:cTn id="1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5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liegt die Katz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19600" y="2038320"/>
            <a:ext cx="1428840" cy="1333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Die Katze liegt auf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Za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teht der Schul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87640" y="1677960"/>
            <a:ext cx="367200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Er steht   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r</a:t>
            </a: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Taf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teht die Mau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03640" y="1990800"/>
            <a:ext cx="2135160" cy="186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696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ie steht neben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Computerm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"/>
                            </p:stCondLst>
                            <p:childTnLst>
                              <p:par>
                                <p:cTn id="1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tehen die Hun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Sie stehen v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024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Wo steht die Fra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03280" y="1828800"/>
            <a:ext cx="4824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ie steht   h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pl-PL" sz="4000" spc="-1" strike="noStrike">
                <a:solidFill>
                  <a:srgbClr val="ff0000"/>
                </a:solidFill>
                <a:latin typeface="Comic Sans MS"/>
              </a:rPr>
              <a:t>d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pieg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222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1:44:51Z</dcterms:created>
  <dc:creator>Administrator</dc:creator>
  <dc:description/>
  <dc:language>en-US</dc:language>
  <cp:lastModifiedBy>Administrator</cp:lastModifiedBy>
  <dcterms:modified xsi:type="dcterms:W3CDTF">2003-03-21T12:13:57Z</dcterms:modified>
  <cp:revision>13</cp:revision>
  <dc:subject/>
  <dc:title>Wechselprapositionen</dc:title>
</cp:coreProperties>
</file>