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6.wmf" ContentType="image/x-wmf"/>
  <Override PartName="/ppt/media/image14.wmf" ContentType="image/x-wmf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6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17.jpeg" ContentType="image/jpe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941-5348-419E-8323-CD43B783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459-8143-4EA4-B21C-EBC558C3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A6E-287A-484B-AE68-610E35BD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545-97CC-4174-8BF6-A08E5BC7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9BFD-8174-44A3-8C0C-41EB5C98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B875-2A58-4B4D-9FCB-214D8B6E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F5FC-987E-4AE6-A612-322E060E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F913-8F2B-482F-A5BC-D27955BC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F8F7-39A3-4F97-BFF9-8B560C65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01B5-B674-4548-A1D5-256F21DE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86C5-99B5-4E1D-94B1-C19A9D9B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D8A-3E20-4DFE-BEF2-1F047DA9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4ED2-7E1D-4601-AE9F-290B531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0400-642D-48BD-95A4-0915DFAD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2E74-83D5-406E-8D5E-5CADC0E2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18F0-CF86-4F82-AB5C-0DD07835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6083-144E-4819-A93F-DB5D5F57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7D5-C26A-4EEB-B1D3-DE81BD48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5A8-7FA8-4D68-995C-B62FEFB8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CFD-9BF7-43C9-9530-558C16F5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FC7-8466-4710-9C88-AB6FB6D3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D87-23FA-45B8-A356-243AEB93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C8F-69FE-4E3E-9476-67CBFC2E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6C5-D5D6-41F1-92B2-22623E3A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9574-511A-487B-B4FE-0C7B24082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0711-8428-44C5-9A34-0EA81F6A9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Deutsche Sprichw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ö</a:t>
            </a:r>
            <a:r>
              <a:rPr b="1" lang="pl-PL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r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75160" y="1700280"/>
            <a:ext cx="233208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Alte Liebe rostet nicht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47640" y="2630520"/>
            <a:ext cx="3657600" cy="2468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957920" y="2143080"/>
            <a:ext cx="3419280" cy="3443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Times New Roman"/>
              </a:rPr>
              <a:t>Der Teufel ist nie so schwarz, wie man ihn malt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2178000"/>
            <a:ext cx="3311640" cy="3219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08760" y="2933640"/>
            <a:ext cx="1317600" cy="1862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3916200">
            <a:off x="4606560" y="3429000"/>
            <a:ext cx="10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imes New Roman"/>
              </a:rPr>
              <a:t>o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10840" y="3284640"/>
            <a:ext cx="5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Times New Roman"/>
              </a:rPr>
              <a:t>Wenn zwei sich streiten, freut sich der Dritte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71440" y="2036880"/>
            <a:ext cx="2610000" cy="3657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 rot="18344400">
            <a:off x="5579280" y="2051280"/>
            <a:ext cx="1800360" cy="1735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 rot="3147000">
            <a:off x="5796720" y="4277520"/>
            <a:ext cx="1656000" cy="1596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Zeit ist Geld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138640" y="2421000"/>
            <a:ext cx="3229200" cy="3240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16080" y="1844640"/>
            <a:ext cx="3644640" cy="3816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480920" y="3206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Erl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ä</a:t>
            </a:r>
            <a:r>
              <a:rPr b="1" lang="pl-PL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uterung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 haben kurze Beine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 Wind 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, wird Sturm ernt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em Tierchen sein P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rch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er Bauch studiert nicht ger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 Apfel f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t nicht weit vom Stam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 Tod zahlt alle Schuld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 Liebe rostet nich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 Teufel ist nicht so schwarz, wie man ihn mal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nn zwei sich streiten, freut sich der Drit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it ist Gel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Es lohnt nicht, zu 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; die Wahrheit kommt oft rasch zutag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 andere angreift, muss mit heftigen Gegenreaktionen rechn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em sein Verg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 satter Mensch ist t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 und denkfau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mand ist in den negativen Anlagen den Eltern sehr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nlich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t dem Tod wird alles bezahlt und vergess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e zuneigung, die schon sehr lange besteht, 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st sich nicht mehr vergessen oder unterd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k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ist nicht so schlimm, wie andere erz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en; es is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trieb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 einer Auseinandersetzung zweier Personen als Dritter Nutzen zieh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 soll die Zeit nicht ungenutzt lassen, Zeitverlust bedeutet materiellen Verlus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Deutsch vs Polnisc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 haben kurze Beine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 Wind 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, wird Sturm ernt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em Tierchen sein P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rch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er Bauch studiert nicht ger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 Apfel f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t nicht weit vom Stam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 Tod zahlt alle Schuld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 Liebe rostet nich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 Teufel ist nicht so schwarz, wie man ihn ma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nn zwei sich streiten, freut sich der Drit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it ist G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łamstwo ma krótkie nog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to wiatr wieje, burzę zbie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ażdemu, co mu się należy (co lubi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zuch tłusty łeb ma pus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edaleko pada jabłko od jabłon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Śmierć wszystkich pobr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a miłość nie rdzewiej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e taki diabeł straszny jak go maluj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dzie dwóch się bije, tam trzeci korzys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zas to pieniąd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Wiederholung</a:t>
            </a:r>
            <a:br>
              <a:rPr sz="4400"/>
            </a:br>
            <a:r>
              <a:rPr b="1" lang="pl-PL" sz="2000" spc="-1" strike="noStrike">
                <a:solidFill>
                  <a:srgbClr val="feec94"/>
                </a:solidFill>
                <a:latin typeface="Times New Roman"/>
              </a:rPr>
              <a:t>Spiel mit Sprichw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ö</a:t>
            </a:r>
            <a:r>
              <a:rPr b="1" lang="pl-PL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rtern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er kann das Durcheinander auf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42100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ü</a:t>
            </a: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gen haben, freut sich der Drit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Wer Wind s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ä</a:t>
            </a: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t, studiert nicht g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Jedem Tierchen alle Schul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Voller Bauch, sein P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ä</a:t>
            </a: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sierc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Der Apfel rostet nic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Der Tod zahlt G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Alte Liebe wird Sturm ern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Der Teufel f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ä</a:t>
            </a: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llt nicht weit vom Stamm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Wenn zwei sich streiten, haben kurze Be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mic Sans MS"/>
              </a:rPr>
              <a:t>Zeit ist nicht so schwarz, wie man ihn mal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54440" y="64911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Opracowała Izabela Kurpi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Sprichw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ö</a:t>
            </a:r>
            <a:r>
              <a:rPr b="1" lang="pl-PL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r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prich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er sind allgemein bekannte,festgep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te 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e, die eine Lebensregel oder Weisheit in kurzer Form ausd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atsch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, Wahrheit, Erfahrung, Volksweish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Verzeichn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 haben kurze Beine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 Wind 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, wird Sturm ern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em Tierchen sein P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rch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er Bauch studiert nicht ger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 Apfel 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t nicht weit vom Stam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 Tod zahlt alle Schuld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 Liebe rostet nic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 Teufel ist nicht so schwarz, wie man ihn ma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nn zwei sich streiten, freut sich der Drit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it ist G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L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ü</a:t>
            </a:r>
            <a:r>
              <a:rPr b="1" lang="pl-PL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gen haben kurze Beine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90560" y="2147760"/>
            <a:ext cx="3370320" cy="3435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3456000" cy="1890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98800" y="554184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Gala-Reporter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Times New Roman"/>
              </a:rPr>
              <a:t>Wer Wind 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ä</a:t>
            </a:r>
            <a:r>
              <a:rPr b="1" lang="pl-PL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, wird Sturm ernte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281304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77800" y="4451400"/>
            <a:ext cx="1997280" cy="1168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224320" y="1600200"/>
            <a:ext cx="288612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580000" y="4181400"/>
            <a:ext cx="2305080" cy="1774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067280" y="378936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Times New Roman"/>
              </a:rPr>
              <a:t>Jedem Tierchen sein Pl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ä</a:t>
            </a:r>
            <a:r>
              <a:rPr b="1" lang="pl-PL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sierche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09600" y="413532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88840" y="1600200"/>
            <a:ext cx="317340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927760" y="1685880"/>
            <a:ext cx="1477800" cy="2017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435640" y="378936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03640" y="220500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365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Voller Bauch studiert nicht ger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3960" y="1600200"/>
            <a:ext cx="3505320" cy="4530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57840" y="17971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938920" y="4135320"/>
            <a:ext cx="1455480" cy="1800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96000" y="1413000"/>
            <a:ext cx="194472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6920" y="1413000"/>
            <a:ext cx="151308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8876600">
            <a:off x="4429080" y="36442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an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Times New Roman"/>
              </a:rPr>
              <a:t>Der Apfel f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ä</a:t>
            </a:r>
            <a:r>
              <a:rPr b="1" lang="pl-PL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llt nicht weit vom Stamm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0040" y="2492280"/>
            <a:ext cx="2446560" cy="2449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524560" y="2492280"/>
            <a:ext cx="250992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Der Tod zahlt alle Schulde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01920" y="1700280"/>
            <a:ext cx="2198520" cy="3889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98920" y="1600200"/>
            <a:ext cx="2536920" cy="2189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51280" y="3213000"/>
            <a:ext cx="1336680" cy="486000"/>
          </a:xfrm>
          <a:custGeom>
            <a:avLst/>
            <a:gdLst>
              <a:gd name="textAreaLeft" fmla="*/ 208800 w 1336680"/>
              <a:gd name="textAreaRight" fmla="*/ 1169640 w 133668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016600" y="3941640"/>
            <a:ext cx="3300480" cy="2189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796000" y="1268280"/>
            <a:ext cx="1944720" cy="26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579640" y="1197000"/>
            <a:ext cx="2087640" cy="26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1:23:42Z</dcterms:created>
  <dc:creator>Administrator</dc:creator>
  <dc:description/>
  <dc:language>en-US</dc:language>
  <cp:lastModifiedBy>Administrator</cp:lastModifiedBy>
  <dcterms:modified xsi:type="dcterms:W3CDTF">2003-03-21T10:54:02Z</dcterms:modified>
  <cp:revision>13</cp:revision>
  <dc:subject/>
  <dc:title>Slajd 1</dc:title>
</cp:coreProperties>
</file>