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6.png" ContentType="image/png"/>
  <Override PartName="/ppt/media/image12.jpeg" ContentType="image/jpeg"/>
  <Override PartName="/ppt/media/image5.png" ContentType="image/png"/>
  <Override PartName="/ppt/media/image2.gif" ContentType="image/gif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70E-49A5-49CB-B2D1-A51A283A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5A3-0969-4103-A5A1-5EAAFE5D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53A-3ACA-404D-8755-869CBC02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E6C-6FC1-4C38-B66C-605099D8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73E5-A31C-4BB6-A238-733443FF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D40C-CBCC-4266-84A0-F673744D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EEB0-03AA-4263-89C2-36A895F9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0BC1-C68F-41A9-82D3-3915037D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E2F3-735B-4295-BDB8-11A0C58C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55CF-E39B-4DE5-8D26-CECF9DD4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C0F3-D071-4572-B2DF-CC4AFE4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E1C-7A63-4E48-AD33-6FB8132D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A9C7-D178-42F1-BFEE-20CF94A1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AC33-9852-4C50-A783-BCAFC89B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9E63-ED95-4F5C-B01C-939046F8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6785-0D72-4F92-BD94-B176BD00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2949-E6C8-44C1-926C-FD2D3E1F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FF5-94DA-460D-97A1-75909CEA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AAF-F007-4BE9-9DB8-6992DD26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EC3-85A8-41FC-ACC0-50DB4C70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EF2-A119-4605-85AC-A91315E8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DD9-4F22-4A13-906A-669CC279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CE0-D9A1-4C8A-8A81-67F912F7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438-035E-4CEE-81E1-72442368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D5DE-0356-4A2D-8150-FD8052B4F8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D088-A96D-49CE-A13A-19E2652D3C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904680"/>
            <a:ext cx="7620120" cy="39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00"/>
                </a:solidFill>
                <a:latin typeface="Monotype Corsiva"/>
              </a:rPr>
              <a:t>Mejoza-</a:t>
            </a:r>
            <a:br>
              <a:rPr sz="9600"/>
            </a:br>
            <a:r>
              <a:rPr b="1" lang="en-US" sz="8000" spc="-1" strike="noStrike">
                <a:solidFill>
                  <a:srgbClr val="ffffff"/>
                </a:solidFill>
                <a:latin typeface="Monotype Corsiva"/>
              </a:rPr>
              <a:t>podział komórkowy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5791320"/>
            <a:ext cx="5638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Opracowała: Anna So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750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Metafaza II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6" name="mejoza4" descr=""/>
          <p:cNvPicPr/>
          <p:nvPr/>
        </p:nvPicPr>
        <p:blipFill>
          <a:blip r:embed="rId1"/>
          <a:srcRect l="0" t="13400" r="0" b="8467"/>
          <a:stretch/>
        </p:blipFill>
        <p:spPr>
          <a:xfrm>
            <a:off x="1981080" y="1447920"/>
            <a:ext cx="5334120" cy="266688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1676520" y="4495680"/>
            <a:ext cx="647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wstają dwa jądra potomne,                     w których chromosomy ( każdy złożony z dwóch chromatyd)  ustawiają się  w płaszczyźnie równikowe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467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nafaza II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9" name="mejoza5" descr=""/>
          <p:cNvPicPr/>
          <p:nvPr/>
        </p:nvPicPr>
        <p:blipFill>
          <a:blip r:embed="rId1"/>
          <a:srcRect l="0" t="22104" r="0" b="0"/>
          <a:stretch/>
        </p:blipFill>
        <p:spPr>
          <a:xfrm>
            <a:off x="1371600" y="1447920"/>
            <a:ext cx="6400800" cy="268596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1905120" y="44197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44197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łókienka kurcząc się odciągają do biegunów połówki chromosomów (chromatyd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95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Telofaza II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3" name="mejoza6" descr=""/>
          <p:cNvPicPr/>
          <p:nvPr/>
        </p:nvPicPr>
        <p:blipFill>
          <a:blip r:embed="rId1"/>
          <a:srcRect l="0" t="8879" r="0" b="0"/>
          <a:stretch/>
        </p:blipFill>
        <p:spPr>
          <a:xfrm>
            <a:off x="1905120" y="1295280"/>
            <a:ext cx="5181480" cy="312912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2133720" y="464832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Powstają cztery jądra potomne                         o zredukowanej do połowy liczbie chromosomów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ytokineza- czyli podział cytoplazm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28195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2362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7528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19810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 podziale cytoplazmy otrzymujemy cztery komórki płciowe-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am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mejoza6" descr=""/>
          <p:cNvPicPr/>
          <p:nvPr/>
        </p:nvPicPr>
        <p:blipFill>
          <a:blip r:embed="rId1"/>
          <a:srcRect l="0" t="8879" r="0" b="0"/>
          <a:stretch/>
        </p:blipFill>
        <p:spPr>
          <a:xfrm>
            <a:off x="1828800" y="3505320"/>
            <a:ext cx="5562720" cy="276048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516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chemat przebiegu mejoz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2" name="kommac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1295280" cy="128736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0" y="990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omórka macierzy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mejoza11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1295280" cy="127620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15" name="mejoza2" descr=""/>
          <p:cNvPicPr/>
          <p:nvPr/>
        </p:nvPicPr>
        <p:blipFill>
          <a:blip r:embed="rId3"/>
          <a:stretch/>
        </p:blipFill>
        <p:spPr>
          <a:xfrm>
            <a:off x="2971800" y="1676520"/>
            <a:ext cx="1447920" cy="129528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16" name="mejoza3" descr=""/>
          <p:cNvPicPr/>
          <p:nvPr/>
        </p:nvPicPr>
        <p:blipFill>
          <a:blip r:embed="rId4"/>
          <a:srcRect l="9049" t="15254" r="4106" b="6784"/>
          <a:stretch/>
        </p:blipFill>
        <p:spPr>
          <a:xfrm>
            <a:off x="4495680" y="1676520"/>
            <a:ext cx="1371600" cy="129528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17" name="mejoza4" descr=""/>
          <p:cNvPicPr/>
          <p:nvPr/>
        </p:nvPicPr>
        <p:blipFill>
          <a:blip r:embed="rId5"/>
          <a:srcRect l="0" t="13400" r="0" b="8467"/>
          <a:stretch/>
        </p:blipFill>
        <p:spPr>
          <a:xfrm>
            <a:off x="5943600" y="1676520"/>
            <a:ext cx="2666880" cy="129528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18" name="mejoza5" descr=""/>
          <p:cNvPicPr/>
          <p:nvPr/>
        </p:nvPicPr>
        <p:blipFill>
          <a:blip r:embed="rId6"/>
          <a:srcRect l="0" t="22104" r="0" b="0"/>
          <a:stretch/>
        </p:blipFill>
        <p:spPr>
          <a:xfrm>
            <a:off x="5181480" y="3505320"/>
            <a:ext cx="3429000" cy="137160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19" name="mejoza6" descr=""/>
          <p:cNvPicPr/>
          <p:nvPr/>
        </p:nvPicPr>
        <p:blipFill>
          <a:blip r:embed="rId7"/>
          <a:srcRect l="0" t="8879" r="0" b="0"/>
          <a:stretch/>
        </p:blipFill>
        <p:spPr>
          <a:xfrm flipH="1" rot="10800000">
            <a:off x="1600200" y="3505320"/>
            <a:ext cx="3505320" cy="137160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8686800" y="25909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114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faza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1143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tafaza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1143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afaza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1143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tafaza 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afaza 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4952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lofaza 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99440"/>
            <a:ext cx="815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Black"/>
              </a:rPr>
              <a:t>Kolejne stadia mejozy w komórkach lilii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8" name="mej11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2362320" cy="143964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pic>
        <p:nvPicPr>
          <p:cNvPr id="229" name="mej22" descr=""/>
          <p:cNvPicPr/>
          <p:nvPr/>
        </p:nvPicPr>
        <p:blipFill>
          <a:blip r:embed="rId2"/>
          <a:stretch/>
        </p:blipFill>
        <p:spPr>
          <a:xfrm>
            <a:off x="3276720" y="990720"/>
            <a:ext cx="2333520" cy="144756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pic>
        <p:nvPicPr>
          <p:cNvPr id="230" name="mej33" descr=""/>
          <p:cNvPicPr/>
          <p:nvPr/>
        </p:nvPicPr>
        <p:blipFill>
          <a:blip r:embed="rId3"/>
          <a:stretch/>
        </p:blipFill>
        <p:spPr>
          <a:xfrm>
            <a:off x="5638680" y="990720"/>
            <a:ext cx="2438640" cy="144756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pic>
        <p:nvPicPr>
          <p:cNvPr id="231" name="mej44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362320" cy="144792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pic>
        <p:nvPicPr>
          <p:cNvPr id="232" name="mej55" descr=""/>
          <p:cNvPicPr/>
          <p:nvPr/>
        </p:nvPicPr>
        <p:blipFill>
          <a:blip r:embed="rId5"/>
          <a:stretch/>
        </p:blipFill>
        <p:spPr>
          <a:xfrm>
            <a:off x="3352680" y="2971800"/>
            <a:ext cx="2362320" cy="144792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pic>
        <p:nvPicPr>
          <p:cNvPr id="233" name="mej66" descr=""/>
          <p:cNvPicPr/>
          <p:nvPr/>
        </p:nvPicPr>
        <p:blipFill>
          <a:blip r:embed="rId6"/>
          <a:stretch/>
        </p:blipFill>
        <p:spPr>
          <a:xfrm>
            <a:off x="914400" y="2971800"/>
            <a:ext cx="2438280" cy="144792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pic>
        <p:nvPicPr>
          <p:cNvPr id="234" name="mej77" descr=""/>
          <p:cNvPicPr/>
          <p:nvPr/>
        </p:nvPicPr>
        <p:blipFill>
          <a:blip r:embed="rId7"/>
          <a:stretch/>
        </p:blipFill>
        <p:spPr>
          <a:xfrm>
            <a:off x="1143000" y="4952880"/>
            <a:ext cx="2781360" cy="145728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pic>
        <p:nvPicPr>
          <p:cNvPr id="235" name="mej88" descr=""/>
          <p:cNvPicPr/>
          <p:nvPr/>
        </p:nvPicPr>
        <p:blipFill>
          <a:blip r:embed="rId8"/>
          <a:stretch/>
        </p:blipFill>
        <p:spPr>
          <a:xfrm>
            <a:off x="3962520" y="4952880"/>
            <a:ext cx="2590560" cy="144792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8077320" y="1752480"/>
            <a:ext cx="761760" cy="2057400"/>
          </a:xfrm>
          <a:custGeom>
            <a:avLst/>
            <a:gdLst>
              <a:gd name="textAreaLeft" fmla="*/ 101880 w 761760"/>
              <a:gd name="textAreaRight" fmla="*/ 659880 w 76176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3809880"/>
            <a:ext cx="609480" cy="2286000"/>
          </a:xfrm>
          <a:custGeom>
            <a:avLst/>
            <a:gdLst>
              <a:gd name="textAreaLeft" fmla="*/ 81360 w 609480"/>
              <a:gd name="textAreaRight" fmla="*/ 528120 w 609480"/>
              <a:gd name="textAreaTop" fmla="*/ 399960 h 2286000"/>
              <a:gd name="textAreaBottom" fmla="*/ 16574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33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438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Środkowa profaza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2438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óźna profaza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tafaza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4495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afaza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4495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faza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495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tafaza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6477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afaza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lofaza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29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Porównanie mitozy i mejozy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16765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990720" y="1295280"/>
          <a:ext cx="7162560" cy="5078520"/>
        </p:xfrm>
        <a:graphic>
          <a:graphicData uri="http://schemas.openxmlformats.org/drawingml/2006/table">
            <a:tbl>
              <a:tblPr/>
              <a:tblGrid>
                <a:gridCol w="3581280"/>
                <a:gridCol w="358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itoz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ejoz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en podzia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wa podział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2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 komórki macierzystej powstają dwie potom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 komórki macierzystej powstają cztery potom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rzymana ilość chromosomów w jądr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ość chromosomów zredukowana do połow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2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yczy komórek somatycznych organizm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yczy komórek rozrodczych(game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577440"/>
            <a:ext cx="6934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wa etapy podziału komórki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895480"/>
            <a:ext cx="2666880" cy="129564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0481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odział komór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358128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81480" y="3200400"/>
            <a:ext cx="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358128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1981080"/>
            <a:ext cx="3505320" cy="12193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038480"/>
            <a:ext cx="3505320" cy="12193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1981080"/>
            <a:ext cx="3047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odział jądra komórkowego-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itoza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lub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ejo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4267080"/>
            <a:ext cx="297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odział cytoplazmy-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ytokin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94520"/>
            <a:ext cx="3809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Replikacja D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828800"/>
            <a:ext cx="228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d podziałem komórki w jądrze zachodzi replikacja DNA, czyli podwojenie jego il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replikacja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257720" cy="581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38320"/>
            <a:ext cx="6858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Budowa chromosom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6" name="chromosom1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186876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19920" y="480060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wie chromatydy po podwojeniu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24280" y="51814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3048120"/>
            <a:ext cx="1828800" cy="152280"/>
          </a:xfrm>
          <a:prstGeom prst="leftArrow">
            <a:avLst>
              <a:gd name="adj1" fmla="val 50000"/>
              <a:gd name="adj2" fmla="val 30023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2819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węż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1371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1371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4792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rótkie ramię chromoso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35268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352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5867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43434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1981080"/>
            <a:ext cx="838080" cy="381240"/>
          </a:xfrm>
          <a:prstGeom prst="leftArrow">
            <a:avLst>
              <a:gd name="adj1" fmla="val 50000"/>
              <a:gd name="adj2" fmla="val 5495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962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ługie ramię chromoso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191120" y="5562000"/>
            <a:ext cx="1676160" cy="228600"/>
          </a:xfrm>
          <a:prstGeom prst="leftArrow">
            <a:avLst>
              <a:gd name="adj1" fmla="val 50000"/>
              <a:gd name="adj2" fmla="val 18330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 Black"/>
              </a:rPr>
              <a:t>Cechy</a:t>
            </a: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cc3300"/>
                </a:solidFill>
                <a:latin typeface="Arial Black"/>
              </a:rPr>
              <a:t>mejozy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1828800"/>
            <a:ext cx="693396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Z jednej komórki w trakcie dwóch następujących po sobie podziałów-nazwanych mejozą I  i mejozą II otrzymujemy cztery komórki potom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 u="sng">
                <a:solidFill>
                  <a:srgbClr val="ffffff"/>
                </a:solidFill>
                <a:uFillTx/>
                <a:latin typeface="Times New Roman"/>
              </a:rPr>
              <a:t>Ilość chromosomów zredukowana jest   do połow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 wyniku mejozy powstają komórki rozrodcze </a:t>
            </a:r>
            <a:r>
              <a:rPr b="1" lang="pl-PL" sz="3200" spc="-1" strike="noStrike">
                <a:solidFill>
                  <a:srgbClr val="cc3300"/>
                </a:solidFill>
                <a:latin typeface="Times New Roman"/>
              </a:rPr>
              <a:t>(game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607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Etapy mejozy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1676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2286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Metafaza 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1240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3124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nafaza 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9625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etafaza 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4800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afaza 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563868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elofaza 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16002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faza 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Profaza I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mejoza11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985920" cy="426744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5334120" y="2057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1981080"/>
            <a:ext cx="304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Chromosomy w jądrze uwidaczniają się i   podobne do siebie (homologiczne) układają się w pary, zanika otoczka jądro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Metafaza I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8" name="mejoza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054680" cy="411480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5410080" y="1447920"/>
            <a:ext cx="3124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98d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omosomów homologicznych ustawiają się         w płaszczyźnie równikowej jądra komórkowego. Powstaje wrzeciono podziałow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467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nafaza I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1" name="mejoza3" descr=""/>
          <p:cNvPicPr/>
          <p:nvPr/>
        </p:nvPicPr>
        <p:blipFill>
          <a:blip r:embed="rId1"/>
          <a:srcRect l="9049" t="15254" r="4106" b="6784"/>
          <a:stretch/>
        </p:blipFill>
        <p:spPr>
          <a:xfrm>
            <a:off x="914400" y="2133720"/>
            <a:ext cx="3657600" cy="350496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5257800" y="1828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182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190512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łókna wrzeciona kurczą się                         i odciągają do biegunów całe chromoso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1:19:49Z</dcterms:created>
  <dc:creator>n/n</dc:creator>
  <dc:description/>
  <dc:language>en-US</dc:language>
  <cp:lastModifiedBy>n/n</cp:lastModifiedBy>
  <dcterms:modified xsi:type="dcterms:W3CDTF">2003-02-01T16:55:15Z</dcterms:modified>
  <cp:revision>22</cp:revision>
  <dc:subject/>
  <dc:title>PODZIAŁY KOMÓRKOWE</dc:title>
</cp:coreProperties>
</file>