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649-F602-4554-894D-D5561FBF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0BC-9039-4D93-8373-2C0025A2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800-BCF7-4C8C-96DF-3002C0B0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4AD-2C99-47A0-BFF5-53982D83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A94-93DE-4272-BB7C-5006116C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06A-958F-404E-B7E2-304C0BC8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FD6-68E9-4E48-AAEC-1FD17796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A73-43D6-408E-8A90-E9E06AB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6CC-BD80-4A8B-B8F8-817E7CA3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257-E214-4932-902E-489949C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651-52E7-4B23-ABDA-AC6D7F93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287-8306-4A9D-9523-39598EAB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fef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F624-6C60-4F75-BCAD-33FC9E081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fef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IMNASTYKA KOREKCYJ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CZNE SKRZYWIENIA KRĘGOSŁUPA-SKOLI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d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fef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oczne skrzywienie kręgosłupa - skolioz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Jedną z przyczyn zaburzeń postawy prawidłowej u Ciebie lub Twojego dziecka może być skolioza. Można ją wykazać u 4-14% dzieci w wieku 10-14 lat. 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Zaczniemy od pytania CO TO JEST SKOLIOZA ?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roszę sobie wyobrazić kręgosłup, jako elastyczny pręt wygięty w kształcie wydłużonej litery „ S ”, na który z każdej strony działają równomiernie rozkładające się siły. Górny „ brzuszek” naszej litery, to piersiowy odcinek kręgosłupa. Dolny przypada na odcinek lędzwiowy.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kolioza polega na wygięciu kręgosłupa ( naszej litery „ S ”), w pewnym odcinku, na bok. Jeżeli wygniemy bocznie taki pręt, to jednocześnie nastąpi rotacja poszczególnych segmentów (kręgów) względem siebie. Pod wpływem działania siły ciężkości i nierównomiernego obciążenia kręgów oraz ich wzrostu, zostają one uszkodzone. Wszystkie te zmiany zachodzą stopniowo: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1. Jeżeli kąt skrzywienia nie przekroczy 30 stopni, to zmiany dotyczą układu mięśniowo-więzadłowego, bez zniekształceń kostnych. Jest to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kolioza pierwszego stopni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2. Jeżeli kąt skrzywienia wynosi od 31-60 stopni, to mówimy o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koliozie drugiego stopni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. Występują zmiany w kręgach i krążkach międzykręgowych Kręgosłup, jak już wiemy, ulega zrotowaniu, co objawia się garbem żebrowym (lub wałem mięśniowym przy skrzywieniach w odcinku lędźwiowym)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3. Jeżeli kąt skrzywienia przekroczy 60 stopni, to zmiany są już zaawansowane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ystępują znaczne zniszczenia kręgosłupa, deformacje żeber i miednicy.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prowadzimy jeszcze pojęcia: </a:t>
            </a:r>
            <a:br>
              <a:rPr sz="1200"/>
            </a:br>
            <a:br>
              <a:rPr sz="1200"/>
            </a:br>
            <a:r>
              <a:rPr b="1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ygięcie pierwotne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- czyli to które tworzy się jako pierwsze Poniżej i powyżej miejsca wygięcia powstają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ygięcia wtórne 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(wyrównawcze).Są one skierowane wypukłością w stronę przeciwną niż wygięcie pierwotne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DLACZEGO TAK SIĘ DZIEJE ?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-w 80-90% przypadków nie wiadomo-nazywamy je idiopatycznymi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-w 10-20% wynika ze zmian wrodzonych lub zmian w układzie kostnym, mięśniowym, nerwowym, asymetrii kończyn itp. 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 KTÓRYM ODCINKU KRĘGOSŁUPA WYSTĘPUJE NAJCZĘŚCIEJ ?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-25-58% -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erwotne skrzywienia piersiow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. Powodują duże zniekształcenia sylwetki.W tym odcinku obracający się wokół osi kręgosłup, pociąga za sobą żebra, które są do niego przyczepione. Tworzy się garb żebrowy. W dużych skrzywieniach deformacja klatki spowoduje choroby serca i płuc. Skrzywieni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305920" y="51814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7493"/>
                </a:moveTo>
                <a:lnTo>
                  <a:pt x="8377" y="7493"/>
                </a:lnTo>
                <a:lnTo>
                  <a:pt x="8377" y="12828"/>
                </a:lnTo>
                <a:cubicBezTo>
                  <a:pt x="8377" y="13751"/>
                  <a:pt x="9178" y="14482"/>
                  <a:pt x="10214" y="14482"/>
                </a:cubicBezTo>
                <a:lnTo>
                  <a:pt x="11876" y="14482"/>
                </a:lnTo>
                <a:cubicBezTo>
                  <a:pt x="12912" y="14482"/>
                  <a:pt x="13712" y="13751"/>
                  <a:pt x="13712" y="12828"/>
                </a:cubicBezTo>
                <a:lnTo>
                  <a:pt x="13712" y="7493"/>
                </a:lnTo>
                <a:lnTo>
                  <a:pt x="11876" y="7493"/>
                </a:lnTo>
                <a:lnTo>
                  <a:pt x="15384" y="3985"/>
                </a:lnTo>
                <a:lnTo>
                  <a:pt x="19056" y="7493"/>
                </a:lnTo>
                <a:lnTo>
                  <a:pt x="17220" y="7493"/>
                </a:lnTo>
                <a:lnTo>
                  <a:pt x="17220" y="12828"/>
                </a:lnTo>
                <a:cubicBezTo>
                  <a:pt x="17220" y="15596"/>
                  <a:pt x="14644" y="18155"/>
                  <a:pt x="11876" y="18155"/>
                </a:cubicBezTo>
                <a:lnTo>
                  <a:pt x="10214" y="18155"/>
                </a:lnTo>
                <a:cubicBezTo>
                  <a:pt x="7446" y="18155"/>
                  <a:pt x="4869" y="15596"/>
                  <a:pt x="486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d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fef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stępuje bardzo szybko. 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rwotne skrzywienie lędźwiowe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- pojawia się najczęściej u dziewczynek po 13 roku życia. Mało szpeci sylwetkę, jednak daje duże dolegliwości bólowe po 20 roku życia .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rwotne skrzywienie piersiowo-lędzwiowe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rwotne skrzywienie szyjne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 –1-5%. Bardzo szpeci sylwetkę.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wójne pierwotne skrzywienie w odcinku piersiowym i lędźwiowy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KIEDY WYSTĘPUJE SKOLIOZA ?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1. Poniżej 3 roku życia- wczesno-dziecięca. Obejmuje głównie odcinek piersiowy u dziewczynek. Są dwie możliwości. Albo ustąpią samoistnie przed 4 rokiem życia, albo będą bardzo szybko postępować.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2. 4-11 rok życia.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3. Młodociane 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Zmiany i deformacje są tym cięższe, im wcześniej wystąpi skrzywienie .Dzieje się tak dlatego, że kręgosłup rośnie w nieprawidłowej pozycji. Nie ma dla niego miejsca, co pogłębia już istniejące skrzywienie 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JAK ROZPOZNAĆ SKOLIOZĘ ?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Im wcześniej zauważysz odchylenia od normy w postawie ciała Twojego dziecka, tym skuteczniejsze będzie leczenie. Spróbujcie sami za pomocą przedstawionych tu rysunków ocenić stan sylwetki dziecka. Aby prawidłowo to zrobić, dziecko musi być rozebrane. </a:t>
            </a:r>
            <a:br>
              <a:rPr sz="1000"/>
            </a:br>
            <a:br>
              <a:rPr sz="1000"/>
            </a:br>
            <a:br>
              <a:rPr sz="1200"/>
            </a:br>
            <a:br>
              <a:rPr sz="12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ehab_9" descr=""/>
          <p:cNvPicPr/>
          <p:nvPr/>
        </p:nvPicPr>
        <p:blipFill>
          <a:blip r:embed="rId1"/>
          <a:stretch/>
        </p:blipFill>
        <p:spPr>
          <a:xfrm flipH="1">
            <a:off x="3352680" y="3228840"/>
            <a:ext cx="914400" cy="362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4370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7493"/>
                </a:moveTo>
                <a:lnTo>
                  <a:pt x="8129" y="7493"/>
                </a:lnTo>
                <a:lnTo>
                  <a:pt x="8129" y="12828"/>
                </a:lnTo>
                <a:cubicBezTo>
                  <a:pt x="8129" y="13751"/>
                  <a:pt x="8930" y="14482"/>
                  <a:pt x="9965" y="14482"/>
                </a:cubicBezTo>
                <a:lnTo>
                  <a:pt x="11628" y="14482"/>
                </a:lnTo>
                <a:cubicBezTo>
                  <a:pt x="12663" y="14482"/>
                  <a:pt x="13464" y="13751"/>
                  <a:pt x="13464" y="12828"/>
                </a:cubicBezTo>
                <a:lnTo>
                  <a:pt x="13464" y="7493"/>
                </a:lnTo>
                <a:lnTo>
                  <a:pt x="11628" y="7493"/>
                </a:lnTo>
                <a:lnTo>
                  <a:pt x="15135" y="3985"/>
                </a:lnTo>
                <a:lnTo>
                  <a:pt x="18808" y="7493"/>
                </a:lnTo>
                <a:lnTo>
                  <a:pt x="16972" y="7493"/>
                </a:lnTo>
                <a:lnTo>
                  <a:pt x="16972" y="12828"/>
                </a:lnTo>
                <a:cubicBezTo>
                  <a:pt x="16972" y="15596"/>
                  <a:pt x="14396" y="18155"/>
                  <a:pt x="11628" y="18155"/>
                </a:cubicBezTo>
                <a:lnTo>
                  <a:pt x="9965" y="18155"/>
                </a:lnTo>
                <a:cubicBezTo>
                  <a:pt x="7198" y="18155"/>
                  <a:pt x="4621" y="15596"/>
                  <a:pt x="4621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d"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fef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7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ehab_8" descr=""/>
          <p:cNvPicPr/>
          <p:nvPr/>
        </p:nvPicPr>
        <p:blipFill>
          <a:blip r:embed="rId1"/>
          <a:stretch/>
        </p:blipFill>
        <p:spPr>
          <a:xfrm>
            <a:off x="3200400" y="3533760"/>
            <a:ext cx="952560" cy="332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37960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nadmierne pochylenie głowy do przodu jest prosta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zaokrąglone plecy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zbyt wypięty brzuch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rehab_7" descr=""/>
          <p:cNvPicPr/>
          <p:nvPr/>
        </p:nvPicPr>
        <p:blipFill>
          <a:blip r:embed="rId2"/>
          <a:stretch/>
        </p:blipFill>
        <p:spPr>
          <a:xfrm>
            <a:off x="2895480" y="0"/>
            <a:ext cx="1714680" cy="284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479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001000" y="5791320"/>
            <a:ext cx="1143000" cy="1042920"/>
          </a:xfrm>
          <a:custGeom>
            <a:avLst/>
            <a:gdLst>
              <a:gd name="textAreaLeft" fmla="*/ 67320 w 1143000"/>
              <a:gd name="textAreaRight" fmla="*/ 1075680 w 1143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3672" h="21600">
                <a:moveTo>
                  <a:pt x="0" y="0"/>
                </a:moveTo>
                <a:lnTo>
                  <a:pt x="23672" y="0"/>
                </a:lnTo>
                <a:lnTo>
                  <a:pt x="23672" y="21600"/>
                </a:lnTo>
                <a:lnTo>
                  <a:pt x="0" y="21600"/>
                </a:lnTo>
                <a:close/>
              </a:path>
              <a:path fill="lightenLess" w="23672" h="21600">
                <a:moveTo>
                  <a:pt x="0" y="0"/>
                </a:moveTo>
                <a:lnTo>
                  <a:pt x="23672" y="0"/>
                </a:lnTo>
                <a:lnTo>
                  <a:pt x="22272" y="1400"/>
                </a:lnTo>
                <a:lnTo>
                  <a:pt x="1400" y="1400"/>
                </a:lnTo>
                <a:close/>
              </a:path>
              <a:path fill="darken" w="23672" h="21600">
                <a:moveTo>
                  <a:pt x="23672" y="0"/>
                </a:moveTo>
                <a:lnTo>
                  <a:pt x="23672" y="21600"/>
                </a:lnTo>
                <a:lnTo>
                  <a:pt x="22272" y="20200"/>
                </a:lnTo>
                <a:lnTo>
                  <a:pt x="22272" y="1400"/>
                </a:lnTo>
                <a:close/>
              </a:path>
              <a:path fill="darkenLess" w="23672" h="21600">
                <a:moveTo>
                  <a:pt x="23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72" y="20200"/>
                </a:lnTo>
                <a:close/>
              </a:path>
              <a:path fill="lighten" w="23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72" h="21600">
                <a:moveTo>
                  <a:pt x="4830" y="7493"/>
                </a:moveTo>
                <a:lnTo>
                  <a:pt x="8337" y="7493"/>
                </a:lnTo>
                <a:lnTo>
                  <a:pt x="8337" y="12828"/>
                </a:lnTo>
                <a:cubicBezTo>
                  <a:pt x="8337" y="13751"/>
                  <a:pt x="9138" y="14482"/>
                  <a:pt x="10174" y="14482"/>
                </a:cubicBezTo>
                <a:lnTo>
                  <a:pt x="11836" y="14482"/>
                </a:lnTo>
                <a:cubicBezTo>
                  <a:pt x="12872" y="14482"/>
                  <a:pt x="13673" y="13751"/>
                  <a:pt x="13673" y="12828"/>
                </a:cubicBezTo>
                <a:lnTo>
                  <a:pt x="13673" y="7493"/>
                </a:lnTo>
                <a:lnTo>
                  <a:pt x="11836" y="7493"/>
                </a:lnTo>
                <a:lnTo>
                  <a:pt x="15344" y="3985"/>
                </a:lnTo>
                <a:lnTo>
                  <a:pt x="19017" y="7493"/>
                </a:lnTo>
                <a:lnTo>
                  <a:pt x="17180" y="7493"/>
                </a:lnTo>
                <a:lnTo>
                  <a:pt x="17180" y="12828"/>
                </a:lnTo>
                <a:cubicBezTo>
                  <a:pt x="17180" y="15596"/>
                  <a:pt x="14604" y="18155"/>
                  <a:pt x="11836" y="18155"/>
                </a:cubicBezTo>
                <a:lnTo>
                  <a:pt x="10174" y="18155"/>
                </a:lnTo>
                <a:cubicBezTo>
                  <a:pt x="7406" y="18155"/>
                  <a:pt x="4830" y="15596"/>
                  <a:pt x="483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d"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fef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3352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nierówna wysokość barkó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ab_2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179388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1687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ehab_1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152424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d"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fef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562120"/>
            <a:ext cx="9144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linia kręgosłupa nie jest pros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czy nie ma różnicy w wysokości między prawą, a lewą stroną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ehab_4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1447920" cy="3353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1484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rehab_3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1600200" cy="3733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d"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fef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762120"/>
            <a:ext cx="91440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ASADY POSTĘPOWANIA REHABILITACYJNEGO W WYPADKU ROZPOZNANEJ SKOLIOZY PIERWSZEGO STOPNIA LUB POSTAWY SKOLIOTYCZNE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zauważysz u Swojego dziecka jakikolwiek z podanych powyżej objawów, nie ignoruj tego. Skonsultuj to ze Swoim lekarzem rodzinnym. Pamiętaj, że Twoje dziecko wciąż się rozwija, a wraz z nim i Jego wada. Jeżeli okaże się, że kąt skrzywienia pierwotnego ( już Wiesz, co to znaczy ), nie przekracza 30 stopni, proponujemy zestaw ćwiczeń, które możesz wykonywać z pociechą w domu. Pamiętaj jednak, że nie zwalnia Cię to od konsultacji z rehabilitantem. Każdy z Nas jest indywidualistą i Jego choroba także jest indywidualna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FILAKTYKA W SKOLIOZ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łówny wpływ na stan zdrowia Waszego dziecka wywiera dom i szkoła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leży stwierdzić, że jedną z przyczyn jest nieuświadomienie rodziców, co do stosowania odpowiednich metod i środków wychowawczych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ie nośmy dziecka tylko na jednej i tej samej ręce, nie prowadźmy Go zawsze za jedną ( tę samą ) rękę. Na skutek naszych, jakże często stosowanych nawyków kręgosłup dziecka ulega lekkiemu skrzywieniu, co w efekcie może prowadzić do skoliozy. Nie zezwalajmy na zbyt długie zabawy tą samą ręką, czy jazdę na hulajnodze (odpychanie tylko jedną nogą )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rugim problemem będą warunki szkolne, w których przeciętnie nasze dziecko przebywa od 3 do 6 godzin ( plus nauka w domu ). W tej wymuszonej, siedzącej pozycji, zaabsorbowane pracą umysłową, dziecko przybiera charakterystyczną sylwetkę szkolną. Prócz jednostronnie siedzącego trybu życia, są jeszcze inne przyczyny, które zwiększają niebezpieczeństwo powstawania skoliozy. Należą tu: nieodpowiedni wymiar mebli- zbyt wysokie lub zbyt niskie siedzenie i pulpit, zła proporcja między wysokością jednego i drugiego, niewłaściwy sposób siedzenia ( złe krzesło ), zbyt wąski blat, na którym nie mieści się w czasie pisania druga ręka i, w odpowiedniej odległości oraz z poprawnej strony lampka. Istotna jest również torba, w której nosi ono codziennie książki do szkoły ( najlepiej plecak ) oraz łóżko, w którym śpi około 10 godzin dzienni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ą to wszystko, rzeczy i sprawy na które musimy zwrócić szczególnie baczne spojrzenie chcąc nie dopuścić do wystąpienia 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szego Dziecka skoliozy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d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17:59:08Z</dcterms:created>
  <dc:creator>Piotr Semak</dc:creator>
  <dc:description/>
  <dc:language>en-US</dc:language>
  <cp:lastModifiedBy>...</cp:lastModifiedBy>
  <dcterms:modified xsi:type="dcterms:W3CDTF">2002-12-06T18:13:13Z</dcterms:modified>
  <cp:revision>9</cp:revision>
  <dc:subject/>
  <dc:title>Prezentacja programu PowerPoint</dc:title>
</cp:coreProperties>
</file>