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F4A-8E36-472D-ADDD-FE35853F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34E-4F8D-4799-9958-AB89459A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294-9651-4FF2-ADC9-C31C1C9F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106-CB09-4A36-9FA0-74D1950E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AAE-8F45-43DF-9596-EDECB03A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87C-E27B-4CD5-ABB2-7F0DA0EA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3C1-B142-41C6-9F16-3E998ACA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DEE-2F7B-4D29-AE68-C7CA8288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E86-0B86-471A-8088-8CCE66E6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F51-A285-40CE-B7DE-A8CFDA6C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86E-0B59-44A4-8F49-703DDCA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4CF-06F7-47E7-B3C6-1930BADC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20AC-5260-4977-B876-5AE95F278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hyperlink" Target="file:///CYFRY%20RZYMSKIE.xls" TargetMode="Externa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YFRY%20RZYMSKIE.xls" TargetMode="External"/><Relationship Id="rId2" Type="http://schemas.openxmlformats.org/officeDocument/2006/relationships/hyperlink" Target="file:///CYFRY%20RZYMSKIE.xls" TargetMode="External"/><Relationship Id="rId3" Type="http://schemas.openxmlformats.org/officeDocument/2006/relationships/slide" Target="slide15.xml"/><Relationship Id="rId4" Type="http://schemas.openxmlformats.org/officeDocument/2006/relationships/hyperlink" Target="file:///CYFRY%20RZYMSKIE.xls" TargetMode="External"/><Relationship Id="rId5" Type="http://schemas.openxmlformats.org/officeDocument/2006/relationships/hyperlink" Target="file:///CYFRY%20RZYMSKIE.xls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ROŻNE SPOSOBY ZAPISYWANIA LICZB.       ZAPIS RZYMSK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3526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TERIAŁY POMOCNICZE                                                      DO LEKCJI MATEMATYKI W KLASI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ALIZACJA SCIEŻKI EDUKACYJNEJ CZYT. I MED.               JAK NA PRZESTRZENI DZIEJÓW KSZTAŁTOWAŁO SIĘ POJĘCIE CYFRY I LICZB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2360" y="5709960"/>
            <a:ext cx="25322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OPRACOWAŁ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ALINA U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YSTEM RZYMS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905120"/>
            <a:ext cx="70866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zymski sposób zapisywania liczb      powstał ponad 2000 lat temu.         Używano go powszechnie jeszcze w XV w. Obecnie cyfry rzymskie stosuje się rzadko. Służą one głównie do zapisu dat, oznaczania numerów pięter, rzędów          w kinie, rozdziałów w książkach, i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YFRY RZYMSK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481040"/>
            <a:ext cx="6705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W systemie rzymskim używa się następujących cyf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76520" y="2743200"/>
          <a:ext cx="5868720" cy="131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586872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523880" y="4189320"/>
            <a:ext cx="62485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Pozostałe liczby uzyskujemy          jako układ tych zna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30492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ZYKŁA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00200" y="1523880"/>
          <a:ext cx="5869080" cy="48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586908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30492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ĆWICZ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675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Zapisz poniższe liczby tak jak Rzymia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09680" y="2514600"/>
          <a:ext cx="5859720" cy="224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585972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743200" y="5562720"/>
            <a:ext cx="3505320" cy="838080"/>
          </a:xfrm>
          <a:custGeom>
            <a:avLst/>
            <a:gdLst>
              <a:gd name="textAreaLeft" fmla="*/ 54000 w 3505320"/>
              <a:gd name="textAreaRight" fmla="*/ 3451320 w 3505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90314" h="21600">
                <a:moveTo>
                  <a:pt x="0" y="0"/>
                </a:moveTo>
                <a:lnTo>
                  <a:pt x="90314" y="0"/>
                </a:lnTo>
                <a:lnTo>
                  <a:pt x="90314" y="21600"/>
                </a:lnTo>
                <a:lnTo>
                  <a:pt x="0" y="21600"/>
                </a:lnTo>
                <a:close/>
              </a:path>
              <a:path fill="lightenLess" w="90314" h="21600">
                <a:moveTo>
                  <a:pt x="0" y="0"/>
                </a:moveTo>
                <a:lnTo>
                  <a:pt x="90314" y="0"/>
                </a:lnTo>
                <a:lnTo>
                  <a:pt x="88914" y="1400"/>
                </a:lnTo>
                <a:lnTo>
                  <a:pt x="1400" y="1400"/>
                </a:lnTo>
                <a:close/>
              </a:path>
              <a:path fill="darken" w="90314" h="21600">
                <a:moveTo>
                  <a:pt x="90314" y="0"/>
                </a:moveTo>
                <a:lnTo>
                  <a:pt x="90314" y="21600"/>
                </a:lnTo>
                <a:lnTo>
                  <a:pt x="88914" y="20200"/>
                </a:lnTo>
                <a:lnTo>
                  <a:pt x="88914" y="1400"/>
                </a:lnTo>
                <a:close/>
              </a:path>
              <a:path fill="darkenLess" w="90314" h="21600">
                <a:moveTo>
                  <a:pt x="90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914" y="20200"/>
                </a:lnTo>
                <a:close/>
              </a:path>
              <a:path fill="lighten" w="90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SPRAWD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0492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IEKAWOST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225440"/>
            <a:ext cx="853416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ystemu rzymskiego nie stosuje się już w obliczeniach. System ten nie jest systemem pozycyjnym                               i nie można w nim stosować działań pisemnych. Konserwatywna Europa długo jednak upierała się                  przy stosowaniu niewygodnych cyfr rzymskich,                 odrzucając „diabelskie znaki Arabów - dług szatana”.   Samego Sylwestra II - papieża, który wcześniej, w X wieku, jako mnich Gerbert, wprowadził do kultury europejskiej      cyfry arabskie, oskarżano o zaprzedanie duszy diabłu.  Doszło nawet do tego, że w 1648 r. ówczesny papież      uznał za konieczne otwarcie grobu Sylwestra II,                           aby sprawdzić czy nie mieszkają tam diabł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RZYŻÓW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828800"/>
            <a:ext cx="7620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48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Z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1980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I E W I Ę 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24375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 W A   T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S I Ą C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47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 I E D E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S 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35196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Ę 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382356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 W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D Z I E Ś C I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2663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O S I E 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A Ś C I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4699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P I Ę Ć D Z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E S I Ą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51570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 Z I E W I Ę Ć S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599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 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56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513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M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97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D 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428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885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X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342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X V I 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79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1807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C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02604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60271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 A S Ł O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 Z Y M I A N I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9320" y="685800"/>
            <a:ext cx="7162560" cy="1295280"/>
          </a:xfrm>
          <a:custGeom>
            <a:avLst/>
            <a:gdLst>
              <a:gd name="textAreaLeft" fmla="*/ 83880 w 7162560"/>
              <a:gd name="textAreaRight" fmla="*/ 7078680 w 71625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119415" h="21600">
                <a:moveTo>
                  <a:pt x="0" y="0"/>
                </a:moveTo>
                <a:lnTo>
                  <a:pt x="119415" y="0"/>
                </a:lnTo>
                <a:lnTo>
                  <a:pt x="119415" y="21600"/>
                </a:lnTo>
                <a:lnTo>
                  <a:pt x="0" y="21600"/>
                </a:lnTo>
                <a:close/>
              </a:path>
              <a:path fill="lightenLess" w="119415" h="21600">
                <a:moveTo>
                  <a:pt x="0" y="0"/>
                </a:moveTo>
                <a:lnTo>
                  <a:pt x="119415" y="0"/>
                </a:lnTo>
                <a:lnTo>
                  <a:pt x="118015" y="1400"/>
                </a:lnTo>
                <a:lnTo>
                  <a:pt x="1400" y="1400"/>
                </a:lnTo>
                <a:close/>
              </a:path>
              <a:path fill="darken" w="119415" h="21600">
                <a:moveTo>
                  <a:pt x="119415" y="0"/>
                </a:moveTo>
                <a:lnTo>
                  <a:pt x="119415" y="21600"/>
                </a:lnTo>
                <a:lnTo>
                  <a:pt x="118015" y="20200"/>
                </a:lnTo>
                <a:lnTo>
                  <a:pt x="118015" y="1400"/>
                </a:lnTo>
                <a:close/>
              </a:path>
              <a:path fill="darkenLess" w="119415" h="21600">
                <a:moveTo>
                  <a:pt x="119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015" y="20200"/>
                </a:lnTo>
                <a:close/>
              </a:path>
              <a:path fill="lighten" w="119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JAK DAWNIEJ ZAPISYWANO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LICZ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209680"/>
            <a:ext cx="7162560" cy="1295640"/>
          </a:xfrm>
          <a:custGeom>
            <a:avLst/>
            <a:gdLst>
              <a:gd name="textAreaLeft" fmla="*/ 83880 w 7162560"/>
              <a:gd name="textAreaRight" fmla="*/ 7078680 w 716256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119382" h="21600">
                <a:moveTo>
                  <a:pt x="0" y="0"/>
                </a:moveTo>
                <a:lnTo>
                  <a:pt x="119382" y="0"/>
                </a:lnTo>
                <a:lnTo>
                  <a:pt x="119382" y="21600"/>
                </a:lnTo>
                <a:lnTo>
                  <a:pt x="0" y="21600"/>
                </a:lnTo>
                <a:close/>
              </a:path>
              <a:path fill="lightenLess" w="119382" h="21600">
                <a:moveTo>
                  <a:pt x="0" y="0"/>
                </a:moveTo>
                <a:lnTo>
                  <a:pt x="119382" y="0"/>
                </a:lnTo>
                <a:lnTo>
                  <a:pt x="117982" y="1400"/>
                </a:lnTo>
                <a:lnTo>
                  <a:pt x="1400" y="1400"/>
                </a:lnTo>
                <a:close/>
              </a:path>
              <a:path fill="darken" w="119382" h="21600">
                <a:moveTo>
                  <a:pt x="119382" y="0"/>
                </a:moveTo>
                <a:lnTo>
                  <a:pt x="119382" y="21600"/>
                </a:lnTo>
                <a:lnTo>
                  <a:pt x="117982" y="20200"/>
                </a:lnTo>
                <a:lnTo>
                  <a:pt x="117982" y="1400"/>
                </a:lnTo>
                <a:close/>
              </a:path>
              <a:path fill="darkenLess" w="119382" h="21600">
                <a:moveTo>
                  <a:pt x="119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982" y="20200"/>
                </a:lnTo>
                <a:close/>
              </a:path>
              <a:path fill="lighten" w="119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JAK RZYMIANIE ZAPISYWALI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LICZ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1219320" y="3733920"/>
            <a:ext cx="7162560" cy="1295280"/>
          </a:xfrm>
          <a:custGeom>
            <a:avLst/>
            <a:gdLst>
              <a:gd name="textAreaLeft" fmla="*/ 83880 w 7162560"/>
              <a:gd name="textAreaRight" fmla="*/ 7078680 w 71625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119415" h="21600">
                <a:moveTo>
                  <a:pt x="0" y="0"/>
                </a:moveTo>
                <a:lnTo>
                  <a:pt x="119415" y="0"/>
                </a:lnTo>
                <a:lnTo>
                  <a:pt x="119415" y="21600"/>
                </a:lnTo>
                <a:lnTo>
                  <a:pt x="0" y="21600"/>
                </a:lnTo>
                <a:close/>
              </a:path>
              <a:path fill="lightenLess" w="119415" h="21600">
                <a:moveTo>
                  <a:pt x="0" y="0"/>
                </a:moveTo>
                <a:lnTo>
                  <a:pt x="119415" y="0"/>
                </a:lnTo>
                <a:lnTo>
                  <a:pt x="118015" y="1400"/>
                </a:lnTo>
                <a:lnTo>
                  <a:pt x="1400" y="1400"/>
                </a:lnTo>
                <a:close/>
              </a:path>
              <a:path fill="darken" w="119415" h="21600">
                <a:moveTo>
                  <a:pt x="119415" y="0"/>
                </a:moveTo>
                <a:lnTo>
                  <a:pt x="119415" y="21600"/>
                </a:lnTo>
                <a:lnTo>
                  <a:pt x="118015" y="20200"/>
                </a:lnTo>
                <a:lnTo>
                  <a:pt x="118015" y="1400"/>
                </a:lnTo>
                <a:close/>
              </a:path>
              <a:path fill="darkenLess" w="119415" h="21600">
                <a:moveTo>
                  <a:pt x="119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015" y="20200"/>
                </a:lnTo>
                <a:close/>
              </a:path>
              <a:path fill="lighten" w="119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KRZYŻÓWKA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LICZB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486400"/>
            <a:ext cx="7162560" cy="914400"/>
          </a:xfrm>
          <a:custGeom>
            <a:avLst/>
            <a:gdLst>
              <a:gd name="textAreaLeft" fmla="*/ 59040 w 7162560"/>
              <a:gd name="textAreaRight" fmla="*/ 7103520 w 7162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69136" h="21600">
                <a:moveTo>
                  <a:pt x="0" y="0"/>
                </a:moveTo>
                <a:lnTo>
                  <a:pt x="169136" y="0"/>
                </a:lnTo>
                <a:lnTo>
                  <a:pt x="169136" y="21600"/>
                </a:lnTo>
                <a:lnTo>
                  <a:pt x="0" y="21600"/>
                </a:lnTo>
                <a:close/>
              </a:path>
              <a:path fill="lightenLess" w="169136" h="21600">
                <a:moveTo>
                  <a:pt x="0" y="0"/>
                </a:moveTo>
                <a:lnTo>
                  <a:pt x="169136" y="0"/>
                </a:lnTo>
                <a:lnTo>
                  <a:pt x="167736" y="1400"/>
                </a:lnTo>
                <a:lnTo>
                  <a:pt x="1400" y="1400"/>
                </a:lnTo>
                <a:close/>
              </a:path>
              <a:path fill="darken" w="169136" h="21600">
                <a:moveTo>
                  <a:pt x="169136" y="0"/>
                </a:moveTo>
                <a:lnTo>
                  <a:pt x="169136" y="21600"/>
                </a:lnTo>
                <a:lnTo>
                  <a:pt x="167736" y="20200"/>
                </a:lnTo>
                <a:lnTo>
                  <a:pt x="167736" y="1400"/>
                </a:lnTo>
                <a:close/>
              </a:path>
              <a:path fill="darkenLess" w="169136" h="21600">
                <a:moveTo>
                  <a:pt x="1691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7736" y="20200"/>
                </a:lnTo>
                <a:close/>
              </a:path>
              <a:path fill="lighten" w="1691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KONI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Człowiek potrafił liczyć już w epoce pierwotnej. Nie znał jeszcze cyfr.                                 Wyniki swych obliczeń zapisywał na kościach, nacinając na nich kreski.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Za najstarszy zapis liczby uważa się      55 nacięć na kości wilka sprzed 30 tysięcy lat. Kość tę znaleziono w Czechach w 1937r. i jest na niej widocznych 55 karbów, zgrupowanych po 5, stąd domyślamy się, że chodzi tu o liczb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18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ZŁOWIEK PIERWOT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244000" y="5958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0" y="5958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ZOPOTAMIA - pismo klin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50532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ierwsze cyfry wymyślili Sumerowi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                      (mieszkańcy Mezopotamii) około 2000 r. p.n.e.             Zapisywali je stawiając znaki - kliny na glinianych tabliczkach. 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ajpierw wymyślili sposób zapisywania liczb,                              a dopiero potem sposób zapisu słów. 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Znaków cyfrowych było niewiele.                                        Liczby babilońskie są właściwie kombinacjami                     trzech znaków: jedynki, dziesiątki i set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5796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Np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0" y="4572000"/>
          <a:ext cx="46483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572000"/>
                    <a:ext cx="46483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286000" y="5562720"/>
          <a:ext cx="462924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562720"/>
                    <a:ext cx="46292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30492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GIPT - hieroglif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350532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0666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awie tak samo stare są cyfry egipskie.                Egipcjanie do pisania używali znaków,                   które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nazywamy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hieroglifami.                                    Wśród nich istniały specjalne znaki dla cyf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5257800"/>
          <a:ext cx="60962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257800"/>
                    <a:ext cx="6096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23880" y="3124080"/>
          <a:ext cx="609624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60962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30492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RECJA i RZY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010680"/>
            <a:ext cx="51055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teńczycy do pisania liczb     używali początkowych liter         słów - liczebników (rys. ob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posobem jońskim                   liczby wyrażano literami alfabetu, pisząc nad nimi kreskę                 np. alfa - 1, beta - 2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2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ecy i Rzymianie (o nich później) do zapisu liczb               użyli liter swoich alfabetów. Grecy stosowali dwa sposoby zapisywania liczb: joński i ateńs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8184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3166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57084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952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3045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4677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5009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540936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7902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1711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52480" y="2895480"/>
          <a:ext cx="609840" cy="36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95480"/>
                    <a:ext cx="60984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693432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YFRY ARABSK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3460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yfry, którymi posługujemy się obecnie,                  pochodzą od Hindusów. Na teren Europy przenieśli je Arabowie, dlatego nazywamy je cyframi arabskimi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8288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1523880" cy="167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62320" y="2847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ierwszy podał je sławny matematyk włoski          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Leonardo Fibonacci z Pizy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                      w 1202 r. w „Księdze abaku”.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2680" y="4694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64516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169880"/>
            <a:ext cx="784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ierwsze słowa tej księgi brzmiał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Jest dziesięć znaków hinduskich.                                      Oto one: 9, 8, 7, 6, 5, 4, 3, 2, 1.                                            Za pomocą tych znaków i znaku 0,                                        który po arabsku zwie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ę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„sifr”,                                       można zapisać jaką kto chce liczbę”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304920" y="5715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olska była jednym z pierwszych krajów,                       które wprowadziły u siebie cyfry hinduskie. Było to w XIV w. Oczywiście hindusko - arabskie cyfry                                   nie od razu przybrały swą obecną postać.                        Zapis cyfr różnił się od współczesnego jeszcze w XV 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2743200"/>
          <a:ext cx="47242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4724280" cy="35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181480" y="2809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CYFRY HINDUSKIE, III w. p.n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4279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CYFRY HINDUSKIE, IX 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1058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CYFRY HINDUSKIE, XI 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47995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CYFRY HINDUSKIE, XVI 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3330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EUROPA, XV 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59425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EUROPA, XVI 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244000" y="5958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7315200" y="5958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ZYKŁADY CYFR UŻYWANYCH WSPÓŁCZEŚ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8288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4724280"/>
          <a:ext cx="4952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724280"/>
                    <a:ext cx="4952880" cy="68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04920" y="5715000"/>
          <a:ext cx="4952880" cy="7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715000"/>
                    <a:ext cx="4952880" cy="7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04920" y="3733920"/>
          <a:ext cx="49528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733920"/>
                    <a:ext cx="4952880" cy="68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04920" y="2743200"/>
          <a:ext cx="49528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2743200"/>
                    <a:ext cx="4952880" cy="68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343400" y="13716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3716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752480"/>
          <a:ext cx="49528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1752480"/>
                    <a:ext cx="4952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486400" y="17056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CYFRY ARABSKIE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8851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CYFRY CHIŃS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4723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CYFRY W JĘZYKU TAMILSKIM (Płd. Indie, Indochi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57139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CYFRY W PIŚMIE BRAILLE’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27421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CYFRY ARABSKIE    Kraje Bliskiego Wscho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1" action="ppaction://hlinksldjump"/>
          </p:cNvPr>
          <p:cNvSpPr/>
          <p:nvPr/>
        </p:nvSpPr>
        <p:spPr>
          <a:xfrm>
            <a:off x="8244000" y="5958000"/>
            <a:ext cx="900000" cy="900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8:48:25Z</dcterms:created>
  <dc:creator>UA</dc:creator>
  <dc:description/>
  <dc:language>en-US</dc:language>
  <cp:lastModifiedBy>UA</cp:lastModifiedBy>
  <dcterms:modified xsi:type="dcterms:W3CDTF">2002-12-05T06:42:05Z</dcterms:modified>
  <cp:revision>35</cp:revision>
  <dc:subject/>
  <dc:title>      Człowiek potrafił liczyć już w epoce pierwotnej. Wyniki swych obliczeń zapisywał na kościach, nacinając na nich kreski.    Za najstarszy zapis liczby uważa się 55 nacięć na kości wilka sprzed 30 tysięcy lat. Kość tę znaleziono w Czechach w 1937r. i jest na niej widocznych 55 karbów, zgrupowanych po 5, stąd domyślamy się, ze chodzi tu o liczbę.</dc:title>
</cp:coreProperties>
</file>