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73E-713C-44CB-9E74-49438293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978-ED2D-40D0-8572-0203A2C0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D58-F3E2-448E-BA9B-0FE93883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FEE0-15F0-489D-B5CA-9C82FD68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C6FC-1B03-431F-8846-4B8C16D0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C8CB-B89A-4608-B02E-73549492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AA54-9D70-4EE9-86A7-961A8E4A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9DF1-D9BA-4D85-A6F2-FCD44D21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A23D-7B4E-46CC-8539-0C6F7077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57B9-63D5-4D7A-AA4B-EA7DE651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32B0-B1CB-47FC-8EA3-0A4663A9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FE7A-8A18-44A1-9B47-11AA8281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CA68-7A5F-4619-BA82-BAF645A0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167C-809B-4DFD-B0D6-F1073E05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A0A3-CEED-4130-A12F-E3514CD5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C6EB-CBE3-4897-81A9-8B7C1918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56A3-6ADB-4A9E-AAA6-B5A4D410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2B9-BCFC-424B-A636-7A6EDE7E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D67-D820-475F-9E96-25B20FA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078-1446-4FD4-8F3D-1D5DED4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69A-CED9-4DF4-88C1-2206AC35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2FE-EAA1-4CC4-A069-AC5E3673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8B10-8E65-446D-A249-54E73B86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F88-6242-41EE-9803-5E61FBD4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C81D-BCE9-4A6E-927C-1A5A10FD8198}" type="slidenum"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383ad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7419-D8EF-43B4-AED4-83D5D915B3FF}" type="slidenum">
              <a:rPr b="0" lang="pl-PL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2.xml"/><Relationship Id="rId4" Type="http://schemas.openxmlformats.org/officeDocument/2006/relationships/image" Target="../media/image1.png"/><Relationship Id="rId5" Type="http://schemas.openxmlformats.org/officeDocument/2006/relationships/slide" Target="slide13.xml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1.png"/><Relationship Id="rId4" Type="http://schemas.openxmlformats.org/officeDocument/2006/relationships/slide" Target="slide4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image" Target="../media/image1.png"/><Relationship Id="rId8" Type="http://schemas.openxmlformats.org/officeDocument/2006/relationships/slide" Target="slide6.xml"/><Relationship Id="rId9" Type="http://schemas.openxmlformats.org/officeDocument/2006/relationships/image" Target="../media/image1.png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10.xml"/><Relationship Id="rId14" Type="http://schemas.openxmlformats.org/officeDocument/2006/relationships/image" Target="../media/image1.png"/><Relationship Id="rId15" Type="http://schemas.openxmlformats.org/officeDocument/2006/relationships/slide" Target="slide11.xml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eg.pracowni1.doc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635280" y="1125360"/>
            <a:ext cx="1219320" cy="116064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143000" y="3733920"/>
            <a:ext cx="7696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2852640"/>
            <a:ext cx="85341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66"/>
                </a:solidFill>
                <a:latin typeface="Times New Roman"/>
              </a:rPr>
              <a:t>Zajęcia korekcyjno – wyrównawcze w klasie II – III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pl-PL" sz="2200" spc="-1" strike="noStrike">
                <a:solidFill>
                  <a:srgbClr val="000066"/>
                </a:solidFill>
                <a:latin typeface="Times New Roman"/>
              </a:rPr>
              <a:t>w Zespole Szkół Specjalnych.</a:t>
            </a:r>
            <a:endParaRPr b="0" lang="en-US" sz="2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49528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Times New Roman"/>
              </a:rPr>
              <a:t>TEMAT:  Łączenie sylab, układanie podpisów pod obrazkami </a:t>
            </a:r>
            <a:br>
              <a:rPr sz="2400"/>
            </a:br>
            <a:r>
              <a:rPr b="1" lang="pl-PL" sz="2400" spc="-1" strike="noStrike">
                <a:solidFill>
                  <a:srgbClr val="000066"/>
                </a:solidFill>
                <a:latin typeface="Times New Roman"/>
              </a:rPr>
              <a:t>            przy pomocy programu edukacyjnego „Foka Sylabinka”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86400" y="61722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imes New Roman"/>
              </a:rPr>
              <a:t>Autor: mgr Ewa Listwan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Przejdź przez labirynt, układając z sylab podpis do obrazka za pomocą klawiszy kursorów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9056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6095880" cy="33350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533520" y="624852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PODSUMOWANIE I OCENA ZAJĘĆ</a:t>
            </a:r>
            <a:br>
              <a:rPr sz="3200"/>
            </a:b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09e4a"/>
                </a:solidFill>
                <a:uFillTx/>
                <a:latin typeface="Arial"/>
                <a:hlinkClick r:id="rId3" action="ppaction://hlinksldjump"/>
              </a:rPr>
              <a:t>WYJŚCIE Z PROGRAMU</a:t>
            </a:r>
            <a:br>
              <a:rPr sz="3200"/>
            </a:br>
            <a:r>
              <a:rPr b="0" lang="pl-PL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09e4a"/>
                </a:solidFill>
                <a:uFillTx/>
                <a:latin typeface="Arial"/>
                <a:hlinkClick r:id="rId5" action="ppaction://hlinksldjump"/>
              </a:rPr>
              <a:t>ZAMKNIĘCIE OKNA PROGRAMU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82412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43000" y="624852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Naciśnij klawisz funkcyjny - </a:t>
            </a:r>
            <a:r>
              <a:rPr b="0" i="1" lang="pl-PL" sz="3200" spc="-1" strike="noStrike">
                <a:solidFill>
                  <a:srgbClr val="ff9900"/>
                </a:solidFill>
                <a:latin typeface="Arial"/>
              </a:rPr>
              <a:t>Esc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85800" y="594360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3432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rcRect l="15789" t="44932" r="6893" b="20680"/>
          <a:stretch/>
        </p:blipFill>
        <p:spPr>
          <a:xfrm>
            <a:off x="1143000" y="3200400"/>
            <a:ext cx="6553080" cy="21844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flipV="1">
            <a:off x="1371600" y="2742840"/>
            <a:ext cx="609480" cy="6094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17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Za pomocą przycisku sterującego – </a:t>
            </a:r>
            <a:r>
              <a:rPr b="0" i="1" lang="pl-PL" sz="32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pl-PL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zamknij program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33520" y="624852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2412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rcRect l="0" t="0" r="0" b="24157"/>
          <a:stretch/>
        </p:blipFill>
        <p:spPr>
          <a:xfrm>
            <a:off x="2819520" y="1981080"/>
            <a:ext cx="5495760" cy="31244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 flipH="1">
            <a:off x="7315200" y="2133720"/>
            <a:ext cx="914400" cy="1828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10080" y="4038480"/>
            <a:ext cx="199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raz kliknąć lewym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przyciskiem myszki.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80520" y="5638680"/>
            <a:ext cx="2133720" cy="0"/>
          </a:xfrm>
          <a:prstGeom prst="line">
            <a:avLst/>
          </a:prstGeom>
          <a:ln w="63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" y="5257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 u="sng">
                <a:solidFill>
                  <a:srgbClr val="c09e4a"/>
                </a:solidFill>
                <a:uFillTx/>
                <a:latin typeface="Times New Roman"/>
                <a:hlinkClick r:id="rId3" action="ppaction://hlinksldjump"/>
              </a:rPr>
              <a:t>STRONA GŁÓWNA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Znajdź na pulpicie folder programu </a:t>
            </a:r>
            <a:br>
              <a:rPr sz="3200"/>
            </a:b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„Foka Sylabinka”.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rcRect l="0" t="0" r="30930" b="25146"/>
          <a:stretch/>
        </p:blipFill>
        <p:spPr>
          <a:xfrm>
            <a:off x="1676520" y="2133720"/>
            <a:ext cx="5410080" cy="44082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286000" y="57913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518148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Folder programu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Foka sylabinka”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3520" y="594360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Kliknij dwukrotnie lewym przyciskiem myszki w folder programu.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9576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rcRect l="0" t="0" r="30930" b="25146"/>
          <a:stretch/>
        </p:blipFill>
        <p:spPr>
          <a:xfrm>
            <a:off x="1676520" y="2057400"/>
            <a:ext cx="5257800" cy="43419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2362320" y="571500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0" y="44956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438280" y="41911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4876920"/>
            <a:ext cx="2286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Dwukrotnie kliknąć lewym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przyciskiem myszki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594360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Za pomocą przycisku sterującego</a:t>
            </a:r>
            <a:br>
              <a:rPr sz="3200"/>
            </a:br>
            <a:r>
              <a:rPr b="0" i="1" lang="pl-PL" sz="3200" spc="-1" strike="noStrike">
                <a:solidFill>
                  <a:srgbClr val="ff9900"/>
                </a:solidFill>
                <a:latin typeface="Arial"/>
              </a:rPr>
              <a:t>maksymalizuj </a:t>
            </a: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powiększ okno programu klikając lewym przyciskiem myszki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33520" y="579132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652760" y="9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65744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rcRect l="0" t="0" r="11905" b="11402"/>
          <a:stretch/>
        </p:blipFill>
        <p:spPr>
          <a:xfrm>
            <a:off x="1981080" y="2209680"/>
            <a:ext cx="5829480" cy="43912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 flipH="1">
            <a:off x="6095880" y="2819520"/>
            <a:ext cx="914400" cy="18288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95680" y="4724280"/>
            <a:ext cx="171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Raz kliknąć lewym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przyciskiem myszki.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Odszukaj ikonę </a:t>
            </a:r>
            <a:r>
              <a:rPr b="0" i="1" lang="pl-PL" sz="3200" spc="-1" strike="noStrike">
                <a:solidFill>
                  <a:srgbClr val="ff9900"/>
                </a:solidFill>
                <a:latin typeface="Arial"/>
              </a:rPr>
              <a:t>GRA </a:t>
            </a: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i dwukrotnie kliknij lewym przyciskiem myszki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82412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rcRect l="0" t="0" r="0" b="24157"/>
          <a:stretch/>
        </p:blipFill>
        <p:spPr>
          <a:xfrm>
            <a:off x="1676520" y="2209680"/>
            <a:ext cx="6181560" cy="35146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33520" y="548640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91520" y="4876920"/>
            <a:ext cx="10285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91520" y="4267080"/>
            <a:ext cx="13716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imes New Roman"/>
              </a:rPr>
              <a:t>Ikona programu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Uruchom program poprzez naciśnięcie klawisza </a:t>
            </a:r>
            <a:r>
              <a:rPr b="0" i="1" lang="pl-PL" sz="32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0" i="1" lang="pl-PL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na klawiaturze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4324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rcRect l="15789" t="44932" r="6893" b="20680"/>
          <a:stretch/>
        </p:blipFill>
        <p:spPr>
          <a:xfrm>
            <a:off x="1295280" y="3130560"/>
            <a:ext cx="6324840" cy="21081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 flipH="1">
            <a:off x="5133600" y="2362320"/>
            <a:ext cx="428760" cy="1600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548640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Poruszaj się w programie za pomocą klawiszy kursorów</a:t>
            </a:r>
            <a:endParaRPr b="0" lang="en-US" sz="32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rcRect l="15789" t="44932" r="6893" b="20680"/>
          <a:stretch/>
        </p:blipFill>
        <p:spPr>
          <a:xfrm>
            <a:off x="1295280" y="3130560"/>
            <a:ext cx="6324840" cy="21081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 flipH="1">
            <a:off x="5105520" y="4800600"/>
            <a:ext cx="838080" cy="10666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33520" y="548640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c09e4a"/>
                </a:solidFill>
                <a:uFillTx/>
                <a:latin typeface="Arial"/>
                <a:hlinkClick r:id="rId2" action="ppaction://hlinksldjump"/>
              </a:rPr>
              <a:t>CELE</a:t>
            </a: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c09e4a"/>
                </a:solidFill>
                <a:uFillTx/>
                <a:latin typeface="Arial"/>
                <a:hlinkClick r:id="rId4" action="ppaction://hlinksldjump"/>
              </a:rPr>
              <a:t>METODY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c09e4a"/>
                </a:solidFill>
                <a:uFillTx/>
                <a:latin typeface="Arial"/>
                <a:hlinkClick r:id="rId6" action="ppaction://hlinksldjump"/>
              </a:rPr>
              <a:t>ŚRODKI DYDAKTYCZN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c09e4a"/>
                </a:solidFill>
                <a:uFillTx/>
                <a:latin typeface="Arial"/>
                <a:hlinkClick r:id="rId8" action="ppaction://hlinksldjump"/>
              </a:rPr>
              <a:t>ZAJĘCIA WSTĘPN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c09e4a"/>
                </a:solidFill>
                <a:uFillTx/>
                <a:latin typeface="Arial"/>
                <a:hlinkClick r:id="rId10" action="ppaction://hlinksldjump"/>
              </a:rPr>
              <a:t>PRZEBIEG ZAJĘĆ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pl-PL" sz="2800" spc="-1" strike="noStrike" u="sng">
                <a:solidFill>
                  <a:srgbClr val="c09e4a"/>
                </a:solidFill>
                <a:uFillTx/>
                <a:latin typeface="Arial"/>
                <a:hlinkClick r:id="rId11" action="ppaction://hlinksldjump"/>
              </a:rPr>
              <a:t>I STOPIEŃ TRUDNOŚC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0" lang="pl-PL" sz="2800" spc="-1" strike="noStrike" u="sng">
                <a:solidFill>
                  <a:srgbClr val="c09e4a"/>
                </a:solidFill>
                <a:uFillTx/>
                <a:latin typeface="Arial"/>
                <a:hlinkClick r:id="rId12" action="ppaction://hlinksldjump"/>
              </a:rPr>
              <a:t>II STOPIEŃ TRUDNOŚCI</a:t>
            </a:r>
            <a:br>
              <a:rPr sz="2800"/>
            </a:br>
            <a:r>
              <a:rPr b="0" lang="pl-PL" sz="2800" spc="-1" strike="noStrike" u="sng">
                <a:solidFill>
                  <a:srgbClr val="c09e4a"/>
                </a:solidFill>
                <a:uFillTx/>
                <a:latin typeface="Arial"/>
                <a:hlinkClick r:id="rId13" action="ppaction://hlinksldjump"/>
              </a:rPr>
              <a:t>III STOPIEŃ TRUDNOŚCI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c09e4a"/>
                </a:solidFill>
                <a:uFillTx/>
                <a:latin typeface="Arial"/>
                <a:hlinkClick r:id="rId15" action="ppaction://hlinksldjump"/>
              </a:rPr>
              <a:t>ZAJĘCIA KOŃCOW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520" y="624852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REWALIDACYJNY</a:t>
            </a:r>
            <a:br>
              <a:rPr sz="2800"/>
            </a:br>
            <a:r>
              <a:rPr b="0" lang="pl-PL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ćwiczenie percepcji wzrokowej, koordynacji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wzrokowo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 -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ruchowej,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 umiejętnoś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ć samodzielnego pokonywania stopni trudności</a:t>
            </a:r>
            <a:br>
              <a:rPr sz="2800"/>
            </a:b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POZNAWCZY</a:t>
            </a:r>
            <a:br>
              <a:rPr sz="2800"/>
            </a:br>
            <a:r>
              <a:rPr b="0" lang="pl-PL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oznanie innego nowego sposobu przyswajania </a:t>
            </a:r>
            <a:br>
              <a:rPr sz="2800"/>
            </a:b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i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utrwalania wiedzy poprzez komputer</a:t>
            </a:r>
            <a:br>
              <a:rPr sz="2800"/>
            </a:br>
            <a:r>
              <a:rPr b="0" lang="pl-PL" sz="28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WYCHOWAWCZY</a:t>
            </a:r>
            <a:br>
              <a:rPr sz="2800"/>
            </a:br>
            <a:r>
              <a:rPr b="0" lang="pl-PL" sz="28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przestrzeganie regulaminu pracowni komputerowej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624852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17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PODAJĄCA</a:t>
            </a:r>
            <a:br>
              <a:rPr sz="3200"/>
            </a:br>
            <a:r>
              <a:rPr b="0" lang="pl-PL" sz="3200" spc="-1" strike="noStrike">
                <a:solidFill>
                  <a:srgbClr val="ff6600"/>
                </a:solidFill>
                <a:latin typeface="Times New Roman"/>
              </a:rPr>
              <a:t>pogadanka, opis </a:t>
            </a:r>
            <a:br>
              <a:rPr sz="3200"/>
            </a:br>
            <a:r>
              <a:rPr b="0" lang="pl-PL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PRAKTYCZNA</a:t>
            </a:r>
            <a:br>
              <a:rPr sz="3200"/>
            </a:br>
            <a:r>
              <a:rPr b="0" lang="pl-PL" sz="3200" spc="-1" strike="noStrike">
                <a:solidFill>
                  <a:srgbClr val="ff6600"/>
                </a:solidFill>
                <a:latin typeface="Times New Roman"/>
              </a:rPr>
              <a:t>pokaz, ćwiczenia praktyczna</a:t>
            </a:r>
            <a:br>
              <a:rPr sz="3200"/>
            </a:br>
            <a:r>
              <a:rPr b="0" lang="pl-PL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PROGRAMOWANA</a:t>
            </a:r>
            <a:br>
              <a:rPr sz="3200"/>
            </a:br>
            <a:r>
              <a:rPr b="0" lang="pl-PL" sz="3200" spc="-1" strike="noStrike">
                <a:solidFill>
                  <a:srgbClr val="ff6600"/>
                </a:solidFill>
                <a:latin typeface="Times New Roman"/>
              </a:rPr>
              <a:t>praca z zestawem komputerowym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33520" y="609588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ZESTAW KOMPUTEROWY</a:t>
            </a:r>
            <a:br>
              <a:rPr sz="3200"/>
            </a:b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PROGRAM EDUKACYJNY </a:t>
            </a:r>
            <a:br>
              <a:rPr sz="3200"/>
            </a:b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„FOKA SYLABINKA”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1828800" y="3505320"/>
            <a:ext cx="5257800" cy="28749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33520" y="624852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REGULAMIN PRACOWNI KOMPUTEROWEJ</a:t>
            </a:r>
            <a:br>
              <a:rPr sz="3200"/>
            </a:br>
            <a:r>
              <a:rPr b="0" lang="pl-PL" sz="32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ZAPOZNANIE UCZNIÓW Z TEMATYKĄ ZAJĘĆ</a:t>
            </a:r>
            <a:br>
              <a:rPr sz="2800"/>
            </a:b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624852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c09e4a"/>
                </a:solidFill>
                <a:uFillTx/>
                <a:latin typeface="Arial"/>
                <a:hlinkClick r:id="rId2" action="ppaction://hlinksldjump"/>
              </a:rPr>
              <a:t>ODSZUKANIE NA PULPICIE FOLDERU PROGRAMU „FOKA SYLABINKA”</a:t>
            </a:r>
            <a:br>
              <a:rPr sz="2800"/>
            </a:br>
            <a:r>
              <a:rPr b="0" lang="pl-PL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OTWORZENIE FOLDERU PROGRAMU</a:t>
            </a:r>
            <a:br>
              <a:rPr sz="2800"/>
            </a:b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MAKSYMALIZACJA OKNA PROGRAMU</a:t>
            </a:r>
            <a:br>
              <a:rPr sz="2800"/>
            </a:b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ODSZUKANIE IKONY </a:t>
            </a:r>
            <a:r>
              <a:rPr b="0" i="1" lang="pl-PL" sz="2800" spc="-1" strike="noStrike">
                <a:solidFill>
                  <a:srgbClr val="000066"/>
                </a:solidFill>
                <a:latin typeface="Arial"/>
              </a:rPr>
              <a:t>GRA</a:t>
            </a: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URUCHOMIENIE PROGRAMU KLAWISZEM </a:t>
            </a:r>
            <a:r>
              <a:rPr b="0" i="1" lang="pl-PL" sz="2800" spc="-1" strike="noStrike">
                <a:solidFill>
                  <a:srgbClr val="000066"/>
                </a:solidFill>
                <a:latin typeface="Arial"/>
              </a:rPr>
              <a:t>ENTER</a:t>
            </a:r>
            <a:br>
              <a:rPr sz="2800"/>
            </a:br>
            <a:r>
              <a:rPr b="0" i="1" lang="pl-PL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481320" indent="-481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66"/>
                </a:solidFill>
                <a:latin typeface="Arial"/>
              </a:rPr>
              <a:t>PORUSZNIE SIĘ PO PROGRAMIE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481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90720" y="655308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Wstaw tylko jedną brakującą sylabę za pomocą klawiszy kursorów – góra (gdy pasuje) – dół (gdy nie pasuje)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600200" y="2743200"/>
            <a:ext cx="5600880" cy="3086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33520" y="624852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66"/>
                </a:solidFill>
                <a:latin typeface="Arial"/>
              </a:rPr>
              <a:t>Wstaw obie sylaby tworzące wyraz za pomocą klawiszy kursorów (góra – dół)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1295280" y="2590920"/>
            <a:ext cx="6096240" cy="33526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3520" y="6248520"/>
            <a:ext cx="685800" cy="0"/>
          </a:xfrm>
          <a:prstGeom prst="line">
            <a:avLst/>
          </a:prstGeom>
          <a:ln w="50760">
            <a:solidFill>
              <a:srgbClr val="66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8:06:02Z</dcterms:created>
  <dc:creator>Zagórski Adam</dc:creator>
  <dc:description/>
  <dc:language>en-US</dc:language>
  <cp:lastModifiedBy>Roland</cp:lastModifiedBy>
  <dcterms:modified xsi:type="dcterms:W3CDTF">2002-12-19T07:18:43Z</dcterms:modified>
  <cp:revision>78</cp:revision>
  <dc:subject/>
  <dc:title>WOJEWÓDZKI OŚRODEK DOSKONALENIA INFORMATYCZNEGO I POLITECHNICZNEGO GRUPA I OPOLE TI W NAUCZANIU ZINTEGROWANYM I SPECJALNYM</dc:title>
</cp:coreProperties>
</file>