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4B2-5B9E-4F26-B6FD-FAFDC149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FF4-3E94-452A-88BD-16C37655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591-806E-4F1F-954A-81AD4A06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8F2-869A-48D0-9752-C1CC90FF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4348-C2C4-438A-8D57-0B00D791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0626-4A65-41FE-A4E1-9D3C9162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B43A-394E-4780-88B2-B73AD7E8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8A7B-9BD6-4B56-8ACC-FFDDD01F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D8E9-3FC8-4D2E-AE76-7D343275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5F1E-2D82-45C0-A7C3-51723FD6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4A26-BAE1-434F-9265-08513F60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ECC-7A51-4432-8AF1-A8596DC0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22C7-6F41-40A2-8196-5421699F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D839-F43A-4923-8A0A-9DAA8282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3128-C01C-49E0-8B37-38F6088E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353B-D989-4AD7-BAD5-F9398F97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1247-0EF5-4A3B-B646-751965CB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0CD-4373-474C-BD2F-C3F479DC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B56-435D-49FC-8C55-8D27BAA5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E96-59C3-4220-9CC7-30823C9B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267-EDE8-4FE5-AE29-6C1A8338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F5E-6EFC-41B2-9AB1-5CD20F71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85E-E13D-4BED-88B8-2F6210D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D5FB-C23C-4AAD-B5D4-DD8CEE20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5ACC-5E58-4F42-8097-C5D8D97980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A020-B883-4C8F-91BE-F6CBE2CF0C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ikipedia.org/wiki/Image:Mitochondrion.png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Showcard Gothic"/>
              </a:rPr>
              <a:t>MITOCHONDRIUM</a:t>
            </a:r>
            <a:br>
              <a:rPr sz="6000"/>
            </a:br>
            <a:r>
              <a:rPr b="0" lang="en-US" sz="2400" spc="-1" strike="noStrike">
                <a:solidFill>
                  <a:srgbClr val="66ff66"/>
                </a:solidFill>
                <a:latin typeface="Showcard Gothic"/>
              </a:rPr>
              <a:t>„Siłownia  komórki”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88000" y="5950080"/>
            <a:ext cx="19447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tor: Zofia Filipia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3360600"/>
            <a:ext cx="4895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Snap ITC"/>
              </a:rPr>
              <a:t>Nazwij oznaczone 1 – 4 elementy!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Mitochondrion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40000" y="1700280"/>
            <a:ext cx="5616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35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36" dur="indefinite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comic"/>
              </a:rPr>
              <a:t>WYSTĘPOWANIE: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02920" y="1988640"/>
            <a:ext cx="6473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 komórkach wszystkich organizmów eukariotyczny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ddychających tlenowo- aerobów</a:t>
            </a:r>
            <a:r>
              <a:rPr b="0" lang="pl-PL" sz="2000" spc="-1" strike="noStrike">
                <a:solidFill>
                  <a:srgbClr val="ffffff"/>
                </a:solidFill>
                <a:latin typeface="Sylfae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comic"/>
              </a:rPr>
              <a:t> </a:t>
            </a:r>
            <a:r>
              <a:rPr b="0" lang="pl-PL" sz="7200" spc="-1" strike="noStrike">
                <a:solidFill>
                  <a:srgbClr val="33ccff"/>
                </a:solidFill>
                <a:latin typeface="comic"/>
              </a:rPr>
              <a:t>wielkoŚĆ: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comic"/>
              </a:rPr>
              <a:t>0,2- 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kilku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µ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ffff"/>
                </a:solidFill>
                <a:latin typeface="Rockwell Extra Bold"/>
              </a:rPr>
              <a:t>Budowa mitochondri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76360" y="2133720"/>
            <a:ext cx="6553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Showcard Gothic"/>
              </a:rPr>
              <a:t>BUDOWA MITOCHONDRIU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605720" y="404640"/>
            <a:ext cx="817560" cy="136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35280" y="1844640"/>
            <a:ext cx="49435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66"/>
                </a:solidFill>
                <a:latin typeface="Sylfaen"/>
              </a:rPr>
              <a:t>FUNKCJE MITOCHONDRIÓW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Transformatory energii, </a:t>
            </a: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tu następuje zamiana energii zmagazynowanej w związkach organicznych na użyteczną biologicznie w postaci ATP (oddychanie tlenowe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Tahoma"/>
              </a:rPr>
              <a:t>Akumulatory energii,</a:t>
            </a:r>
            <a:r>
              <a:rPr b="0" lang="en-US" sz="2400" spc="-1" strike="noStrike">
                <a:solidFill>
                  <a:srgbClr val="ff66ff"/>
                </a:solidFill>
                <a:latin typeface="Tahoma"/>
              </a:rPr>
              <a:t> tu jest magazynowana energia użyteczna biologiczn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Transportery energii,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przemieszczają się w obrębie komórki i dostarczają ATP tam gdzie zachodzi potrzeb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5320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Showcard Gothic"/>
              </a:rPr>
              <a:t>Etapy utleniania i ich lokalizacja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32000" y="1557360"/>
            <a:ext cx="720072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Tahoma"/>
              </a:rPr>
              <a:t>!!!!!!!!!!!!!!!!!!!!!!!!!!!!!!!!!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Wielkość i kształt mitochondriów są zmienne, zależnie od rodzaju i stanu fizjologicznego komórk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Im większa aktywność metaboliczna komórki tym więcej w niej mitochondrió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Mitochondria nie mają stałej lokalizacji w komórce i przemieszczają się w cytoplaźmi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64000" y="2349360"/>
            <a:ext cx="3024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99ccff"/>
                </a:solidFill>
                <a:latin typeface="Tahoma"/>
              </a:rPr>
              <a:t>OBRAZ MIKROSKOPOWY</a:t>
            </a:r>
            <a:br>
              <a:rPr sz="4000"/>
            </a:br>
            <a:r>
              <a:rPr b="0" lang="pl-PL" sz="4000" spc="-1" strike="noStrike">
                <a:solidFill>
                  <a:srgbClr val="99ccff"/>
                </a:solidFill>
                <a:latin typeface="Tahoma"/>
              </a:rPr>
              <a:t>mitochondriu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7054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3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Tahoma"/>
              </a:rPr>
              <a:t>Mitochondrium</a:t>
            </a:r>
            <a:r>
              <a:rPr b="0" lang="pl-PL" sz="2400" spc="-1" strike="noStrike">
                <a:solidFill>
                  <a:srgbClr val="ffff00"/>
                </a:solidFill>
                <a:latin typeface="Tahoma"/>
              </a:rPr>
              <a:t> w sąsiedztwie innych struktur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5300280"/>
            <a:ext cx="6400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2554200" cy="453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3276720" y="2133720"/>
            <a:ext cx="56894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9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9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9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9:33:30Z</dcterms:created>
  <dc:creator>Administrator</dc:creator>
  <dc:description/>
  <dc:language>en-US</dc:language>
  <cp:lastModifiedBy>Administrator</cp:lastModifiedBy>
  <dcterms:modified xsi:type="dcterms:W3CDTF">2002-12-06T10:47:28Z</dcterms:modified>
  <cp:revision>30</cp:revision>
  <dc:subject/>
  <dc:title>owady</dc:title>
</cp:coreProperties>
</file>