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D18-FC45-4EC4-9EB5-1619E172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E7C-D9F5-4CF0-AB62-40C5E57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229-3971-4CA0-9B06-33D841FA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FF5-FA7B-4616-89E9-29156020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D9BC-6F61-468D-8AFC-E74E811F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C86-AEA1-40B8-AA68-18BCC1CC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A7AA-FFAC-4996-B817-F8C0B3FB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EF0C-FB15-485F-9BBF-7D6F7054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3CFE-D868-4634-8D04-E350AF9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A1B4-4C3D-486F-B113-B19D722E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D7DA-D1F7-43D5-8A0E-A5A6195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A6E-A4F3-48F5-A3AD-BA2B24B5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B01C-B00A-424D-9D16-915AE9B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0B8F-2A06-427A-96A2-F72B80C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0612-7878-4C3E-9E42-5E9AA247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9012-229F-47B0-A1ED-81F8EC8B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F32-8688-4FA5-B7AC-5CB7D401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F4D-2244-448A-893F-715776E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8F4-63B9-4D81-85F7-ACA169EB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C7F-AF18-44DB-934C-A801FB85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B24-ACE3-4D0E-A0D1-8180DD80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2BB-8014-49F5-8A70-DBF2AE78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428-8997-4B51-AF6F-C8981DA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FE5-B1B8-4164-BFEB-4B2FEB7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0CA3-65F4-4D4F-89FE-FCE323FE1CB5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5724360" y="4221000"/>
            <a:ext cx="3184560" cy="238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BAD-929D-42B2-8AE4-565E554E76E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24360" y="4221000"/>
            <a:ext cx="3184560" cy="238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baza.opole.p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43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Georgia"/>
              </a:rPr>
              <a:t>„</a:t>
            </a:r>
            <a:r>
              <a:rPr b="1" lang="en-US" sz="3200" spc="-1" strike="noStrike">
                <a:solidFill>
                  <a:srgbClr val="330066"/>
                </a:solidFill>
                <a:latin typeface="Georgia"/>
              </a:rPr>
              <a:t>EDUBAZA”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Georgia"/>
              </a:rPr>
              <a:t>EDUKACYJNA BAZA DANYCH WOJEWÓDZTWA OPOLSKIEG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5157720"/>
            <a:ext cx="49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Stanisław Rożniat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Wojewódzki Ośrodek Doskonaleni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nformatycznego i Politechn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5-315 Opole, ul. Głogowska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2781360"/>
            <a:ext cx="799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Georgia"/>
                <a:hlinkClick r:id="rId1"/>
              </a:rPr>
              <a:t>http://www.edubaza.opole.p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59280" y="3068640"/>
            <a:ext cx="410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Dziękuję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5157720"/>
            <a:ext cx="49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Stanisław Rożniat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Wojewódzki Ośrodek Doskonaleni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nformatycznego i Politechn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5-315 Opole, ul. Głogowska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Wstę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ystem informacji zawodowej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ścieżka doskonalenia zawodowe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możliwości nabywania nowych kwalifikac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ernetowy bank dany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oferta edukacyjna placówek oświatow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cje o rynku pra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cje na temat możliwości przekwalifikow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oferty zatrudnie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ożliwośc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rzeszukiwanie oferty edukacyjnej według różnych kryterió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prowadzanie i aktualizowanie informacji przez szkoł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zamieszczanie ofert praktyk zawodow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zamieszczanie ofert pracy sezonowej i stałe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rum dyskusyjne na temat preorientacji zawodowe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Uczestni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szystkie (72) gminy województwa opolski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875 placów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600 nauczycie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6:42:10Z</dcterms:created>
  <dc:creator>Stanisław Rożniatowski</dc:creator>
  <dc:description/>
  <dc:language>en-US</dc:language>
  <cp:lastModifiedBy>Stanisław Rożniatowski</cp:lastModifiedBy>
  <dcterms:modified xsi:type="dcterms:W3CDTF">2002-09-20T09:17:35Z</dcterms:modified>
  <cp:revision>15</cp:revision>
  <dc:subject/>
  <dc:title>MIĘDZYPRZEDMIOTOWY PROJEKT EDUKACYJNY  „OPOLSZCZYZNA 2000”</dc:title>
</cp:coreProperties>
</file>