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BAF-FF6F-49A7-A8EC-A4B8AA4D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960-7A56-45E6-9CDB-0C4D4691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B57-4665-435B-801E-492D303A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A80-F369-483E-A778-BF5CACB5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64F-8661-43AA-89D7-D8960C36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D6D3-050A-462F-93AA-8AA8D557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DD60-DFD3-4908-98F0-CCEC00CD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0B4-F9C3-438E-ABD3-84CBCD6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1CDE-47D0-463E-A6FA-04FCBC21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6553-A9DD-43DD-B0E9-B106FF04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BAC0-F959-4B1D-913B-BA242A2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7D5-1ACA-47C7-A1F1-B4194F76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C5E5-654C-4D8F-ACEB-8DD31D4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DB1A-2210-4148-B894-BBF3866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25D5-F04B-4077-80E9-95B45AB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1EBB-E02C-4506-8922-0F92E090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DD07-17EF-432D-B7E9-AEE9D47F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9C5-A209-4BF2-AB1D-8AE755B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13A-677C-4775-ABA4-81FBD65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F60-1844-42D0-80BE-DA9C31FA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1A6-1DA6-4DBC-BE6F-BC55B830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D0E-C4A8-4195-AC3E-F9E5457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C99-8DCC-470D-BE66-72CE8AD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5E2-255C-482A-A871-8519E171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wodip.opole.pl/eko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wodip.opole.pl/eko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41F-A117-4B70-ADB4-A2FC08E1487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7AA-C453-47E2-99F5-53AC6E68FC6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508640"/>
            <a:ext cx="2571480" cy="1562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dip.opole.pl/eko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66200"/>
            <a:ext cx="6773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Eko-Opolszczyzna</a:t>
            </a:r>
            <a:br>
              <a:rPr sz="4800"/>
            </a:br>
            <a:r>
              <a:rPr b="1" lang="pl-PL" sz="1600" spc="-1" strike="noStrike">
                <a:solidFill>
                  <a:srgbClr val="330066"/>
                </a:solidFill>
                <a:latin typeface="Arial"/>
              </a:rPr>
              <a:t>MAPA ZAGROŻEŃ EKOLOGICZNYCH OPOLSZCZYZNY. „ŚCIEŻKI EDUKACYJNE W PROGRAMIE WYCHOWAWCZYM SZKOŁY”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yka z Szkole,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uń, 18-21.09.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ona główna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1280" y="981000"/>
          <a:ext cx="820872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8208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czestnicy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szkó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oło 60 nauczyciel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nad 200 ucznió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rona Eko-Niemodl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rona Eko-Strzelce Opolsk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trona Eko-Zawadzk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ziękuję za uwag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205000"/>
            <a:ext cx="4525920" cy="2749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4360" y="587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land Zi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imek@wodip.opol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e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winięcie wiedzy o środowisku naturalnym i jego zagrożeniach w rejonie województwa opolskiego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e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ożliwienie kontaktu zespołu nauczycieli i uczniów z reprezantacjami samorządów lokalnych, służb publicznych i środowiska lokalnego w celu pozyskania danych i wykonania pomiarów zanieczyszczeń wody oraz zebrania informacji o zagrożeni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e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żliwość poznania metod i narzędzi Technologii Informacyjnej, jej roli w nowej szko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czestnicy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społy nauczycieli ze szkół województwa opolskiego. Zespół składał się z nauczycieli przedmiotów: biologii, chemii, geografii i informaty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uczyciele współpracowali z uczniami i szkolnymi kółkami ekologiczny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matyka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zyrod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ierzęta leśne i polne występujące w regionie, rośliny chronione, drzewa – pomniki przyrody, zmiany w atmosferze, zagrożenia dla środowiska, miejsca godne uwagi, inne zabytki przyr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matyka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ograf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łożenie i zróżnicowanie przestrzenne środowiska geograficznego, przemysł i gospodarka, zakłady przemysłowe, produkcja, uprawy rolnicze, ziemie i pola uprawne, lasy, turystyka i wypoczynek, rzeki, jeziora, ośrodki wypoczynkowe, parki krajobraz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matyka projek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Informatyk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trzymywanie stałego kontaktu z WODIiP Opole, z innymi szkołami uczestniczącymi w projekcie oraz z grupą nauczycieli własnej szkoły, współpracujących przy realizacji projektu, zebranie wytworzonych materiałów od uczestników projektu i umieszczenie ich na stronach WW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estaw odczynników chemiczny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zotany – test paskowy – 50 szt. (azotany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zotyny – test paskowy – 50 szt. (azotany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wardość ogólna wody – test paskowy 50 s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pierki wskaźnikowe pH 1-10 (długość 5 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zotan (V) srebra   Ag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M=169,87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was siarkowy (1+1)  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M=98,08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lorek żelaza (III) sześciowod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*6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    M=207,30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-amino-N, N-dimetyloanilina p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M=136,20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9:05:23Z</dcterms:created>
  <dc:creator>Roland</dc:creator>
  <dc:description/>
  <dc:language>en-US</dc:language>
  <cp:lastModifiedBy>Stanisław Rożniatowski</cp:lastModifiedBy>
  <dcterms:modified xsi:type="dcterms:W3CDTF">2002-09-20T09:11:21Z</dcterms:modified>
  <cp:revision>12</cp:revision>
  <dc:subject/>
  <dc:title>Eko-Opolszczyzna</dc:title>
</cp:coreProperties>
</file>