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png" ContentType="image/png"/>
  <Override PartName="/ppt/media/image7.gif" ContentType="image/gif"/>
  <Override PartName="/ppt/media/image5.jpeg" ContentType="image/jpeg"/>
  <Override PartName="/ppt/media/image11.png" ContentType="image/png"/>
  <Override PartName="/ppt/media/image1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68E-F7EF-411C-ADFE-E60E88FC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AA02-F6B5-4367-97A8-3597E194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52D-1B81-4975-9459-ADD73B47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C67-C83F-4C96-8D38-E6510D3F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BFF8-C94C-49F0-8FB6-B5B2F0B3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6CB7-5765-4352-B200-3A0537A4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A50B-935E-4013-9A27-A5751476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66EE-3B17-4351-8E0A-C1CC0FBE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C926-62E2-461A-9F25-599AB5FF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D1A1-9E07-41A8-8D04-F1565441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4CE0-70E4-42B1-BD87-ED74454E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E7A1-A50B-49D4-A632-4CD2B353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79F5-2171-4845-96E6-6DC39F1A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8533-D26B-4AE8-BEB0-C9D7AC5C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F2E4-C9DC-4742-8782-CA43E729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B587-F35E-4FD9-A3B8-A068E182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4DFD-761A-4099-AC41-6BC333D9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086-AFB1-4DB4-AB27-64C84AD1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32C-5405-4E51-9B98-BB97BE2A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3E90-8CB8-4165-93E3-23C5EE37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6461-4C26-4C02-9680-D065C7DB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BD36-A8BE-4F4E-A218-52F8E2ED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4EF9-06B4-4EF2-848F-33F0F6E8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EA8-62E2-4B61-A809-29623C7A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D08F-4E91-477E-8671-68D8BE897CEC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5364000" y="3436920"/>
            <a:ext cx="3602160" cy="318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4B1B-4A2A-45CE-9E3A-78129C5DC409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opolszczyzna.wodip.opole.pl/" TargetMode="External"/><Relationship Id="rId2" Type="http://schemas.openxmlformats.org/officeDocument/2006/relationships/hyperlink" Target="http://opolszczyzna.wodip.opole.pl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Witryna%20WODIiP%2024%20czerwca%202002/opolszczyzna/gminy/nysa/sp8g2nysa/miasto/jest_takie_piekne_miasto.htm" TargetMode="External"/><Relationship Id="rId2" Type="http://schemas.openxmlformats.org/officeDocument/2006/relationships/hyperlink" Target="file:///Witryna%20WODIiP%2024%20czerwca%202002/opolszczyzna/gminy/nysa/sp8g2nysa/trudne_chwile/trudne_chwile.htm" TargetMode="External"/><Relationship Id="rId3" Type="http://schemas.openxmlformats.org/officeDocument/2006/relationships/hyperlink" Target="file:///Witryna%20WODIiP%2024%20czerwca%202002/opolszczyzna/gminy/nysa/sp8g2nysa/trudne_chwile/spacer.htm" TargetMode="External"/><Relationship Id="rId4" Type="http://schemas.openxmlformats.org/officeDocument/2006/relationships/hyperlink" Target="file:///Witryna%20WODIiP%2024%20czerwca%202002/opolszczyzna/gminy/nysa/sp8g2nysa/nysa_dawniej/nysa_dawniej.htm" TargetMode="External"/><Relationship Id="rId5" Type="http://schemas.openxmlformats.org/officeDocument/2006/relationships/hyperlink" Target="file:///Witryna%20WODIiP%2024%20czerwca%202002/opolszczyzna/gminy/nysa/sp8g2nysa/poeci/nyscy_poeci.htm" TargetMode="External"/><Relationship Id="rId6" Type="http://schemas.openxmlformats.org/officeDocument/2006/relationships/hyperlink" Target="file:///Witryna%20WODIiP%2024%20czerwca%202002/opolszczyzna/gminy/nysa/sp8g2nysa/staszkow/kazimierz_staszkow.htm" TargetMode="External"/><Relationship Id="rId7" Type="http://schemas.openxmlformats.org/officeDocument/2006/relationships/hyperlink" Target="file:///Witryna%20WODIiP%2024%20czerwca%202002/opolszczyzna/gminy/nysa/sp8g2nysa/bractwo/bractwo_rycerskie.htm" TargetMode="External"/><Relationship Id="rId8" Type="http://schemas.openxmlformats.org/officeDocument/2006/relationships/hyperlink" Target="file:///Witryna%20WODIiP%2024%20czerwca%202002/opolszczyzna/gminy/nysa/sp8g2nysa/sztuka_ludowa/sztuka_ludowa.htm" TargetMode="External"/><Relationship Id="rId9" Type="http://schemas.openxmlformats.org/officeDocument/2006/relationships/hyperlink" Target="file:///Witryna%20WODIiP%2024%20czerwca%202002/opolszczyzna/gminy/nysa/sp8g2nysa/parki_rezerwaty/parki_rezerwaty.htm" TargetMode="External"/><Relationship Id="rId10" Type="http://schemas.openxmlformats.org/officeDocument/2006/relationships/hyperlink" Target="file:///Witryna%20WODIiP%2024%20czerwca%202002/opolszczyzna/gminy/nysa/sp8g2nysa/strona_dawida/index.html" TargetMode="External"/><Relationship Id="rId11" Type="http://schemas.openxmlformats.org/officeDocument/2006/relationships/hyperlink" Target="file:///Witryna%20WODIiP%2024%20czerwca%202002/opolszczyzna/gminy/nysa/sp8g2nysa/ciekawe/ciekawe_miejsca.htm" TargetMode="External"/><Relationship Id="rId12" Type="http://schemas.openxmlformats.org/officeDocument/2006/relationships/hyperlink" Target="mailto:rkrys@wodip.opole.pl" TargetMode="External"/><Relationship Id="rId13" Type="http://schemas.openxmlformats.org/officeDocument/2006/relationships/image" Target="../media/image2.png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Witryna%20WODIiP%2024%20czerwca%202002/opolszczyzna/gminy/strzeleczki/witamy.htm" TargetMode="External"/><Relationship Id="rId3" Type="http://schemas.openxmlformats.org/officeDocument/2006/relationships/hyperlink" Target="file:///Witryna%20WODIiP%2024%20czerwca%202002/opolszczyzna/gminy/strzeleczki/polozenie.htm" TargetMode="External"/><Relationship Id="rId4" Type="http://schemas.openxmlformats.org/officeDocument/2006/relationships/hyperlink" Target="file:///Witryna%20WODIiP%2024%20czerwca%202002/opolszczyzna/gminy/strzeleczki/elementy_krajobrazu.htm" TargetMode="External"/><Relationship Id="rId5" Type="http://schemas.openxmlformats.org/officeDocument/2006/relationships/hyperlink" Target="file:///Witryna%20WODIiP%2024%20czerwca%202002/opolszczyzna/gminy/strzeleczki/kosciol.htm" TargetMode="External"/><Relationship Id="rId6" Type="http://schemas.openxmlformats.org/officeDocument/2006/relationships/hyperlink" Target="file:///Witryna%20WODIiP%2024%20czerwca%202002/opolszczyzna/gminy/strzeleczki/szkola/sp_komorniki.htm" TargetMode="External"/><Relationship Id="rId7" Type="http://schemas.openxmlformats.org/officeDocument/2006/relationships/hyperlink" Target="file:///Witryna%20WODIiP%2024%20czerwca%202002/opolszczyzna/gminy/strzeleczki/zaklady_pracy.htm" TargetMode="External"/><Relationship Id="rId8" Type="http://schemas.openxmlformats.org/officeDocument/2006/relationships/hyperlink" Target="file:///Witryna%20WODIiP%2024%20czerwca%202002/opolszczyzna/gminy/strzeleczki/ludnosc.htm" TargetMode="External"/><Relationship Id="rId9" Type="http://schemas.openxmlformats.org/officeDocument/2006/relationships/hyperlink" Target="file:///Witryna%20WODIiP%2024%20czerwca%202002/opolszczyzna/gminy/strzeleczki/galeria_zd/galeria_zdjec.htm" TargetMode="External"/><Relationship Id="rId10" Type="http://schemas.openxmlformats.org/officeDocument/2006/relationships/hyperlink" Target="file:///Witryna%20WODIiP%2024%20czerwca%202002/opolszczyzna/gminy/strzeleczki/slownik.htm" TargetMode="External"/><Relationship Id="rId11" Type="http://schemas.openxmlformats.org/officeDocument/2006/relationships/hyperlink" Target="file:///Witryna%20WODIiP%2024%20czerwca%202002/opolszczyzna/gminy/strzeleczki/komorniki.htm" TargetMode="External"/><Relationship Id="rId12" Type="http://schemas.openxmlformats.org/officeDocument/2006/relationships/hyperlink" Target="file:///Witryna%20WODIiP%2024%20czerwca%202002/opolszczyzna/gminy/strzeleczki/komorniki.htm" TargetMode="External"/><Relationship Id="rId13" Type="http://schemas.openxmlformats.org/officeDocument/2006/relationships/hyperlink" Target="file:///Witryna%20WODIiP%2024%20czerwca%202002/opolszczyzna/gminy/strzeleczki/pisarzowice.htm" TargetMode="External"/><Relationship Id="rId14" Type="http://schemas.openxmlformats.org/officeDocument/2006/relationships/hyperlink" Target="file:///Witryna%20WODIiP%2024%20czerwca%202002/opolszczyzna/gminy/strzeleczki/nowy_mlyn.htm" TargetMode="External"/><Relationship Id="rId15" Type="http://schemas.openxmlformats.org/officeDocument/2006/relationships/image" Target="../media/image4.png"/><Relationship Id="rId16" Type="http://schemas.openxmlformats.org/officeDocument/2006/relationships/image" Target="../media/image7.gif"/><Relationship Id="rId17" Type="http://schemas.openxmlformats.org/officeDocument/2006/relationships/image" Target="../media/image8.jpe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hyperlink" Target="file:///Witryna%20WODIiP%2024%20czerwca%202002/opolszczyzna/gminy/grodkow/g2_grodkow/gmina.htm" TargetMode="External"/><Relationship Id="rId4" Type="http://schemas.openxmlformats.org/officeDocument/2006/relationships/hyperlink" Target="file:///Witryna%20WODIiP%2024%20czerwca%202002/opolszczyzna/gminy/grodkow/g2_grodkow/ludzie.htm" TargetMode="External"/><Relationship Id="rId5" Type="http://schemas.openxmlformats.org/officeDocument/2006/relationships/hyperlink" Target="file:///Witryna%20WODIiP%2024%20czerwca%202002/opolszczyzna/gminy/grodkow/g2_grodkow/miasto.htm" TargetMode="External"/><Relationship Id="rId6" Type="http://schemas.openxmlformats.org/officeDocument/2006/relationships/hyperlink" Target="file:///Witryna%20WODIiP%2024%20czerwca%202002/opolszczyzna/gminy/grodkow/g2_grodkow/kultura/kultura.htm" TargetMode="External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file:///Witryna%20WODIiP%2024%20czerwca%202002/opolszczyzna/gminy/otmuchow/lo_otmuchow/index2.htm" TargetMode="External"/><Relationship Id="rId3" Type="http://schemas.openxmlformats.org/officeDocument/2006/relationships/hyperlink" Target="file:///Witryna%20WODIiP%2024%20czerwca%202002/opolszczyzna/gminy/otmuchow/lo_otmuchow/wodip.opole.pl/~lootmuchow" TargetMode="External"/><Relationship Id="rId4" Type="http://schemas.openxmlformats.org/officeDocument/2006/relationships/hyperlink" Target="file:///Witryna%20WODIiP%2024%20czerwca%202002/opolszczyzna/gminy/otmuchow/lo_otmuchow/wodip.opole.pl/~lootmuchow" TargetMode="External"/><Relationship Id="rId5" Type="http://schemas.openxmlformats.org/officeDocument/2006/relationships/hyperlink" Target="file:///Witryna%20WODIiP%2024%20czerwca%202002/opolszczyzna/gminy/otmuchow/lo_otmuchow/wodip.opole.pl/~lootmuchow" TargetMode="External"/><Relationship Id="rId6" Type="http://schemas.openxmlformats.org/officeDocument/2006/relationships/hyperlink" Target="file:///Witryna%20WODIiP%2024%20czerwca%202002/opolszczyzna/gminy/otmuchow/lo_otmuchow/wodip.opole.pl/~lootmuchow" TargetMode="External"/><Relationship Id="rId7" Type="http://schemas.openxmlformats.org/officeDocument/2006/relationships/hyperlink" Target="mailto:lootmuchow@wodip.opole.pl" TargetMode="External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64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Georgia"/>
              </a:rPr>
              <a:t>MIĘDZYPRZEDMIOTOWY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Georgia"/>
              </a:rPr>
              <a:t>PROJEKT EDUKACYJNY 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Georgia"/>
              </a:rPr>
              <a:t>„OPOLSZCZYZNA 2000”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5013360"/>
            <a:ext cx="453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Stanisław Rożniato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Wojewódzki Ośrodek Doskonaleni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Informatycznego i Politechnicz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5-315 Opole, ul. Głogowska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2781360"/>
            <a:ext cx="7993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Georgia"/>
                <a:hlinkClick r:id="rId2"/>
              </a:rPr>
              <a:t>opolszczyzna.wodip.opole.p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364000" y="3436920"/>
            <a:ext cx="3602160" cy="318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539640" y="260280"/>
          <a:ext cx="6162840" cy="1693800"/>
        </p:xfrm>
        <a:graphic>
          <a:graphicData uri="http://schemas.openxmlformats.org/drawingml/2006/table">
            <a:tbl>
              <a:tblPr/>
              <a:tblGrid>
                <a:gridCol w="1679760"/>
                <a:gridCol w="4483080"/>
              </a:tblGrid>
              <a:tr h="916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polszczyzna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rojekt internet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ITAMY W NYSIE !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720" y="1094400"/>
            <a:ext cx="220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1576440"/>
          <a:ext cx="5788080" cy="3152880"/>
        </p:xfrm>
        <a:graphic>
          <a:graphicData uri="http://schemas.openxmlformats.org/drawingml/2006/table">
            <a:tbl>
              <a:tblPr/>
              <a:tblGrid>
                <a:gridCol w="3394080"/>
                <a:gridCol w="2394000"/>
              </a:tblGrid>
              <a:tr h="31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Comic Sans MS"/>
                        </a:rPr>
                        <a:t>        </a:t>
                      </a:r>
                      <a:r>
                        <a:rPr b="0" lang="en-US" sz="1100" spc="-1" strike="noStrike" u="sng">
                          <a:solidFill>
                            <a:srgbClr val="7e9ce8"/>
                          </a:solidFill>
                          <a:uFillTx/>
                          <a:latin typeface="Comic Sans MS"/>
                          <a:hlinkClick r:id="rId1"/>
                        </a:rPr>
                        <a:t>Jest takie piękne miasto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Comic Sans MS"/>
                        </a:rPr>
                        <a:t>        </a:t>
                      </a:r>
                      <a:r>
                        <a:rPr b="0" lang="en-US" sz="1100" spc="-1" strike="noStrike" u="sng">
                          <a:solidFill>
                            <a:srgbClr val="7e9ce8"/>
                          </a:solidFill>
                          <a:uFillTx/>
                          <a:latin typeface="Comic Sans MS"/>
                          <a:hlinkClick r:id="rId2"/>
                        </a:rPr>
                        <a:t>Trudne chwile mias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Comic Sans MS"/>
                        </a:rPr>
                        <a:t>        </a:t>
                      </a:r>
                      <a:r>
                        <a:rPr b="0" lang="en-US" sz="1100" spc="-1" strike="noStrike" u="sng">
                          <a:solidFill>
                            <a:srgbClr val="7e9ce8"/>
                          </a:solidFill>
                          <a:uFillTx/>
                          <a:latin typeface="Comic Sans MS"/>
                          <a:hlinkClick r:id="rId3"/>
                        </a:rPr>
                        <a:t>Spacer po mieśc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Comic Sans MS"/>
                        </a:rPr>
                        <a:t>        </a:t>
                      </a:r>
                      <a:r>
                        <a:rPr b="0" lang="en-US" sz="1100" spc="-1" strike="noStrike" u="sng">
                          <a:solidFill>
                            <a:srgbClr val="7e9ce8"/>
                          </a:solidFill>
                          <a:uFillTx/>
                          <a:latin typeface="Comic Sans MS"/>
                          <a:hlinkClick r:id="rId4"/>
                        </a:rPr>
                        <a:t>Dawna Ny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Comic Sans MS"/>
                        </a:rPr>
                        <a:t>        </a:t>
                      </a:r>
                      <a:r>
                        <a:rPr b="0" lang="en-US" sz="1100" spc="-1" strike="noStrike" u="sng">
                          <a:solidFill>
                            <a:srgbClr val="7e9ce8"/>
                          </a:solidFill>
                          <a:uFillTx/>
                          <a:latin typeface="Comic Sans MS"/>
                          <a:hlinkClick r:id="rId5"/>
                        </a:rPr>
                        <a:t>Nyscy poe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80"/>
                          </a:solidFill>
                          <a:latin typeface="Comic Sans MS"/>
                        </a:rPr>
                        <a:t>        </a:t>
                      </a:r>
                      <a:r>
                        <a:rPr b="0" lang="en-US" sz="1100" spc="-1" strike="noStrike" u="sng">
                          <a:solidFill>
                            <a:srgbClr val="7e9ce8"/>
                          </a:solidFill>
                          <a:uFillTx/>
                          <a:latin typeface="Comic Sans MS"/>
                          <a:hlinkClick r:id="rId6"/>
                        </a:rPr>
                        <a:t>Nyski fotografi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Comic Sans MS"/>
                        </a:rPr>
                        <a:t>        </a:t>
                      </a:r>
                      <a:r>
                        <a:rPr b="0" lang="en-US" sz="1100" spc="-1" strike="noStrike" u="sng">
                          <a:solidFill>
                            <a:srgbClr val="7e9ce8"/>
                          </a:solidFill>
                          <a:uFillTx/>
                          <a:latin typeface="Comic Sans MS"/>
                          <a:hlinkClick r:id="rId7"/>
                        </a:rPr>
                        <a:t>Bractwo Rycersk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Comic Sans MS"/>
                        </a:rPr>
                        <a:t>        </a:t>
                      </a:r>
                      <a:r>
                        <a:rPr b="0" lang="en-US" sz="1100" spc="-1" strike="noStrike" u="sng">
                          <a:solidFill>
                            <a:srgbClr val="7e9ce8"/>
                          </a:solidFill>
                          <a:uFillTx/>
                          <a:latin typeface="Comic Sans MS"/>
                          <a:hlinkClick r:id="rId8"/>
                        </a:rPr>
                        <a:t>Sztuka ludow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80"/>
                          </a:solidFill>
                          <a:latin typeface="Comic Sans MS"/>
                        </a:rPr>
                        <a:t>        </a:t>
                      </a:r>
                      <a:r>
                        <a:rPr b="0" lang="en-US" sz="1100" spc="-1" strike="noStrike" u="sng">
                          <a:solidFill>
                            <a:srgbClr val="7e9ce8"/>
                          </a:solidFill>
                          <a:uFillTx/>
                          <a:latin typeface="Comic Sans MS"/>
                          <a:hlinkClick r:id="rId9"/>
                        </a:rPr>
                        <a:t>Przyroda wokół n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80"/>
                          </a:solidFill>
                          <a:latin typeface="Comic Sans MS"/>
                        </a:rPr>
                        <a:t>        </a:t>
                      </a:r>
                      <a:r>
                        <a:rPr b="0" lang="en-US" sz="1100" spc="-1" strike="noStrike" u="sng">
                          <a:solidFill>
                            <a:srgbClr val="7e9ce8"/>
                          </a:solidFill>
                          <a:uFillTx/>
                          <a:latin typeface="Comic Sans MS"/>
                          <a:hlinkClick r:id="rId10"/>
                        </a:rPr>
                        <a:t>Ósemka - moja szkoł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80"/>
                          </a:solidFill>
                          <a:latin typeface="Comic Sans MS"/>
                        </a:rPr>
                        <a:t>        </a:t>
                      </a:r>
                      <a:r>
                        <a:rPr b="0" lang="en-US" sz="1100" spc="-1" strike="noStrike" u="sng">
                          <a:solidFill>
                            <a:srgbClr val="7e9ce8"/>
                          </a:solidFill>
                          <a:uFillTx/>
                          <a:latin typeface="Comic Sans MS"/>
                          <a:hlinkClick r:id="rId11"/>
                        </a:rPr>
                        <a:t>Ciekawe miejsca w okoli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 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1784160" y="5192280"/>
            <a:ext cx="557568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l-PL" sz="1400" spc="-1" strike="noStrike">
                <a:solidFill>
                  <a:srgbClr val="000080"/>
                </a:solidFill>
                <a:latin typeface="Arial"/>
              </a:rPr>
              <a:t>         </a:t>
            </a:r>
            <a:r>
              <a:rPr b="0" lang="pl-PL" sz="1100" spc="-1" strike="noStrike">
                <a:solidFill>
                  <a:srgbClr val="669999"/>
                </a:solidFill>
                <a:latin typeface="Arial"/>
              </a:rPr>
              <a:t> </a:t>
            </a:r>
            <a:r>
              <a:rPr b="0" lang="pl-PL" sz="14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pl-PL" sz="1000" spc="-1" strike="noStrike">
                <a:solidFill>
                  <a:srgbClr val="000099"/>
                </a:solidFill>
                <a:latin typeface="Comic Sans MS"/>
              </a:rPr>
              <a:t>Witryna jest częścią projektu internetowego "Opolszczyzna 2000"  realizowan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99"/>
                </a:solidFill>
                <a:latin typeface="Comic Sans MS"/>
              </a:rPr>
              <a:t>                 </a:t>
            </a:r>
            <a:r>
              <a:rPr b="0" lang="pl-PL" sz="1000" spc="-1" strike="noStrike">
                <a:solidFill>
                  <a:srgbClr val="000099"/>
                </a:solidFill>
                <a:latin typeface="Comic Sans MS"/>
              </a:rPr>
              <a:t>przez WODIiP w Opolu pod kierunkiem S.Rożniatows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omic Sans MS"/>
              </a:rPr>
              <a:t>   </a:t>
            </a:r>
            <a:r>
              <a:rPr b="0" lang="pl-PL" sz="1000" spc="-1" strike="noStrike">
                <a:solidFill>
                  <a:srgbClr val="000099"/>
                </a:solidFill>
                <a:latin typeface="Comic Sans MS"/>
              </a:rPr>
              <a:t>     </a:t>
            </a:r>
            <a:r>
              <a:rPr b="0" lang="pl-PL" sz="1000" spc="-1" strike="noStrike">
                <a:solidFill>
                  <a:srgbClr val="000099"/>
                </a:solidFill>
                <a:latin typeface="Comic Sans MS"/>
              </a:rPr>
              <a:t>Strona ta powstała dzięki współpracy uczniów i nauczycieli SP nr8 i Gim.nr2 w Nysi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omic Sans MS"/>
              </a:rPr>
              <a:t>   </a:t>
            </a:r>
            <a:r>
              <a:rPr b="0" lang="pl-PL" sz="1000" spc="-1" strike="noStrike">
                <a:solidFill>
                  <a:srgbClr val="000099"/>
                </a:solidFill>
                <a:latin typeface="Comic Sans MS"/>
              </a:rPr>
              <a:t>     </a:t>
            </a:r>
            <a:r>
              <a:rPr b="0" lang="pl-PL" sz="1000" spc="-1" strike="noStrike">
                <a:solidFill>
                  <a:srgbClr val="000099"/>
                </a:solidFill>
                <a:latin typeface="Comic Sans MS"/>
              </a:rPr>
              <a:t>Selekcja materiałów, opracowanie i wykonanie witryn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99"/>
                </a:solidFill>
                <a:latin typeface="Comic Sans MS"/>
              </a:rPr>
              <a:t>opiekun projektu - Renata Kryś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7e9ce8"/>
                </a:solidFill>
                <a:uFillTx/>
                <a:latin typeface="Comic Sans MS"/>
                <a:hlinkClick r:id="rId12"/>
              </a:rPr>
              <a:t>rkrys@wodip.opole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681984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62800" y="6834960"/>
            <a:ext cx="141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Comic Sans MS"/>
              </a:rPr>
              <a:t>     </a:t>
            </a:r>
            <a:r>
              <a:rPr b="1" lang="en-US" sz="10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US" sz="600" spc="-1" strike="noStrike">
                <a:solidFill>
                  <a:srgbClr val="006666"/>
                </a:solidFill>
                <a:latin typeface="Comic Sans MS"/>
              </a:rPr>
              <a:t>Aktualizacja: 10 maja 2001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3"/>
          <a:stretch/>
        </p:blipFill>
        <p:spPr>
          <a:xfrm>
            <a:off x="684360" y="260280"/>
            <a:ext cx="885600" cy="1104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4"/>
          <a:stretch/>
        </p:blipFill>
        <p:spPr>
          <a:xfrm>
            <a:off x="4146480" y="1622520"/>
            <a:ext cx="1971720" cy="2857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5"/>
          <a:stretch/>
        </p:blipFill>
        <p:spPr>
          <a:xfrm>
            <a:off x="395280" y="4941720"/>
            <a:ext cx="1511280" cy="13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3000" y="1180080"/>
            <a:ext cx="90198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AMY W DOMASZKOWICACH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ŁOŻONYCH W GMINIE NY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  </a:t>
            </a:r>
            <a:r>
              <a:rPr b="0" lang="pl-PL" sz="16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Mnie ta ziemia od innych droższa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 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W. Broniewsk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484360" y="2276640"/>
            <a:ext cx="4038840" cy="2619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26920" y="4941720"/>
            <a:ext cx="16574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3809880" cy="71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468360" y="2060640"/>
          <a:ext cx="8136000" cy="4083120"/>
        </p:xfrm>
        <a:graphic>
          <a:graphicData uri="http://schemas.openxmlformats.org/drawingml/2006/table">
            <a:tbl>
              <a:tblPr/>
              <a:tblGrid>
                <a:gridCol w="2590920"/>
                <a:gridCol w="5545080"/>
              </a:tblGrid>
              <a:tr h="434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2"/>
                        </a:rPr>
                        <a:t>WITAM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3"/>
                        </a:rPr>
                        <a:t>Położenie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4"/>
                        </a:rPr>
                        <a:t>Elementy krajobrazu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5"/>
                        </a:rPr>
                        <a:t>Kościół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6"/>
                        </a:rPr>
                        <a:t>Szkoła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7"/>
                        </a:rPr>
                        <a:t>Zakłady pracy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8"/>
                        </a:rPr>
                        <a:t>Ludzie i obyczaje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9"/>
                        </a:rPr>
                        <a:t>Galeria zdjęć 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10"/>
                        </a:rPr>
                        <a:t>Słownik gwarowy 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ORNIKI I OKOL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11"/>
                        </a:rPr>
                        <a:t>KOMORNIKI   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           </a:t>
                      </a:r>
                      <a:r>
                        <a:rPr b="0" lang="en-US" sz="11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12"/>
                        </a:rPr>
                        <a:t>ŁOWKOWICE     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  </a:t>
                      </a:r>
                      <a:r>
                        <a:rPr b="0" lang="en-US" sz="11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13"/>
                        </a:rPr>
                        <a:t> PISARZOWICE 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      </a:t>
                      </a:r>
                      <a:r>
                        <a:rPr b="0" lang="en-US" sz="11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14"/>
                        </a:rPr>
                        <a:t> NOWY MŁYN  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         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" descr=""/>
          <p:cNvPicPr/>
          <p:nvPr/>
        </p:nvPicPr>
        <p:blipFill>
          <a:blip r:embed="rId15"/>
          <a:stretch/>
        </p:blipFill>
        <p:spPr>
          <a:xfrm>
            <a:off x="539640" y="333360"/>
            <a:ext cx="1657440" cy="1467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6"/>
          <a:stretch/>
        </p:blipFill>
        <p:spPr>
          <a:xfrm>
            <a:off x="-628560" y="2773440"/>
            <a:ext cx="523800" cy="647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7"/>
          <a:stretch/>
        </p:blipFill>
        <p:spPr>
          <a:xfrm>
            <a:off x="3276720" y="2997360"/>
            <a:ext cx="4680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7417080" cy="5691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276480"/>
            <a:ext cx="80643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ŚCIEŻKA DYDAKTYCZNO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- PRZYRODNICZ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W SŁAWIC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80"/>
                </a:solidFill>
                <a:latin typeface="Arial"/>
              </a:rPr>
              <a:t>WIEŚ</a:t>
            </a:r>
            <a:r>
              <a:rPr b="1" i="1" lang="en-US" sz="1600" spc="-1" strike="noStrike">
                <a:solidFill>
                  <a:srgbClr val="0080ff"/>
                </a:solidFill>
                <a:latin typeface="Arial"/>
              </a:rPr>
              <a:t>-SŁAWICE;  </a:t>
            </a:r>
            <a:r>
              <a:rPr b="1" i="1" lang="en-US" sz="1400" spc="-1" strike="noStrike">
                <a:solidFill>
                  <a:srgbClr val="000080"/>
                </a:solidFill>
                <a:latin typeface="Arial"/>
              </a:rPr>
              <a:t>GMINA</a:t>
            </a:r>
            <a:r>
              <a:rPr b="1" i="1" lang="en-US" sz="1400" spc="-1" strike="noStrike">
                <a:solidFill>
                  <a:srgbClr val="0080ff"/>
                </a:solidFill>
                <a:latin typeface="Arial"/>
              </a:rPr>
              <a:t>-</a:t>
            </a:r>
            <a:r>
              <a:rPr b="1" i="1" lang="en-US" sz="1600" spc="-1" strike="noStrike">
                <a:solidFill>
                  <a:srgbClr val="0080ff"/>
                </a:solidFill>
                <a:latin typeface="Arial"/>
              </a:rPr>
              <a:t>DĄBROW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826920" y="5157720"/>
            <a:ext cx="16574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0920" y="90360"/>
            <a:ext cx="756108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860480" y="1623960"/>
          <a:ext cx="1762200" cy="3564000"/>
        </p:xfrm>
        <a:graphic>
          <a:graphicData uri="http://schemas.openxmlformats.org/drawingml/2006/table">
            <a:tbl>
              <a:tblPr/>
              <a:tblGrid>
                <a:gridCol w="881280"/>
                <a:gridCol w="880920"/>
              </a:tblGrid>
              <a:tr h="38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492360" y="1628640"/>
          <a:ext cx="5113440" cy="3671640"/>
        </p:xfrm>
        <a:graphic>
          <a:graphicData uri="http://schemas.openxmlformats.org/drawingml/2006/table">
            <a:tbl>
              <a:tblPr/>
              <a:tblGrid>
                <a:gridCol w="3430800"/>
                <a:gridCol w="1682640"/>
              </a:tblGrid>
              <a:tr h="125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5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Kroszonki wielkanoc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Ozdobne świe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Szydełkowe serwetk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6476760" cy="762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116000" y="1700280"/>
            <a:ext cx="540072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4048200" cy="1047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111456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2268360" y="2276640"/>
          <a:ext cx="6251760" cy="4176360"/>
        </p:xfrm>
        <a:graphic>
          <a:graphicData uri="http://schemas.openxmlformats.org/drawingml/2006/table">
            <a:tbl>
              <a:tblPr/>
              <a:tblGrid>
                <a:gridCol w="1339920"/>
                <a:gridCol w="3571920"/>
                <a:gridCol w="133992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3"/>
                        </a:rPr>
                        <a:t>Gmi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Strona wykonana w Gimnazjum Publicznym Nr 2 w Grodkowi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4"/>
                        </a:rPr>
                        <a:t>Ludz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5"/>
                        </a:rPr>
                        <a:t>Mi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6"/>
                        </a:rPr>
                        <a:t>Kult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cro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yr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6194520" y="56473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826920" y="1628640"/>
            <a:ext cx="1067040" cy="952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3348000" y="2492280"/>
            <a:ext cx="3571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476600" y="393372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0" y="1400040"/>
          <a:ext cx="9144000" cy="40734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07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r>
                        <a:rPr b="0" lang="en-US" sz="165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                                                                  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Witryna</a:t>
                      </a:r>
                      <a:br>
                        <a:rPr sz="1300"/>
                      </a:b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Liceum Ogólnokształcącego </a:t>
                      </a:r>
                      <a:br>
                        <a:rPr sz="1300"/>
                      </a:b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w Otmuchowie</a:t>
                      </a:r>
                      <a:br>
                        <a:rPr sz="1300"/>
                      </a:b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opracowana przez uczniów (wg wkładu pracy):</a:t>
                      </a:r>
                      <a:br>
                        <a:rPr sz="1300"/>
                      </a:br>
                      <a:br>
                        <a:rPr sz="1300"/>
                      </a:b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Małgorzata Kokurowska, Krystyna Sabaj,</a:t>
                      </a:r>
                      <a:br>
                        <a:rPr sz="1300"/>
                      </a:b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aweł Czapor, Paweł Pierzak,</a:t>
                      </a:r>
                      <a:br>
                        <a:rPr sz="1300"/>
                      </a:b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Tomasz Błaszczyk, Tomasz Anioł, Wojciech Jowsa, </a:t>
                      </a:r>
                      <a:br>
                        <a:rPr sz="1300"/>
                      </a:br>
                      <a:br>
                        <a:rPr sz="1300"/>
                      </a:br>
                      <a:br>
                        <a:rPr sz="1300"/>
                      </a:b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od kierunkiem:</a:t>
                      </a:r>
                      <a:br>
                        <a:rPr sz="1300"/>
                      </a:br>
                      <a:br>
                        <a:rPr sz="1300"/>
                      </a:b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Ireny Bracichowicz </a:t>
                      </a:r>
                      <a:br>
                        <a:rPr sz="1300"/>
                      </a:b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Renaty Kokurowskiej</a:t>
                      </a:r>
                      <a:br>
                        <a:rPr sz="1300"/>
                      </a:br>
                      <a:br>
                        <a:rPr sz="1300"/>
                      </a:b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omoc techniczna: Witold Rudolf</a:t>
                      </a:r>
                      <a:br>
                        <a:rPr sz="1300"/>
                      </a:br>
                      <a:br>
                        <a:rPr sz="1300"/>
                      </a:br>
                      <a:r>
                        <a:rPr b="0" lang="pl-PL" sz="1100" spc="-1" strike="noStrike" u="sng">
                          <a:solidFill>
                            <a:srgbClr val="7e9ce8"/>
                          </a:solidFill>
                          <a:uFillTx/>
                          <a:latin typeface="Georgia"/>
                          <a:ea typeface="Arial"/>
                          <a:hlinkClick r:id="rId2"/>
                        </a:rPr>
                        <a:t>  </a:t>
                      </a: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                                            </a:t>
                      </a: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3144240" y="5511600"/>
            <a:ext cx="2853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</a:t>
            </a:r>
            <a:r>
              <a:rPr b="0" lang="pl-PL" sz="13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wodip.opole.pl</a:t>
            </a:r>
            <a:r>
              <a:rPr b="0" lang="pl-PL" sz="13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/~</a:t>
            </a:r>
            <a:r>
              <a:rPr b="0" lang="pl-PL" sz="13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lootmucho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pl-PL" sz="13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lootmuchow@wodip.opole.p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233280" y="622440"/>
            <a:ext cx="4286160" cy="7617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9"/>
          <a:stretch/>
        </p:blipFill>
        <p:spPr>
          <a:xfrm>
            <a:off x="468360" y="2276640"/>
            <a:ext cx="4410000" cy="28382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0"/>
          <a:stretch/>
        </p:blipFill>
        <p:spPr>
          <a:xfrm>
            <a:off x="6732720" y="5084640"/>
            <a:ext cx="8096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00000" y="2060640"/>
            <a:ext cx="6769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Dziękuję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5013360"/>
            <a:ext cx="453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Stanisław Rożniato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Wojewódzki Ośrodek Doskonaleni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Informatycznego i Politechnicz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5-315 Opole, ul. Głogowska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Wstę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forma systemu edukacji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nowe ce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nowe formy i środki nauczan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nowość: ścieżki edukacyj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99"/>
                </a:solidFill>
                <a:latin typeface="Georgia"/>
              </a:rPr>
              <a:t>EDUKACJA REGIONAL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99"/>
                </a:solidFill>
                <a:latin typeface="Georgia"/>
              </a:rPr>
              <a:t>DZIEDZICTWO KULTUROWE W REGION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e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ozwijanie wiedzy o kulturze regionu i jej związkach z kulturą narodow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kontakt ze środowiskiem lokalnym i regionalny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ozwijanie wiedzy o historii regionu i tradycjach własnej rodzin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przygotowanie do korzystania z różnych źródeł informacj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6769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Georgia"/>
              </a:rPr>
              <a:t>O P O L S Z C Z Y Z N 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50920" y="602100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województwo opolskie w oczach dzieci i młodzież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3068640"/>
            <a:ext cx="6769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Georgia"/>
              </a:rPr>
              <a:t>2 0 0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Dziedziny (tematyk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histo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języ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muzy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plasty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przyroda z elementami ekologi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geograf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nformaty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Uczestnic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38 gm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84 szkoł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160 nauczycie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ponad 500 ucznió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65 reprezentantów samorząd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zkolenia i konsultac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dstawy obsługi komputera i edycji teks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dstawowe usługi Intern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worzenie stron internet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zygotowanie i obróbka grafiki internetow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bsługa urządzeń multimedial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zaawansowane techniki tworzenia stron internet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łącznie 120 przeszkolonych nauczycieli na różnych kurs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nad 500 godzin szkoleń i konsult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czestnicy wypożyczali aparaty i kamerę cyfrow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pracowywali zgromadzone materiały (karta video, skanery, magnetow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l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ok. 300 MB danych (strony WWW, teksty, grafiki i zdjęcia, film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zby tradycji w szkoła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konkursy historyczne, plastyczne i muzycz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ystawy i spotkania z twórcami ludowy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 wiele innych przedsięwzięć lokalny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Uczestnicy otrzymal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Georgia"/>
              </a:rPr>
              <a:t>materiały promocyjne projekt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Georgia"/>
              </a:rPr>
              <a:t>opracowania w czasie szkoleń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Georgia"/>
              </a:rPr>
              <a:t>płytę CD-ROM z zapisaną offline witryną projektu i narzędziami internetowy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Georgia"/>
              </a:rPr>
              <a:t>pamiątkowe koszulki z logo projekt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Georgia"/>
              </a:rPr>
              <a:t>certyfikaty uczestnictwa dla nauczycieli i ucznió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Georgia"/>
              </a:rPr>
              <a:t>zaświadczenia dla nauczycieli biorących udział w szkolenia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Georgia"/>
              </a:rPr>
              <a:t>podziękowania dla dyrektora szkoł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6:42:10Z</dcterms:created>
  <dc:creator>Stanisław Rożniatowski</dc:creator>
  <dc:description/>
  <dc:language>en-US</dc:language>
  <cp:lastModifiedBy>Stanisław Rożniatowski</cp:lastModifiedBy>
  <dcterms:modified xsi:type="dcterms:W3CDTF">2002-09-20T09:21:42Z</dcterms:modified>
  <cp:revision>14</cp:revision>
  <dc:subject/>
  <dc:title>MIĘDZYPRZEDMIOTOWY PROJEKT EDUKACYJNY  „OPOLSZCZYZNA 2000”</dc:title>
</cp:coreProperties>
</file>