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201760"/>
            <a:ext cx="7280280" cy="192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958960" y="7215120"/>
            <a:ext cx="178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503280" indent="-432000">
              <a:spcAft>
                <a:spcPts val="1412"/>
              </a:spcAft>
              <a:buClr>
                <a:srgbClr val="ffff99"/>
              </a:buClr>
              <a:buSzPct val="75000"/>
              <a:buFont typeface="Star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D759-4E38-44BA-AE85-463729F840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099800" y="7215120"/>
            <a:ext cx="22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503280" indent="-432000">
              <a:spcAft>
                <a:spcPts val="1412"/>
              </a:spcAft>
              <a:buClr>
                <a:srgbClr val="ffff99"/>
              </a:buClr>
              <a:buSzPct val="75000"/>
              <a:buFont typeface="StarBats" charset="2"/>
              <a:buChar char=""/>
              <a:tabLst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old Rud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Aft>
                <a:spcPts val="1412"/>
              </a:spcAft>
              <a:buClr>
                <a:srgbClr val="ffff99"/>
              </a:buClr>
              <a:buSzPct val="75000"/>
              <a:buFont typeface="StarBats" charset="2"/>
              <a:buChar char="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spcAft>
                <a:spcPts val="1412"/>
              </a:spcAft>
              <a:buClr>
                <a:srgbClr val="ffff99"/>
              </a:buClr>
              <a:buSzPct val="75000"/>
              <a:buFont typeface="StarBats" charset="2"/>
              <a:buChar char="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9640" indent="-432000">
              <a:spcAft>
                <a:spcPts val="1412"/>
              </a:spcAft>
              <a:buClr>
                <a:srgbClr val="ffff99"/>
              </a:buClr>
              <a:buSzPct val="75000"/>
              <a:buFont typeface="StarBats" charset="2"/>
              <a:buChar char="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66920" indent="-432000">
              <a:spcAft>
                <a:spcPts val="1412"/>
              </a:spcAft>
              <a:buClr>
                <a:srgbClr val="ffff99"/>
              </a:buClr>
              <a:buSzPct val="65000"/>
              <a:buFont typeface="StarBats" charset="2"/>
              <a:buChar char="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55640" indent="-431640">
              <a:spcAft>
                <a:spcPts val="1412"/>
              </a:spcAft>
              <a:buClr>
                <a:srgbClr val="ffff99"/>
              </a:buClr>
              <a:buSzPct val="65000"/>
              <a:buFont typeface="StarBats" charset="2"/>
              <a:buChar char="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55640" indent="-431640">
              <a:spcAft>
                <a:spcPts val="1412"/>
              </a:spcAft>
              <a:buClr>
                <a:srgbClr val="000000"/>
              </a:buClr>
              <a:buSzPct val="65000"/>
              <a:buFont typeface="StarBats" charset="2"/>
              <a:buChar char="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55640" indent="-431640">
              <a:spcAft>
                <a:spcPts val="1412"/>
              </a:spcAft>
              <a:buClr>
                <a:srgbClr val="000000"/>
              </a:buClr>
              <a:buSzPct val="65000"/>
              <a:buFont typeface="StarBats" charset="2"/>
              <a:buChar char="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612360"/>
            <a:ext cx="8607600" cy="12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Lucida Sans"/>
              </a:rPr>
              <a:t>Opolszczyzna 2000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Lucida Sans"/>
              </a:rPr>
              <a:t>w mojej szkole</a:t>
            </a: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42" name=""/>
          <p:cNvSpPr/>
          <p:nvPr/>
        </p:nvSpPr>
        <p:spPr>
          <a:xfrm>
            <a:off x="741240" y="1965600"/>
            <a:ext cx="860760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6000" indent="-21600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Lucida Sans"/>
              </a:rPr>
              <a:t>Witold Rudo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Lucida Sans"/>
              </a:rPr>
              <a:t>Liceum Ogólnokształcą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Lucida Sans"/>
              </a:rPr>
              <a:t>w Otmuchow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Lucida Sans"/>
              </a:rPr>
              <a:t>XVIII Konferencja Informatyka w Szk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 algn="ctr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Lucida Sans"/>
              </a:rPr>
              <a:t>Toruń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Lucida Sans"/>
              </a:rPr>
              <a:t>Cele</a:t>
            </a: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2200" y="3053880"/>
            <a:ext cx="9756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propagowanie wśród nauczycieli umiejętności stosowania technologii informacyj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aktywizacja uczniów w pracy dokumentacyj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utworzenie witryny internetowej poświęconej naszemu mia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wykreowanie na terenie szkoły koordynatora – opiekuna pracowni multimedial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Lucida Sans"/>
              </a:rPr>
              <a:t>Sytuacja PRZED</a:t>
            </a: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2200" y="3053880"/>
            <a:ext cx="9756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pracownia komputerowa przyłączona do Intern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sala multimedialna (projektor, wideo, komp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6e6ff"/>
                </a:solidFill>
                <a:latin typeface="Times New Roman"/>
              </a:rPr>
              <a:t>3 nauczycieli – nieinformatyków po różnorodnych kursach komputer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6e6ff"/>
                </a:solidFill>
                <a:latin typeface="Times New Roman"/>
              </a:rPr>
              <a:t>jeden komputer wykorzystywany sporadycznie na lekcjach chem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6e6ff"/>
                </a:solidFill>
                <a:latin typeface="Times New Roman"/>
              </a:rPr>
              <a:t>brak zainteresowania wykorzystywaniem TI przez nauczyci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Lucida Sans"/>
              </a:rPr>
              <a:t>Podjęte działania</a:t>
            </a: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6600" y="2997000"/>
            <a:ext cx="9742320" cy="40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Bef>
                <a:spcPts val="3963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6e6ff"/>
                </a:solidFill>
                <a:latin typeface="Times New Roman"/>
              </a:rPr>
              <a:t>włączenie do projektu Opolszczyzna 2000 dwóch nauczycie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0560" indent="-431640">
              <a:lnSpc>
                <a:spcPct val="100000"/>
              </a:lnSpc>
              <a:spcBef>
                <a:spcPts val="275"/>
              </a:spcBef>
              <a:buClr>
                <a:srgbClr val="ffff99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bibliotekarza</a:t>
            </a:r>
            <a:r>
              <a:rPr b="1" lang="en-US" sz="2400" spc="-1" strike="noStrike">
                <a:solidFill>
                  <a:srgbClr val="e6e6ff"/>
                </a:solidFill>
                <a:latin typeface="Times New Roman"/>
              </a:rPr>
              <a:t> jako szkolnego koordynatora projektu</a:t>
            </a:r>
            <a:endParaRPr b="0" lang="en-US" sz="2400" spc="-1" strike="noStrike">
              <a:solidFill>
                <a:srgbClr val="e6e6ff"/>
              </a:solidFill>
              <a:latin typeface="Lucida Sans"/>
            </a:endParaRPr>
          </a:p>
          <a:p>
            <a:pPr lvl="1" marL="790560" indent="-431640">
              <a:lnSpc>
                <a:spcPct val="100000"/>
              </a:lnSpc>
              <a:spcBef>
                <a:spcPts val="275"/>
              </a:spcBef>
              <a:buClr>
                <a:srgbClr val="ffff99"/>
              </a:buClr>
              <a:buSzPct val="7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historyka </a:t>
            </a:r>
            <a:r>
              <a:rPr b="1" lang="en-US" sz="2400" spc="-1" strike="noStrike">
                <a:solidFill>
                  <a:srgbClr val="e6e6ff"/>
                </a:solidFill>
                <a:latin typeface="Times New Roman"/>
              </a:rPr>
              <a:t>jako głównego konsultanta</a:t>
            </a:r>
            <a:endParaRPr b="0" lang="en-US" sz="2400" spc="-1" strike="noStrike">
              <a:solidFill>
                <a:srgbClr val="e6e6ff"/>
              </a:solidFill>
              <a:latin typeface="Lucida Sans"/>
            </a:endParaRPr>
          </a:p>
          <a:p>
            <a:pPr marL="503280" indent="-432000">
              <a:spcBef>
                <a:spcPts val="2262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włączenie projektu do Planu Wychowawczego Szkoły na rok 2000/2001, czyli zaangażowanie w zbieranie materiałów WSZYSTKICH wychowawców k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2262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wyłonienie na lekcjach informatyki grupy uczniów do prac przy projekcie (głównie kodowanie str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Lucida Sans"/>
              </a:rPr>
              <a:t>Sytuacja PO</a:t>
            </a: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2200" y="2590920"/>
            <a:ext cx="97567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witryna w sieci (www.wodip.opole.pl/opolszczyzna/gminy/otmuchow/lo_otmuch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powszechnie dostępne stanowisko komputerowe w bibliotece szkolnej przyłączone do Intern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bardzo aktywny nauczyciel – bibliotekarz ułatwiający uczniom i nauczycielom dostęp do zasobów multimedialnych i Intern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6e6ff"/>
                </a:solidFill>
                <a:latin typeface="Times New Roman"/>
              </a:rPr>
              <a:t>7 nauczycieli wykorzystujących na lekcjach 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6e6ff"/>
                </a:solidFill>
                <a:latin typeface="Times New Roman"/>
              </a:rPr>
              <a:t>aktywne korzystanie przez nauczycieli z zasobów Internetu i pocz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Lucida Sans"/>
              </a:rPr>
              <a:t>Co dalej?</a:t>
            </a:r>
            <a:endParaRPr b="1" lang="en-US" sz="4400" spc="-1" strike="noStrike">
              <a:solidFill>
                <a:srgbClr val="ffff99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2200" y="3053880"/>
            <a:ext cx="975672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witryna w języku angielskim i niemieck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e6e6ff"/>
                </a:solidFill>
                <a:latin typeface="Times New Roman"/>
              </a:rPr>
              <a:t>włączenie nauczycieli do projektu eko-opolszczy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6e6ff"/>
                </a:solidFill>
                <a:latin typeface="Times New Roman"/>
              </a:rPr>
              <a:t>projekty międzyprzedmiotowe wykorzystujące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3280" indent="-432000">
              <a:spcBef>
                <a:spcPts val="3674"/>
              </a:spcBef>
              <a:buClr>
                <a:srgbClr val="ffff99"/>
              </a:buClr>
              <a:buSzPct val="75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e6e6ff"/>
                </a:solidFill>
                <a:latin typeface="Times New Roman"/>
              </a:rPr>
              <a:t>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8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18:05:23Z</dcterms:created>
  <dc:creator/>
  <dc:description/>
  <dc:language>en-US</dc:language>
  <cp:lastModifiedBy>Teresa Jednoróg</cp:lastModifiedBy>
  <dcterms:modified xsi:type="dcterms:W3CDTF">2002-09-16T10:53:48Z</dcterms:modified>
  <cp:revision>1</cp:revision>
  <dc:subject>materiały na XVIII konferencję Informatyka w Szkole</dc:subject>
  <dc:title>Opolszczyzna 2000 w mojej szkole</dc:title>
</cp:coreProperties>
</file>