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8FA-6208-44C2-AD3B-F882CB97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C39-0FD4-457A-BD61-2CEF353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95A-2E11-4B5B-8AA6-54CF7706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6DA-1BE8-41F0-90AF-38B6C644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1EF-F166-458D-B17A-AE27BC15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BA8C-1C39-4981-8605-E933C35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A5FC-EB87-46C4-95D1-5C5823A5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95E4-2A9F-4C93-969F-2ACD9693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5213-4EA8-415C-BECF-26976CF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97B-F804-4E24-AAD8-40E254E3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577-A439-4607-B80B-3745924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1FA-1CBD-4313-ABC4-84EAE48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F1FC-B567-496E-A979-6B78DC4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602-0F4A-4591-8CC4-720A8EB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9DB4-F33D-46E3-BCE2-D285D7D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0386-B5DB-49E1-BC4F-23D0B354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806-DA29-4DED-AD50-E3CE3759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ACE-31A5-4358-A7F0-2421CCBB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8F1-2FDA-41EF-9404-4A60394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3A1-1409-47E6-A317-9407991A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629-16F3-414E-A7EC-594D207E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7FE-12EE-48ED-A1A1-92B4ADA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932-23D5-4892-A359-4FAC514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BB8-E409-4714-9066-DA42B23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06E-CA28-4CC0-86C5-17C98C497C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6D32-2895-4782-9066-CFE3260BFA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cc"/>
                </a:solidFill>
                <a:latin typeface="Times New Roman"/>
              </a:rPr>
              <a:t>Podatek</a:t>
            </a:r>
            <a:r>
              <a:rPr b="0" lang="en-US" sz="46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0033cc"/>
                </a:solidFill>
                <a:latin typeface="Times New Roman"/>
              </a:rPr>
              <a:t>akcyzowy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57560" y="4006800"/>
            <a:ext cx="359568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Przygotował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Małgorzata POD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03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ak to policzyć?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251928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133800" y="2062080"/>
            <a:ext cx="3454200" cy="2662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64320" y="515772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fon do ……………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datek Akcyzowy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79560" y="2417400"/>
            <a:ext cx="604368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kie wyrob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to jest podatniki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edy powstaje obowiązek podatk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 jest podstawą opodatkowania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że jakieś zwolnie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koro musimy płacić to 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KCY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datek akcyzowy to forma selektywnego podatku pośredniego nakładanego przez państwo na niektóre artykuły spożywcze, przedmioty użytkowe i usługi, wkalkulowana w cenę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43640" y="2135160"/>
            <a:ext cx="2862000" cy="25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33"/>
                </a:solidFill>
                <a:latin typeface="Times New Roman"/>
              </a:rPr>
              <a:t>JAKIE WYROBY?</a:t>
            </a:r>
            <a:br>
              <a:rPr sz="2100"/>
            </a:br>
            <a:r>
              <a:rPr b="1" lang="en-US" sz="1700" spc="-1" strike="noStrike" u="sng">
                <a:solidFill>
                  <a:srgbClr val="330033"/>
                </a:solidFill>
                <a:uFillTx/>
                <a:latin typeface="Times New Roman"/>
              </a:rPr>
              <a:t>Zakres towarów, które podlegają opodatkowaniu podatkiem akcyzowym został określony w ustawie z dnia 8 stycznia 1993 r. o podatku od towarów i usług oraz o podatku akcyzowym (Dz. U. Nr 11, poz. 50 ze zm.). Towary te, nazwane w ustawie "wyrobami akcyzowymi",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45000" y="1846440"/>
            <a:ext cx="2927160" cy="1589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2808360" cy="151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45640" y="560880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roby skórz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4360" y="344808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oc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1838520" cy="165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280200" y="436572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to jest podatniki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godnie z przepisami ustawy podatnikiem podatku akcyzowego są osoby prawne, jednostki organizacyjne nie mające osobowości prawnej i osoby fizyczne będące producentami lub importerami wyrobów akcyzow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z np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187344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47840" y="2781360"/>
            <a:ext cx="54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mporterzy towa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3573360"/>
            <a:ext cx="49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Zleceniobiorcy- w przypadku zle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konania wyrobu akcyz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19480" y="450864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Podmioty wytwarzające paliwa silni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7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iedy powstaje obowiązek podatkowy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przedaż wyrobów akcyzowy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eksport i import wyrobów akcyz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5440" y="1846440"/>
            <a:ext cx="2855880" cy="38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369720"/>
            <a:ext cx="70995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050"/>
                </a:solidFill>
                <a:latin typeface="Times New Roman"/>
              </a:rPr>
              <a:t>Co jest podstawą opodatkowania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producenta - obrót wyrobami akcyzowy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importera - wartość celna powiększona o należne cł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ość wyrobów akcyzowych, jeżeli podatek oblicza się według stawek kwot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4760" y="1701720"/>
            <a:ext cx="123156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792920" y="2349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7800" y="3935520"/>
            <a:ext cx="1149480" cy="136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96360" y="4367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 MOŻE JAKIEŚ ZWOLNIE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3720" y="1917720"/>
            <a:ext cx="36702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767 L -0.125 0.28767 L 0 0 Z">
                                      <p:cBhvr>
                                        <p:cTn id="40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17 L 0.125 0.289 L 0 0.289 L -0.063 0.14517 L 0 0 Z">
                                      <p:cBhvr>
                                        <p:cTn id="41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Skoro </a:t>
            </a:r>
            <a:r>
              <a:rPr b="0" lang="en-US" sz="4200" spc="-1" strike="noStrike">
                <a:solidFill>
                  <a:srgbClr val="ff5050"/>
                </a:solidFill>
                <a:latin typeface="Times New Roman"/>
              </a:rPr>
              <a:t>musimy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płacić TO KIEDY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25 dnia miesiąca następującego po miesiącu, w którym powstał obowiązek podatkow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097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44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5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1:42:26Z</dcterms:created>
  <dc:creator>administrator</dc:creator>
  <dc:description/>
  <dc:language>en-US</dc:language>
  <cp:lastModifiedBy>administrator</cp:lastModifiedBy>
  <dcterms:modified xsi:type="dcterms:W3CDTF">2002-11-22T11:05:19Z</dcterms:modified>
  <cp:revision>7</cp:revision>
  <dc:subject/>
  <dc:title>Podatek Akcyzowy </dc:title>
</cp:coreProperties>
</file>