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6.wmf" ContentType="image/x-wmf"/>
  <Override PartName="/ppt/media/image4.gif" ContentType="image/gif"/>
  <Override PartName="/ppt/media/image5.png" ContentType="image/png"/>
  <Override PartName="/ppt/media/image7.gif" ContentType="image/gif"/>
  <Override PartName="/ppt/media/image8.wmf" ContentType="image/x-wmf"/>
  <Override PartName="/ppt/media/image10.gif" ContentType="image/gi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92D-C05C-45B8-8D26-A723772C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D26-601F-4D60-B7F5-36538D06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783-B699-4E64-AE1A-EEF6D28C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F42-6232-4D19-AC5B-2CB70245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3A4F-6644-4CFB-9A47-AB0F33CE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5DF3-2202-4396-BCEE-138CDF9D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3D83-2BE4-4BB6-8276-E28301BF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D21F-A9FA-443B-A0B7-17EBE96C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B027-08A9-4B7A-ABE2-0B516357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829E-E4DA-4E60-852D-D06D24A3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EB55-5216-40FB-8C1A-35B0CAED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812-A0D8-43AF-9A70-CA70E008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3764-E20D-4A78-8CF8-49AE3C51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AABC-E775-4EB5-BDE0-3D5FFC50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83D7-3E3B-4EFD-A91C-913CF2C9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7B0A-8FA6-4613-AA42-AEC8ECCA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0DB7-73C5-4894-8D44-505C7DCB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61B-D27B-43BA-9571-14693EAB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896-9F91-4572-B09E-837D4A51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89B-A308-42EA-9565-E7AE338B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33E-9D5C-4469-BD8E-72573857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0D8-FD30-4E77-9EDF-F9E386FE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135-E707-4E62-8403-23F1C494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222-25BC-467F-BE94-C65F8071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4CD4-0A19-4985-8366-6EE5D53C5758}" type="slidenum">
              <a:rPr b="0" lang="pl-P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45FC-A161-431E-B9DE-BA7B6B9DC68A}" type="slidenum">
              <a:rPr b="0" lang="pl-P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1.png"/><Relationship Id="rId4" Type="http://schemas.openxmlformats.org/officeDocument/2006/relationships/slide" Target="slide8.xml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39640" y="1915920"/>
            <a:ext cx="6188040" cy="10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dbbd71"/>
                </a:solidFill>
                <a:latin typeface="Arial"/>
              </a:rPr>
              <a:t>Ciągi liczbowe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55280" y="3212640"/>
            <a:ext cx="45370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l-PL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Ciąg arytmetycz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l-PL" sz="32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Ciąg geometrycz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4221000"/>
            <a:ext cx="2232360" cy="17272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3753000"/>
            <a:ext cx="1401840" cy="1403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20000" y="4959360"/>
            <a:ext cx="1244520" cy="1349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4143240" y="3119400"/>
            <a:ext cx="857520" cy="619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143240" y="3119400"/>
            <a:ext cx="857520" cy="61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4143240" y="3119400"/>
            <a:ext cx="857520" cy="619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611280" y="692280"/>
            <a:ext cx="208908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7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2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 flipH="1">
            <a:off x="5076720" y="2781360"/>
            <a:ext cx="1527120" cy="2870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3097080" cy="4608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124000" y="5805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erlin Sans FB Demi"/>
              </a:rPr>
              <a:t>To tylko żarcik 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0.0839 0.009 0.14383 0.016 0.14383 C 0.023 0.14383 0.029 0.0839 0.031 0 C 0.034 0.0839 0.04 0.14383 0.047 0.14383 C 0.054 0.14383 0.06 0.0839 0.062 0 C 0.065 0.0839 0.071 0.14383 0.078 0.14383 C 0.085 0.14383 0.092 0.0839 0.094 0 C 0.096 0.0839 0.102 0.14383 0.11 0.14383 C 0.116 0.14383 0.123 0.0839 0.125 0 C 0.127 0.0839 0.134 0.14383 0.141 0.14383 C 0.148 0.14383 0.154 0.0839 0.156 0 C 0.159 0.0839 0.165 0.14383 0.172 0.14383 C 0.179 0.14383 0.185 0.0839 0.188 0 C 0.19 0.0839 0.196 0.14383 0.203 0.14383 C 0.21 0.14383 0.217 0.0839 0.219 0 C 0.221 0.0839 0.227 0.14383 0.235 0.14383 C 0.242 0.14383 0.248 0.0839 0.25 0 E">
                                      <p:cBhvr>
                                        <p:cTn id="250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8767 L -0.125 0.28767 L 0 0 Z">
                                      <p:cBhvr>
                                        <p:cTn id="25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3673440" cy="21621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268360" y="494172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OWODZENIA NA SPRAWDZIA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5877000"/>
            <a:ext cx="2303640" cy="337320"/>
          </a:xfrm>
          <a:prstGeom prst="rect">
            <a:avLst/>
          </a:prstGeom>
          <a:noFill/>
          <a:ln w="38160">
            <a:solidFill>
              <a:srgbClr val="ffcc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8a500"/>
                </a:solidFill>
                <a:latin typeface="Arial Narrow"/>
              </a:rPr>
              <a:t>opracowała: Ewa Adamczy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6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dbbd71"/>
                </a:solidFill>
                <a:latin typeface="Arial"/>
              </a:rPr>
              <a:t>Definic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2923920"/>
            <a:ext cx="71391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Tahoma"/>
              </a:rPr>
              <a:t>Ciągiem liczbowym</a:t>
            </a: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 nazywamy funkcję opisaną na zbiorze liczb naturalnych dodatnich (N</a:t>
            </a:r>
            <a:r>
              <a:rPr b="0" lang="pl-PL" sz="3200" spc="-1" strike="noStrike" baseline="-25000">
                <a:solidFill>
                  <a:srgbClr val="ffffff"/>
                </a:solidFill>
                <a:latin typeface="Tahoma"/>
              </a:rPr>
              <a:t>+</a:t>
            </a: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3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 rot="904800">
            <a:off x="1115640" y="2997360"/>
            <a:ext cx="7488360" cy="1595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dbbd71"/>
                </a:solidFill>
                <a:latin typeface="Arial"/>
              </a:rPr>
              <a:t>Monotoniczność ciągu liczboweg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6000" y="2565000"/>
            <a:ext cx="68407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erlin Sans FB"/>
              </a:rPr>
              <a:t>jeśli a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Berlin Sans FB"/>
              </a:rPr>
              <a:t>n+1</a:t>
            </a:r>
            <a:r>
              <a:rPr b="0" lang="pl-PL" sz="2800" spc="-1" strike="noStrike">
                <a:solidFill>
                  <a:srgbClr val="000000"/>
                </a:solidFill>
                <a:latin typeface="Berlin Sans FB"/>
              </a:rPr>
              <a:t> – a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Berlin Sans FB"/>
              </a:rPr>
              <a:t>n</a:t>
            </a:r>
            <a:r>
              <a:rPr b="0" lang="pl-PL" sz="2800" spc="-1" strike="noStrike">
                <a:solidFill>
                  <a:srgbClr val="000000"/>
                </a:solidFill>
                <a:latin typeface="Berlin Sans FB"/>
              </a:rPr>
              <a:t> &gt; 0, to ciąg jest rosną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erlin Sans FB"/>
              </a:rPr>
              <a:t>jeśli a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Berlin Sans FB"/>
              </a:rPr>
              <a:t>n+1</a:t>
            </a:r>
            <a:r>
              <a:rPr b="0" lang="pl-PL" sz="2800" spc="-1" strike="noStrike">
                <a:solidFill>
                  <a:srgbClr val="000000"/>
                </a:solidFill>
                <a:latin typeface="Berlin Sans FB"/>
              </a:rPr>
              <a:t> – a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Berlin Sans FB"/>
              </a:rPr>
              <a:t>n</a:t>
            </a:r>
            <a:r>
              <a:rPr b="0" lang="pl-PL" sz="2800" spc="-1" strike="noStrike">
                <a:solidFill>
                  <a:srgbClr val="000000"/>
                </a:solidFill>
                <a:latin typeface="Berlin Sans FB"/>
              </a:rPr>
              <a:t> &lt; 0, to ciąg jest maleją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erlin Sans FB"/>
              </a:rPr>
              <a:t>jeśli a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Berlin Sans FB"/>
              </a:rPr>
              <a:t>n+1</a:t>
            </a:r>
            <a:r>
              <a:rPr b="0" lang="pl-PL" sz="2800" spc="-1" strike="noStrike">
                <a:solidFill>
                  <a:srgbClr val="000000"/>
                </a:solidFill>
                <a:latin typeface="Berlin Sans FB"/>
              </a:rPr>
              <a:t> – a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Berlin Sans FB"/>
              </a:rPr>
              <a:t>n</a:t>
            </a:r>
            <a:r>
              <a:rPr b="0" lang="pl-PL" sz="2800" spc="-1" strike="noStrike">
                <a:solidFill>
                  <a:srgbClr val="000000"/>
                </a:solidFill>
                <a:latin typeface="Berlin Sans FB"/>
              </a:rPr>
              <a:t> = 0, to ciąg jest stał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erlin Sans FB"/>
              </a:rPr>
              <a:t>jeśli a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Berlin Sans FB"/>
              </a:rPr>
              <a:t>n+1</a:t>
            </a:r>
            <a:r>
              <a:rPr b="0" lang="pl-PL" sz="2800" spc="-1" strike="noStrike">
                <a:solidFill>
                  <a:srgbClr val="000000"/>
                </a:solidFill>
                <a:latin typeface="Berlin Sans FB"/>
              </a:rPr>
              <a:t> – a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Berlin Sans FB"/>
              </a:rPr>
              <a:t>n</a:t>
            </a:r>
            <a:r>
              <a:rPr b="0" lang="pl-PL" sz="2800" spc="-1" strike="noStrike">
                <a:solidFill>
                  <a:srgbClr val="000000"/>
                </a:solidFill>
                <a:latin typeface="Berlin Sans FB"/>
              </a:rPr>
              <a:t> &gt;= 0, to ciąg jest niemaleją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erlin Sans FB"/>
              </a:rPr>
              <a:t>jeśli a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Berlin Sans FB"/>
              </a:rPr>
              <a:t>n+1</a:t>
            </a:r>
            <a:r>
              <a:rPr b="0" lang="pl-PL" sz="2800" spc="-1" strike="noStrike">
                <a:solidFill>
                  <a:srgbClr val="000000"/>
                </a:solidFill>
                <a:latin typeface="Berlin Sans FB"/>
              </a:rPr>
              <a:t> – a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Berlin Sans FB"/>
              </a:rPr>
              <a:t>n</a:t>
            </a:r>
            <a:r>
              <a:rPr b="0" lang="pl-PL" sz="2800" spc="-1" strike="noStrike">
                <a:solidFill>
                  <a:srgbClr val="000000"/>
                </a:solidFill>
                <a:latin typeface="Berlin Sans FB"/>
              </a:rPr>
              <a:t> &lt;= 0, to ciąg jest nierosną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6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6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6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6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6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dbbd71"/>
                </a:solidFill>
                <a:latin typeface="Arial"/>
              </a:rPr>
              <a:t>Ciąg arytmetyczn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ahoma"/>
              </a:rPr>
              <a:t>Ciągiem arytmetycznym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nazywamy taki ciąg liczbowy, w którym różnica między wyrazem następnym i poprzednim (z wyjątkiem wyrazu pierwszego i ostatniego) jest wielkością stałą i nazywamy ją różnicą ciągu arytmetyczne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443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124000" y="4292640"/>
                <a:ext cx="4464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lim>
                    </m:limLow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0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55640" y="5877000"/>
            <a:ext cx="64764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925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192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192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192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dbbd71"/>
                </a:solidFill>
                <a:latin typeface="Arial"/>
              </a:rPr>
              <a:t>Wykres ciągu arytmetyczneg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ykresem ciągu liczbowego jest zbiór punktó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00320" y="2706840"/>
          <a:ext cx="4732200" cy="340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2706840"/>
                    <a:ext cx="473220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400"/>
                            </p:stCondLst>
                            <p:childTnLst>
                              <p:par>
                                <p:cTn id="1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901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dbbd71"/>
                </a:solidFill>
                <a:latin typeface="Arial"/>
              </a:rPr>
              <a:t>Monotoniczność ciągu arytmetyczneg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7280" y="2420640"/>
            <a:ext cx="67788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jeśli r &gt; 0 to ciąg jest rosnący (a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ahoma"/>
              </a:rPr>
              <a:t>n+1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- a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ahoma"/>
              </a:rPr>
              <a:t>n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&gt; 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jeśli r &lt; 0 to ciąg jest malejący (a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ahoma"/>
              </a:rPr>
              <a:t>n+1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- a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ahoma"/>
              </a:rPr>
              <a:t>n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&lt; 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jeśli r = 0 to ciąg jest stały (a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ahoma"/>
              </a:rPr>
              <a:t>n+1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- a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Tahoma"/>
              </a:rPr>
              <a:t>n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= 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7005600" cy="91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path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Motion origin="layout" path="M 0 0 L 0.073 -0.09722 L 0.177 -0.09722 L 0.25 0 L 0.25 0.13851 L 0.177 0.23573 L 0.073 0.23573 L 0 0.13851 L 0 0 Z">
                                      <p:cBhvr>
                                        <p:cTn id="145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300"/>
                            </p:stCondLst>
                            <p:childTnLst>
                              <p:par>
                                <p:cTn id="147" nodeType="afterEffect" fill="hold" presetClass="path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Motion origin="layout" path="M 0 0 L 0.073 -0.09722 L 0.177 -0.09722 L 0.25 0 L 0.25 0.13851 L 0.177 0.23573 L 0.073 0.23573 L 0 0.13851 L 0 0 Z">
                                      <p:cBhvr>
                                        <p:cTn id="148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100"/>
                            </p:stCondLst>
                            <p:childTnLst>
                              <p:par>
                                <p:cTn id="150" nodeType="afterEffect" fill="hold" presetClass="path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Motion origin="layout" path="M 0 0 L 0.073 -0.09722 L 0.177 -0.09722 L 0.25 0 L 0.25 0.13851 L 0.177 0.23573 L 0.073 0.23573 L 0 0.13851 L 0 0 Z">
                                      <p:cBhvr>
                                        <p:cTn id="151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dbbd71"/>
                </a:solidFill>
                <a:latin typeface="Arial"/>
              </a:rPr>
              <a:t>Ciąg arytmetyczny - wz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347640" y="1916280"/>
            <a:ext cx="208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 – a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 = 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58920" y="3862440"/>
                <a:ext cx="69134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3132000" y="3068640"/>
            <a:ext cx="244980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 = a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 + (n – 1)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dbbd71"/>
                </a:solidFill>
                <a:latin typeface="Arial"/>
              </a:rPr>
              <a:t>Ciąg geometryczn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ahoma"/>
              </a:rPr>
              <a:t>Ciągiem geometrycznym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nazywamy taki ciąg liczbowy, w którym każdy następny wyraz (z wyjątkiem wyrazu pierwszego i ostatniego) powstaje przez pomnożenie wyrazu poprzedniego przez stałą liczbę q, którą nazywamy ilorazem ciągu geometryczneg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435640" y="3573360"/>
                <a:ext cx="25066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lim>
                    </m:limLow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812000" y="5892840"/>
            <a:ext cx="64764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dbbd71"/>
                </a:solidFill>
                <a:latin typeface="Arial"/>
              </a:rPr>
              <a:t>Ciąg geometryczny - wz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203640" y="4005360"/>
                <a:ext cx="22446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348000" y="2133720"/>
                <a:ext cx="1832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76720" y="3068640"/>
                <a:ext cx="2116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200"/>
                            </p:stCondLst>
                            <p:childTnLst>
                              <p:par>
                                <p:cTn id="2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15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155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115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115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200"/>
                            </p:stCondLst>
                            <p:childTnLst>
                              <p:par>
                                <p:cTn id="2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15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155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115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115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200"/>
                            </p:stCondLst>
                            <p:childTnLst>
                              <p:par>
                                <p:cTn id="2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15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1155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115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115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8:45:15Z</dcterms:created>
  <dc:creator>Administrator</dc:creator>
  <dc:description/>
  <dc:language>en-US</dc:language>
  <cp:lastModifiedBy>Administrator</cp:lastModifiedBy>
  <dcterms:modified xsi:type="dcterms:W3CDTF">2002-11-22T10:55:28Z</dcterms:modified>
  <cp:revision>46</cp:revision>
  <dc:subject/>
  <dc:title>Matematyk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