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jpeg" ContentType="image/jpeg"/>
  <Override PartName="/ppt/media/image25.png" ContentType="image/png"/>
  <Override PartName="/ppt/media/image24.jpeg" ContentType="image/jpeg"/>
  <Override PartName="/ppt/media/image5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0.png" ContentType="image/png"/>
  <Override PartName="/ppt/media/image28.wmf" ContentType="image/x-wmf"/>
  <Override PartName="/ppt/media/image15.jpeg" ContentType="image/jpeg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DA7C-2A24-4860-8AB7-B3E9E2D2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1C26-40A0-4289-B325-A51789EF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5386E-D9F2-447B-8B85-A3CE325B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BAE2E-0362-42A4-B9F0-71F77FA3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65F8B-E1BE-4CE1-8E7E-519287E0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E52A2-B13D-465E-892F-C20783FC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753AD-2CE7-4957-A7DB-DE576C7D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AC68F-CDDF-4409-B15D-0B317E11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17553-9C63-4FD1-A390-C54FC02D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9A862-B15A-419D-8B70-A2FD1F08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278AA-3259-4BBF-A92C-334E97B3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56D55-21AC-438B-AE7C-15D49893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FD94-E3BC-41F1-89D5-ADD65407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43348-C93C-43B4-9414-10D41BCB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D6A61-5756-4BC9-8DAE-99C82043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C46D0-B13B-4580-81EE-A367467A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948B3-A91C-4129-871F-5005157A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912E3-9840-4310-A54B-8F67698F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52EE2-8777-46A7-A4A0-92053BE9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0CFC0-C8B6-485A-99EB-65FEA516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AE980-ED7B-4E68-AAB9-A7AEB883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82531-5235-415B-B314-0BE741C6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0BD21-EE76-40E8-B32A-81465521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B598-5F03-4589-BA6E-AB4B17A3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F341E-3040-4B7E-AAA9-C1E7597A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4F671-B6B0-4823-9FB3-9A184CC9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4FE1B-BA4F-4F7B-A003-E6FC7F23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64291-1918-4215-AC38-A6C375C0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F8EF9-20CD-4699-88AC-3E3FF534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51F7B-EF21-4C87-B6CF-8921C6E8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4ABDA-DFDB-4264-BFB3-A6029AD0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07287-5F8B-4ADC-82E1-B99C5947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70F61-936B-4F3B-AFDD-DE0446AD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53DCD-6707-4652-B127-6B550D80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373D-DC8B-43F8-9CCB-C5398715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31B75-201A-4309-8E9F-66FE97AA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E4E3E-6D1F-4865-8713-2E050099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01111-2FFE-4479-9E8E-0F41692D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56E785-6330-47EB-A14B-8A05F321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B2784-1A6C-4292-A978-7CB32D98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311A9-AF53-459C-BC42-4104960A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1F24D-4656-4E70-9DA4-C8BCA1BE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E1764-16D1-46AA-A1A6-CD6B0CC1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EB9D9-57DC-4D84-B9D3-3F936172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0CAA5-EDAC-418D-9D02-EE15CB9A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DE20-F568-477C-A5DA-1F726BD8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E390B-C9C9-4DFC-916B-4C2643FD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882BD-157D-4EEF-9251-DDDEAFEB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2AA2C-3148-4630-BFE7-774CEE50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30DE3-A157-4152-BD41-43BC72A6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9DE13-6341-4CF6-8094-A7DE6B8F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4413D7-D761-449D-BEEC-5A68F7AC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C60056-2B95-4F00-AE6B-6E8B777E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0FA850-5E6B-4C36-9A07-CE203A77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423035-755D-46F7-95EE-FE659DD9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88D42C-24F3-4E21-8382-94430630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9BBD-CC17-4DEE-95E1-B40E8EA8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7F46F9-BCDD-42BC-9514-87C1FC0B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1A32D-D8FA-423D-962A-A77AEAAC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49E901-68D6-4F77-BA1C-AB2F8D7A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38A895-FD63-4B16-BDD0-5215770E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B04454-B53F-42B0-979C-0D040933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EB2173-8EF8-4998-BF9F-C257F0A6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DACE89-47B1-445C-BEDE-18E66FFAC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F13E3A-3CC7-44F9-B7A3-FF42F999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ECCEBC-AF35-4178-94E8-4AD8CC20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4DE6A7-62C4-4408-9EF8-0DF07253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562A-E549-480F-9B5F-13788BFD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B0088C-E52C-4232-B6BF-C419E43A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13841C-B36C-453D-A070-291DC242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4117EA-7E81-46B0-8B3B-B7AFBFDC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153EB8-BC6B-466E-A2E9-62DC2721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8DDD6B-8982-4BB0-86FF-03CB4C3E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65710F-8952-4EC8-9DFB-C4BBE6AF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94130E-BF13-4A57-A6D8-AC2646E4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EE44BA-C96E-4365-AA40-D3451E18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717D97-436B-45E4-B2F3-A7BFA01A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8B2FE75-3632-4ACA-9BB6-6C5BBD41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32C9-DE08-4A10-B903-FB91A228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37EBB5D-C15F-4F92-87FC-F669DEFF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0D76E6D-4D71-4105-9D30-ACFF75FB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4E80124-0A1C-4DAD-9AD3-A26FBEED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E3BDB36-463C-4127-AB41-8D9722EB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4DBB666-40EA-4518-93BA-E1D63B21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19909BD-C3DB-4A9E-AA6D-76D263A3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7C553F0-54E1-482A-A227-851B0642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C7852AD-DD8E-430C-AABB-F761362E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E202D5C-8E2F-4D78-B64E-73F5F601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4CC3887-0DF0-4311-8034-486D5372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3215-24FC-4ED9-89C4-B9879366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A118CD1-E975-46B1-A3B3-88824398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7C26B4-6A26-4C1B-80CF-52DF3E13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2AFB7A-5A58-42C0-AE00-2AD50D1E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8D9B88-D31E-4A99-A2E3-6F46E8C7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33E24C-5A74-407E-9961-51F4B824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0940D5-17BC-456D-B9DD-481120B7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0EB66A-F3D7-4E84-8CE7-C79E12FF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DB5F20-E8C5-4FA0-AFA6-EBAE0280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B33AC3-1556-48A8-AEFE-7DA4B59E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D63EA2-CFAA-4F3B-8070-D6915FD9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ABE7-417F-4129-B7D1-F88C06D9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22E977-EDBD-45A2-85AA-27940F15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BDF8AE-BD32-4753-B13A-8D75B6E3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FF23D5-FB14-493A-AD00-F3FCCC35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5BD657-9F5C-424F-AC7C-5CE904AE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AADA57-6721-4193-BCE8-BD46047D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DF80E5-F4F9-4436-A85F-EBE77670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0E2EFC-7906-4F99-8295-5A7EB03A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49EBFB-8C8D-4BD5-A7F6-071946A2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28A38B-6B13-42A5-A0E1-5D9A00AF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20739F-ACF8-4068-A022-BC122119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EC9C-25F9-479D-A1A7-2A7A156E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27C5-0488-4DDD-9AA9-C0610905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ADBFDD-D416-4336-94D7-0008D1B8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B579B6-D2B4-4AE6-A4EE-7B919038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67259C-55A2-45EE-AB0F-FBA0F231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E3CA80-C101-402D-8CD1-90551D894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57F340-FF87-4064-ADC9-FC571ED5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234148-E246-4B79-AFF1-6BA8E269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6496FE-9FC1-4582-87AA-582A1921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94D968-C6D5-49B4-B4EA-4E02C0C0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EF87EE-EC35-4C5C-869C-1D97F1CA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D92452-F8CA-4391-A7B0-EABA6C79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8FDA-6244-4317-80CB-8C9ED889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A5AA70-776B-41FA-A91C-54A25AB9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09F23A-6279-4049-9988-AF141E43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FC7092-0020-42AE-9AED-C9771EDC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A2FF57-701B-42FD-B521-90B598FB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C29499-8F81-4AAA-AB97-16AADC46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4741D6-528B-4D55-9FBB-7D4B6415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C1D7EF-4DB5-4F56-AC3B-14085BE7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6E8A-A32F-4F80-9E0F-2CAA7C48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7631-B6B1-4CA6-BD94-A777054D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9868-1B44-4378-9D72-7C663C4D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24213-F307-482E-A0E6-F18E08CF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E6B88-9D44-41B6-957E-06A34A04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81043-8DD0-4D3E-9AD6-227C6848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01832-668F-4FD4-B9F9-A3546D75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75F8F-1935-4EE3-880B-CDA85471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980A-4AD5-4847-B113-E03A5907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A5E07-4D32-4020-BA55-0B6535DD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A1EF4-2898-446E-BB39-98A80448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60791-B01F-46AC-BDC2-DC6BF32B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7EC09-3894-4B24-8394-94228182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6739E-D8B7-452E-8368-544F85D4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2FA07-2C84-4D9F-B80D-BFD5C84A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D44F2-FF4F-41E3-A14A-D2E68B5A2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1C63E-4FAF-4D27-B192-7A72E1EC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1696D-24A1-48A3-8C59-D597B0EF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4AA26-BA13-4CA1-9D01-B20418B0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8463-EFAD-480A-90FD-6ED65602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B07BF-5FE6-4DB4-B3FE-8B0D349E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45218-95B4-4EF6-BAB5-646D2D6B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5DE16-259B-4FD3-B5C8-B9D48299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E42BB-59CE-4D13-B192-CC0E1EEC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12025-26D1-4AA4-93D0-22F9B03A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B22E4-F00B-4680-B21F-E2959CCD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DFE16-D82F-4ACD-B897-21328D1B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71267-223A-4EFF-ACBC-C8D4F0B0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0A2EC-0F36-40E4-835B-3D2958FA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4AD78-D5DA-4D0D-A491-544126CC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6506-35D5-4A22-AFAC-2A93C1DA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6601B-049C-40C5-8A2E-3F19E317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55563-D667-418E-A42C-6AAA6AA5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67E4B-E695-43B7-8296-4B6ED8E1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92530-F6ED-4C0B-8420-5FB29505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B5E44-263F-42A7-B363-15974A71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CF4ED-A19E-47A2-AEDF-65FA6420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79F20-41AA-4FB9-B5CC-F0490459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C9078-6767-4219-A8DB-D0B57774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3312A-2A93-4FC7-994E-8797715D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45582-F8AB-4D18-9AAB-1AAA5066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4B87-8866-4000-B18F-5E3C0946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FE6E9-307E-478B-854B-2CA882AF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A03C7-AAB4-4A73-A7A3-47205740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27237-64E3-4D5A-A623-6D205626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3918F-C555-4306-BE81-6150CA55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13A9A-F5DF-4051-97D2-608A38DB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3F01A-F71D-4274-AC2B-9AA964B6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2B46D-8506-447F-80F3-0B550450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F597E-DC4F-4C8A-AE6C-3540FECF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0D92C-867C-438D-897C-FCCB5116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067C1-AE00-42E7-B90F-807E225C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7D2E-4B4C-4CFE-AB56-E626AC90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852EC-E6F2-4B8A-AE25-3F006F4D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5BF9C-8AC6-472B-A0CB-EFBBD0D7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BD80C-C984-4AD5-8C6D-485FB9DA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83CB2-4636-4BFF-A672-C4A27DA5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E5029-6D1B-41D6-B27B-49F35C76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001FA-ECD8-4E09-99B9-63C56D7D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3D2C6-EAB9-41C3-8DE7-EA84C59F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E387A-751D-40ED-98F8-C1D63B16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5488C-BD84-425B-BE00-126DFCF2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F5765-5EB8-41BF-8F4C-C5DF1B75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D517-E927-4192-9639-55A58B11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2ED4A-90DA-4577-A25E-5E135657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A423A-6E3D-4505-9F93-39D9D702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F6C4C-06A6-411F-BC05-84DF5F6A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D016B-A349-4E30-88D7-D9C115E15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21F29-F3ED-4980-B7EB-308C7DFD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5564E3-8DDE-4F80-A910-27FCE124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AC1F80-D1FE-49D3-BC99-471F861C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CCB875-D90E-466F-B4D6-CAF7FE7E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26CF88-6ADD-47F2-A077-69D8D536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E5638A-C3BB-4A32-B82B-71C083D9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F535-7CB3-4939-A8D0-5C47F286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6A5948-B61E-4121-A6B7-A94C6C10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A761D6-C619-4FFD-B367-C3F8D8B1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5D887A-AB65-49B8-8775-A5A7AC51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6A1A82-E7E2-4E60-8100-A379ABF6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B7CA00-BB23-4ED0-B644-CD112671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D89FF2-686E-4200-A2E7-C1A66695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2888CD-2512-4817-BF1B-B885E59A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E835F-B444-44C7-8B47-3D020457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ABB84-8625-46CA-AC43-D39AFCF7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34821-9228-4FC6-8AFA-5446662B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21.xml"/><Relationship Id="rId35" Type="http://schemas.openxmlformats.org/officeDocument/2006/relationships/slideLayout" Target="../slideLayouts/slideLayout122.xml"/><Relationship Id="rId36" Type="http://schemas.openxmlformats.org/officeDocument/2006/relationships/slideLayout" Target="../slideLayouts/slideLayout123.xml"/><Relationship Id="rId37" Type="http://schemas.openxmlformats.org/officeDocument/2006/relationships/slideLayout" Target="../slideLayouts/slideLayout124.xml"/><Relationship Id="rId38" Type="http://schemas.openxmlformats.org/officeDocument/2006/relationships/slideLayout" Target="../slideLayouts/slideLayout125.xml"/><Relationship Id="rId39" Type="http://schemas.openxmlformats.org/officeDocument/2006/relationships/slideLayout" Target="../slideLayouts/slideLayout126.xml"/><Relationship Id="rId40" Type="http://schemas.openxmlformats.org/officeDocument/2006/relationships/slideLayout" Target="../slideLayouts/slideLayout127.xml"/><Relationship Id="rId41" Type="http://schemas.openxmlformats.org/officeDocument/2006/relationships/slideLayout" Target="../slideLayouts/slideLayout128.xml"/><Relationship Id="rId42" Type="http://schemas.openxmlformats.org/officeDocument/2006/relationships/slideLayout" Target="../slideLayouts/slideLayout129.xml"/><Relationship Id="rId43" Type="http://schemas.openxmlformats.org/officeDocument/2006/relationships/slideLayout" Target="../slideLayouts/slideLayout130.xml"/><Relationship Id="rId44" Type="http://schemas.openxmlformats.org/officeDocument/2006/relationships/slideLayout" Target="../slideLayouts/slideLayout131.xml"/><Relationship Id="rId4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33.xml"/><Relationship Id="rId32" Type="http://schemas.openxmlformats.org/officeDocument/2006/relationships/slideLayout" Target="../slideLayouts/slideLayout134.xml"/><Relationship Id="rId33" Type="http://schemas.openxmlformats.org/officeDocument/2006/relationships/slideLayout" Target="../slideLayouts/slideLayout135.xml"/><Relationship Id="rId34" Type="http://schemas.openxmlformats.org/officeDocument/2006/relationships/slideLayout" Target="../slideLayouts/slideLayout136.xml"/><Relationship Id="rId35" Type="http://schemas.openxmlformats.org/officeDocument/2006/relationships/slideLayout" Target="../slideLayouts/slideLayout137.xml"/><Relationship Id="rId36" Type="http://schemas.openxmlformats.org/officeDocument/2006/relationships/slideLayout" Target="../slideLayouts/slideLayout138.xml"/><Relationship Id="rId37" Type="http://schemas.openxmlformats.org/officeDocument/2006/relationships/slideLayout" Target="../slideLayouts/slideLayout139.xml"/><Relationship Id="rId38" Type="http://schemas.openxmlformats.org/officeDocument/2006/relationships/slideLayout" Target="../slideLayouts/slideLayout140.xml"/><Relationship Id="rId39" Type="http://schemas.openxmlformats.org/officeDocument/2006/relationships/slideLayout" Target="../slideLayouts/slideLayout141.xml"/><Relationship Id="rId40" Type="http://schemas.openxmlformats.org/officeDocument/2006/relationships/slideLayout" Target="../slideLayouts/slideLayout142.xml"/><Relationship Id="rId41" Type="http://schemas.openxmlformats.org/officeDocument/2006/relationships/slideLayout" Target="../slideLayouts/slideLayout143.xml"/><Relationship Id="rId42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BE06-2904-4BF4-881F-EBB1E5112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81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82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85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876E-4D52-46F3-879A-BA8F6EB8A4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3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3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3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4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4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5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7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3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3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4CE7-C8E0-4D11-9F71-28E27CDD33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4"/>
    <p:sldLayoutId id="2147483780" r:id="rId35"/>
    <p:sldLayoutId id="2147483781" r:id="rId36"/>
    <p:sldLayoutId id="2147483782" r:id="rId37"/>
    <p:sldLayoutId id="2147483783" r:id="rId38"/>
    <p:sldLayoutId id="2147483784" r:id="rId39"/>
    <p:sldLayoutId id="2147483785" r:id="rId40"/>
    <p:sldLayoutId id="2147483786" r:id="rId41"/>
    <p:sldLayoutId id="2147483787" r:id="rId42"/>
    <p:sldLayoutId id="2147483788" r:id="rId43"/>
    <p:sldLayoutId id="2147483789" r:id="rId44"/>
    <p:sldLayoutId id="2147483790" r:id="rId4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72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73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3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73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4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5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5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7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5A9C-209C-459A-B7C7-5A59EC8735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1"/>
    <p:sldLayoutId id="2147483793" r:id="rId32"/>
    <p:sldLayoutId id="2147483794" r:id="rId33"/>
    <p:sldLayoutId id="2147483795" r:id="rId34"/>
    <p:sldLayoutId id="2147483796" r:id="rId35"/>
    <p:sldLayoutId id="2147483797" r:id="rId36"/>
    <p:sldLayoutId id="2147483798" r:id="rId37"/>
    <p:sldLayoutId id="2147483799" r:id="rId38"/>
    <p:sldLayoutId id="2147483800" r:id="rId39"/>
    <p:sldLayoutId id="2147483801" r:id="rId40"/>
    <p:sldLayoutId id="2147483802" r:id="rId41"/>
    <p:sldLayoutId id="2147483803" r:id="rId42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2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2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5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1E80-5C76-418C-9E8F-26BC1E9AF8E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90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90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92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66B1-C8BE-442E-A2EE-E4F64C73FA7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6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977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2" name="PlaceHolder 1"/>
          <p:cNvSpPr>
            <a:spLocks noGrp="1"/>
          </p:cNvSpPr>
          <p:nvPr>
            <p:ph type="sldNum" idx="4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C4B9-6CFE-49B4-A372-D850E3875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dt" idx="4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 type="ftr" idx="4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3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234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26C7-7041-4063-BC8D-D10F87C5E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 type="sldNum" idx="5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F6EB-6500-469E-97FD-581B2E9597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4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495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28A1-1460-4107-8C2F-1F1F68CE97D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1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1542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70D1-7C23-4DF9-9B50-FE3C7DD14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E17F-A5E1-46A9-951E-F16C9E12D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3817-AA05-4261-8A74-6C9C62201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DCAC-9480-46B0-8E18-6ACB6261044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0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B29C-98DA-4FCE-B0B8-9B4280978B7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8EE8-9C79-4099-8957-AA326C216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2BF2-1E70-4D06-A6F9-22DBF369C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52B5-6E88-4DDF-9B39-31F06D2F32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7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AUSTRALI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rótka informac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826920" y="6237360"/>
            <a:ext cx="132408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Artur Wanick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med" advTm="2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as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4" name="" descr=""/>
          <p:cNvPicPr/>
          <p:nvPr/>
        </p:nvPicPr>
        <p:blipFill>
          <a:blip r:embed="rId1"/>
          <a:stretch/>
        </p:blipFill>
        <p:spPr>
          <a:xfrm>
            <a:off x="3203640" y="2347920"/>
            <a:ext cx="3960720" cy="2976480"/>
          </a:xfrm>
          <a:prstGeom prst="rect">
            <a:avLst/>
          </a:prstGeom>
          <a:ln w="0">
            <a:noFill/>
          </a:ln>
        </p:spPr>
      </p:pic>
      <p:sp>
        <p:nvSpPr>
          <p:cNvPr id="1625" name=""/>
          <p:cNvSpPr txBox="1"/>
          <p:nvPr/>
        </p:nvSpPr>
        <p:spPr>
          <a:xfrm>
            <a:off x="900000" y="4653000"/>
            <a:ext cx="129708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ydney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26" name="" descr=""/>
          <p:cNvPicPr/>
          <p:nvPr/>
        </p:nvPicPr>
        <p:blipFill>
          <a:blip r:embed="rId4"/>
          <a:stretch/>
        </p:blipFill>
        <p:spPr>
          <a:xfrm>
            <a:off x="3059280" y="2349360"/>
            <a:ext cx="4535280" cy="2995920"/>
          </a:xfrm>
          <a:prstGeom prst="rect">
            <a:avLst/>
          </a:prstGeom>
          <a:ln w="0">
            <a:noFill/>
          </a:ln>
        </p:spPr>
      </p:pic>
      <p:sp>
        <p:nvSpPr>
          <p:cNvPr id="1627" name=""/>
          <p:cNvSpPr txBox="1"/>
          <p:nvPr/>
        </p:nvSpPr>
        <p:spPr>
          <a:xfrm>
            <a:off x="4067280" y="5950080"/>
            <a:ext cx="25336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ydney Opera House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2000">
    <p:zoom dir="in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77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770" fill="hold"/>
                                        <p:tgtEl>
                                          <p:spTgt spid="16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7" dur="77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9" dur="77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16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8" dur="20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odstawowe informacje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wierzchnia 7682,3 tys. km2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9,1 mln mieszkańców (200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Średnia gęstość zaludnienia 2,5 osoby/km2, najsłabiej zaludnione państwo świa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ział administracyjny: 6 stanów i 2 terytoria federalne mające autonomię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ęzyk urzędowy angielsk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dnostka monetarna 1 dolar australijski = 100 centów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0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1674720" cy="274788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zoom dir="in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7" name="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4364280" cy="3298680"/>
          </a:xfrm>
          <a:prstGeom prst="rect">
            <a:avLst/>
          </a:prstGeom>
          <a:ln w="0">
            <a:noFill/>
          </a:ln>
        </p:spPr>
      </p:pic>
      <p:sp>
        <p:nvSpPr>
          <p:cNvPr id="1588" name=""/>
          <p:cNvSpPr/>
          <p:nvPr/>
        </p:nvSpPr>
        <p:spPr>
          <a:xfrm flipH="1">
            <a:off x="6227640" y="2781360"/>
            <a:ext cx="1224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3780000" y="1125360"/>
            <a:ext cx="792000" cy="115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3059280" y="476280"/>
            <a:ext cx="13046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olska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7020000" y="2133720"/>
            <a:ext cx="13050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b2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ustralia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b2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200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ahoma"/>
              </a:rPr>
              <a:t>The Commonwealth of Australia</a:t>
            </a:r>
            <a:br>
              <a:rPr sz="3600"/>
            </a:br>
            <a:r>
              <a:rPr b="0" lang="pl-PL" sz="3600" spc="-1" strike="noStrike">
                <a:solidFill>
                  <a:srgbClr val="ffffff"/>
                </a:solidFill>
                <a:latin typeface="Tahoma"/>
              </a:rPr>
              <a:t>Związek Australijsk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3" name="" descr=""/>
          <p:cNvPicPr/>
          <p:nvPr/>
        </p:nvPicPr>
        <p:blipFill>
          <a:blip r:embed="rId2"/>
          <a:stretch/>
        </p:blipFill>
        <p:spPr>
          <a:xfrm>
            <a:off x="1619280" y="2565360"/>
            <a:ext cx="6121440" cy="352584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zoom dir="in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The Commonwealth of Australia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wiązek Australij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5" name="" descr=""/>
          <p:cNvPicPr/>
          <p:nvPr/>
        </p:nvPicPr>
        <p:blipFill>
          <a:blip r:embed="rId1"/>
          <a:stretch/>
        </p:blipFill>
        <p:spPr>
          <a:xfrm>
            <a:off x="1332000" y="2492280"/>
            <a:ext cx="4176720" cy="3363840"/>
          </a:xfrm>
          <a:prstGeom prst="rect">
            <a:avLst/>
          </a:prstGeom>
          <a:ln w="0">
            <a:noFill/>
          </a:ln>
        </p:spPr>
      </p:pic>
      <p:pic>
        <p:nvPicPr>
          <p:cNvPr id="1596" name="" descr=""/>
          <p:cNvPicPr/>
          <p:nvPr/>
        </p:nvPicPr>
        <p:blipFill>
          <a:blip r:embed="rId2"/>
          <a:stretch/>
        </p:blipFill>
        <p:spPr>
          <a:xfrm>
            <a:off x="6156360" y="2565360"/>
            <a:ext cx="2190600" cy="1130400"/>
          </a:xfrm>
          <a:prstGeom prst="rect">
            <a:avLst/>
          </a:prstGeom>
          <a:ln w="0">
            <a:noFill/>
          </a:ln>
        </p:spPr>
      </p:pic>
      <p:sp>
        <p:nvSpPr>
          <p:cNvPr id="1597" name=""/>
          <p:cNvSpPr/>
          <p:nvPr/>
        </p:nvSpPr>
        <p:spPr>
          <a:xfrm>
            <a:off x="6227640" y="4292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olic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6300720" y="5157720"/>
            <a:ext cx="1441440" cy="7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anberra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2000">
    <p:zoom dir="in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MBO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0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3456000" cy="3049560"/>
          </a:xfrm>
          <a:prstGeom prst="rect">
            <a:avLst/>
          </a:prstGeom>
          <a:ln w="0">
            <a:noFill/>
          </a:ln>
        </p:spPr>
      </p:pic>
      <p:pic>
        <p:nvPicPr>
          <p:cNvPr id="1601" name="" descr=""/>
          <p:cNvPicPr/>
          <p:nvPr/>
        </p:nvPicPr>
        <p:blipFill>
          <a:blip r:embed="rId2"/>
          <a:stretch/>
        </p:blipFill>
        <p:spPr>
          <a:xfrm>
            <a:off x="2916360" y="2492280"/>
            <a:ext cx="3528720" cy="33307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zoom dir="in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7d47d"/>
                </a:solidFill>
                <a:latin typeface="Arial"/>
              </a:rPr>
              <a:t>The Outback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603" name="" descr=""/>
          <p:cNvPicPr/>
          <p:nvPr/>
        </p:nvPicPr>
        <p:blipFill>
          <a:blip r:embed="rId1"/>
          <a:stretch/>
        </p:blipFill>
        <p:spPr>
          <a:xfrm>
            <a:off x="2484360" y="1374840"/>
            <a:ext cx="3672000" cy="3051000"/>
          </a:xfrm>
          <a:prstGeom prst="rect">
            <a:avLst/>
          </a:prstGeom>
          <a:ln w="0">
            <a:noFill/>
          </a:ln>
        </p:spPr>
      </p:pic>
      <p:sp>
        <p:nvSpPr>
          <p:cNvPr id="1604" name=""/>
          <p:cNvSpPr/>
          <p:nvPr/>
        </p:nvSpPr>
        <p:spPr>
          <a:xfrm>
            <a:off x="2627280" y="5013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The Kimberl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5" name="" descr=""/>
          <p:cNvPicPr/>
          <p:nvPr/>
        </p:nvPicPr>
        <p:blipFill>
          <a:blip r:embed="rId2"/>
          <a:stretch/>
        </p:blipFill>
        <p:spPr>
          <a:xfrm>
            <a:off x="2484360" y="1293840"/>
            <a:ext cx="3959280" cy="3308400"/>
          </a:xfrm>
          <a:prstGeom prst="rect">
            <a:avLst/>
          </a:prstGeom>
          <a:ln w="0">
            <a:noFill/>
          </a:ln>
        </p:spPr>
      </p:pic>
      <p:sp>
        <p:nvSpPr>
          <p:cNvPr id="1606" name=""/>
          <p:cNvSpPr/>
          <p:nvPr/>
        </p:nvSpPr>
        <p:spPr>
          <a:xfrm>
            <a:off x="4572000" y="5229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Avington S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">
    <p:zoom dir="in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6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dkryw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08" name="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2725920" cy="3433680"/>
          </a:xfrm>
          <a:prstGeom prst="rect">
            <a:avLst/>
          </a:prstGeom>
          <a:ln w="0">
            <a:noFill/>
          </a:ln>
        </p:spPr>
      </p:pic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James Coo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Pierwsza wypraw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1768-1771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0" name=""/>
          <p:cNvSpPr/>
          <p:nvPr/>
        </p:nvSpPr>
        <p:spPr>
          <a:xfrm>
            <a:off x="5292720" y="3068640"/>
            <a:ext cx="21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"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borygen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1612" name="" descr=""/>
          <p:cNvPicPr/>
          <p:nvPr/>
        </p:nvPicPr>
        <p:blipFill>
          <a:blip r:embed="rId1"/>
          <a:stretch/>
        </p:blipFill>
        <p:spPr>
          <a:xfrm>
            <a:off x="5651640" y="1700280"/>
            <a:ext cx="2292120" cy="1728720"/>
          </a:xfrm>
          <a:prstGeom prst="rect">
            <a:avLst/>
          </a:prstGeom>
          <a:ln w="0">
            <a:noFill/>
          </a:ln>
        </p:spPr>
      </p:pic>
      <p:pic>
        <p:nvPicPr>
          <p:cNvPr id="1613" name="" descr=""/>
          <p:cNvPicPr/>
          <p:nvPr/>
        </p:nvPicPr>
        <p:blipFill>
          <a:blip r:embed="rId2"/>
          <a:stretch/>
        </p:blipFill>
        <p:spPr>
          <a:xfrm>
            <a:off x="4356000" y="4149720"/>
            <a:ext cx="3272040" cy="2192400"/>
          </a:xfrm>
          <a:prstGeom prst="rect">
            <a:avLst/>
          </a:prstGeom>
          <a:ln w="0">
            <a:noFill/>
          </a:ln>
        </p:spPr>
      </p:pic>
      <p:pic>
        <p:nvPicPr>
          <p:cNvPr id="1614" name="" descr=""/>
          <p:cNvPicPr/>
          <p:nvPr/>
        </p:nvPicPr>
        <p:blipFill>
          <a:blip r:embed="rId3"/>
          <a:stretch/>
        </p:blipFill>
        <p:spPr>
          <a:xfrm>
            <a:off x="1042920" y="2206800"/>
            <a:ext cx="2522520" cy="2523960"/>
          </a:xfrm>
          <a:prstGeom prst="rect">
            <a:avLst/>
          </a:prstGeom>
          <a:ln w="0">
            <a:noFill/>
          </a:ln>
        </p:spPr>
      </p:pic>
      <p:sp>
        <p:nvSpPr>
          <p:cNvPr id="1615" name=""/>
          <p:cNvSpPr/>
          <p:nvPr/>
        </p:nvSpPr>
        <p:spPr>
          <a:xfrm>
            <a:off x="1258920" y="5157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Ulu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">
    <p:zoom dir="in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4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Kolonizacj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617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2014560" cy="2228760"/>
          </a:xfrm>
          <a:prstGeom prst="rect">
            <a:avLst/>
          </a:prstGeom>
          <a:ln w="0">
            <a:noFill/>
          </a:ln>
        </p:spPr>
      </p:pic>
      <p:pic>
        <p:nvPicPr>
          <p:cNvPr id="1618" name="" descr=""/>
          <p:cNvPicPr/>
          <p:nvPr/>
        </p:nvPicPr>
        <p:blipFill>
          <a:blip r:embed="rId2"/>
          <a:stretch/>
        </p:blipFill>
        <p:spPr>
          <a:xfrm>
            <a:off x="4414680" y="692280"/>
            <a:ext cx="2149560" cy="2376360"/>
          </a:xfrm>
          <a:prstGeom prst="rect">
            <a:avLst/>
          </a:prstGeom>
          <a:ln w="0">
            <a:noFill/>
          </a:ln>
        </p:spPr>
      </p:pic>
      <p:pic>
        <p:nvPicPr>
          <p:cNvPr id="1619" name="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814480" cy="2346480"/>
          </a:xfrm>
          <a:prstGeom prst="rect">
            <a:avLst/>
          </a:prstGeom>
          <a:ln w="0">
            <a:noFill/>
          </a:ln>
        </p:spPr>
      </p:pic>
      <p:sp>
        <p:nvSpPr>
          <p:cNvPr id="1620" name=""/>
          <p:cNvSpPr/>
          <p:nvPr/>
        </p:nvSpPr>
        <p:spPr>
          <a:xfrm>
            <a:off x="3348000" y="6165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Yarra Valley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003640" y="2637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Hunter Vall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539640" y="422100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Clare Vall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">
    <p:zoom dir="in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08:13:06Z</dcterms:created>
  <dc:creator>Administrator</dc:creator>
  <dc:description/>
  <dc:language>en-US</dc:language>
  <cp:lastModifiedBy>Administrator</cp:lastModifiedBy>
  <dcterms:modified xsi:type="dcterms:W3CDTF">2002-11-22T11:02:46Z</dcterms:modified>
  <cp:revision>6</cp:revision>
  <dc:subject/>
  <dc:title>AUSTRALIA</dc:title>
</cp:coreProperties>
</file>