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png" ContentType="image/png"/>
  <Override PartName="/ppt/media/image3.gif" ContentType="image/gif"/>
  <Override PartName="/ppt/media/image27.png" ContentType="image/png"/>
  <Override PartName="/ppt/media/image5.jpeg" ContentType="image/jpeg"/>
  <Override PartName="/ppt/media/image25.png" ContentType="image/png"/>
  <Override PartName="/ppt/media/image32.gif" ContentType="image/gif"/>
  <Override PartName="/ppt/media/image8.jpeg" ContentType="image/jpeg"/>
  <Override PartName="/ppt/media/image13.jpeg" ContentType="image/jpeg"/>
  <Override PartName="/ppt/media/image4.png" ContentType="image/png"/>
  <Override PartName="/ppt/media/image12.jpeg" ContentType="image/jpeg"/>
  <Override PartName="/ppt/media/image28.png" ContentType="image/png"/>
  <Override PartName="/ppt/media/image31.wmf" ContentType="image/x-wmf"/>
  <Override PartName="/ppt/media/image7.jpeg" ContentType="image/jpeg"/>
  <Override PartName="/ppt/media/image11.png" ContentType="image/png"/>
  <Override PartName="/ppt/media/image9.jpeg" ContentType="image/jpeg"/>
  <Override PartName="/ppt/media/image23.wmf" ContentType="image/x-wmf"/>
  <Override PartName="/ppt/media/image30.gif" ContentType="image/gif"/>
  <Override PartName="/ppt/media/image29.png" ContentType="image/png"/>
  <Override PartName="/ppt/media/image2.jpeg" ContentType="image/jpeg"/>
  <Override PartName="/ppt/media/image1.jpeg" ContentType="image/jpeg"/>
  <Override PartName="/ppt/media/image10.jpeg" ContentType="image/jpeg"/>
  <Override PartName="/ppt/media/image14.png" ContentType="image/png"/>
  <Override PartName="/ppt/media/image15.png" ContentType="image/png"/>
  <Override PartName="/ppt/media/image16.jpeg" ContentType="image/jpeg"/>
  <Override PartName="/ppt/media/image20.wmf" ContentType="image/x-wmf"/>
  <Override PartName="/ppt/media/image17.png" ContentType="image/png"/>
  <Override PartName="/ppt/media/image18.png" ContentType="image/png"/>
  <Override PartName="/ppt/media/image6.jpeg" ContentType="image/jpeg"/>
  <Override PartName="/ppt/media/image21.wmf" ContentType="image/x-wmf"/>
  <Override PartName="/ppt/media/image19.png" ContentType="image/png"/>
  <Override PartName="/ppt/media/image22.wmf" ContentType="image/x-wmf"/>
  <Override PartName="/ppt/media/image2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B806-9E42-43F0-9AD5-26072F8A7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1ECD-A97B-44C3-8851-19D076721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9037-8CBB-44C3-9712-AAE3E0E4B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AAEB-00C2-42B6-874B-904E3D6DB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3FBD6-31E2-439A-83DF-7EFAB8BC9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38089-35FA-4F65-B17C-977598F25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F2145-7943-4814-9307-DF6508ED8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F74B8-B57F-4F35-9850-CFC6E03AB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31D66-6C53-45C9-B3D3-B56E4DE3D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A800A-F15E-4420-A0F6-C0BDFBB1A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06B83-431B-44A4-B722-91D1F062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A111-5440-409D-8118-5F3D8B188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E0941-FA55-4077-9A0F-A0079E49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9D517-E754-4A57-8227-A4367E07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2352F-C3AB-48AB-9FC6-F68B83D5C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2F427-FFFF-43E9-897F-77F7E89EF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82EA7-A994-4996-BAB3-A9930FF0A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4689-1277-4F21-AC23-CC6965D82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4460-4D14-449F-9A1D-D4E0A4BFB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FE90-8CAE-4F08-ADBB-963F47889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3A7C-65E9-4E1A-B777-8418C2AAE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9226-D79C-4E5C-88E5-3B3304A7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0473-0B4C-48B7-8C5D-3E82EA5EC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6021-BCE9-4AC2-A3CE-61DD0C9E9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D7690-FC49-4B92-9127-0B29B755C039}" type="slidenum">
              <a:rPr b="0" lang="pl-PL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CBD46-CDE2-489F-8FBB-E7CF5804DCBB}" type="slidenum">
              <a:rPr b="0" lang="pl-PL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wmf"/><Relationship Id="rId3" Type="http://schemas.openxmlformats.org/officeDocument/2006/relationships/image" Target="../media/image32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image" Target="../media/image3.gif"/><Relationship Id="rId15" Type="http://schemas.openxmlformats.org/officeDocument/2006/relationships/image" Target="../media/image3.gif"/><Relationship Id="rId16" Type="http://schemas.openxmlformats.org/officeDocument/2006/relationships/image" Target="../media/image3.gif"/><Relationship Id="rId17" Type="http://schemas.openxmlformats.org/officeDocument/2006/relationships/image" Target="../media/image3.gif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wmf"/><Relationship Id="rId6" Type="http://schemas.openxmlformats.org/officeDocument/2006/relationships/image" Target="../media/image24.wmf"/><Relationship Id="rId7" Type="http://schemas.openxmlformats.org/officeDocument/2006/relationships/image" Target="../media/image24.wmf"/><Relationship Id="rId8" Type="http://schemas.openxmlformats.org/officeDocument/2006/relationships/image" Target="../media/image24.wmf"/><Relationship Id="rId9" Type="http://schemas.openxmlformats.org/officeDocument/2006/relationships/image" Target="../media/image24.wmf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solidFill>
            <a:srgbClr val="0000ff">
              <a:alpha val="13000"/>
            </a:srgbClr>
          </a:solidFill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UND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ESRE</a:t>
            </a: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PUBLIK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EUT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CH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LAND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NSER NACHBA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 spokes="2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1403280" y="44280"/>
            <a:ext cx="65534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Times New Roman"/>
              </a:rPr>
              <a:t>Deutsche Nationalhymn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1125360"/>
            <a:ext cx="44276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omic Sans MS"/>
              </a:rPr>
              <a:t>Deutschland, Deutschland über alles,</a:t>
            </a:r>
            <a:br>
              <a:rPr sz="1600"/>
            </a:br>
            <a:r>
              <a:rPr b="1" lang="pl-PL" sz="1600" spc="-1" strike="noStrike">
                <a:solidFill>
                  <a:srgbClr val="000000"/>
                </a:solidFill>
                <a:latin typeface="Comic Sans MS"/>
              </a:rPr>
              <a:t>Über alles in der Welt,</a:t>
            </a:r>
            <a:br>
              <a:rPr sz="1600"/>
            </a:br>
            <a:r>
              <a:rPr b="1" lang="pl-PL" sz="1600" spc="-1" strike="noStrike">
                <a:solidFill>
                  <a:srgbClr val="000000"/>
                </a:solidFill>
                <a:latin typeface="Comic Sans MS"/>
              </a:rPr>
              <a:t>Wenn es stets zum Schutz und Trutze</a:t>
            </a:r>
            <a:br>
              <a:rPr sz="1600"/>
            </a:br>
            <a:r>
              <a:rPr b="1" lang="pl-PL" sz="1600" spc="-1" strike="noStrike">
                <a:solidFill>
                  <a:srgbClr val="000000"/>
                </a:solidFill>
                <a:latin typeface="Comic Sans MS"/>
              </a:rPr>
              <a:t>Brüderlich zusammenhält.</a:t>
            </a:r>
            <a:br>
              <a:rPr sz="1600"/>
            </a:br>
            <a:r>
              <a:rPr b="1" lang="pl-PL" sz="1600" spc="-1" strike="noStrike">
                <a:solidFill>
                  <a:srgbClr val="000000"/>
                </a:solidFill>
                <a:latin typeface="Comic Sans MS"/>
              </a:rPr>
              <a:t>Von der Maas bis zu der Memel,</a:t>
            </a:r>
            <a:br>
              <a:rPr sz="1600"/>
            </a:br>
            <a:r>
              <a:rPr b="1" lang="pl-PL" sz="1600" spc="-1" strike="noStrike">
                <a:solidFill>
                  <a:srgbClr val="000000"/>
                </a:solidFill>
                <a:latin typeface="Comic Sans MS"/>
              </a:rPr>
              <a:t>Von der Etsch bis zu dem Belt,</a:t>
            </a:r>
            <a:br>
              <a:rPr sz="1600"/>
            </a:br>
            <a:r>
              <a:rPr b="1" lang="pl-PL" sz="1600" spc="-1" strike="noStrike">
                <a:solidFill>
                  <a:srgbClr val="000000"/>
                </a:solidFill>
                <a:latin typeface="Comic Sans MS"/>
              </a:rPr>
              <a:t>Deutschland, Deutschland über alles,</a:t>
            </a:r>
            <a:br>
              <a:rPr sz="1600"/>
            </a:br>
            <a:r>
              <a:rPr b="1" lang="pl-PL" sz="1600" spc="-1" strike="noStrike">
                <a:solidFill>
                  <a:srgbClr val="000000"/>
                </a:solidFill>
                <a:latin typeface="Comic Sans MS"/>
              </a:rPr>
              <a:t>Über alles in der Welt!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788640" y="2133720"/>
            <a:ext cx="3911400" cy="26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omic Sans MS"/>
              </a:rPr>
              <a:t>Deutsche Frauen, deutsche Treue,</a:t>
            </a:r>
            <a:br>
              <a:rPr sz="1600"/>
            </a:br>
            <a:r>
              <a:rPr b="1" lang="pl-PL" sz="1600" spc="-1" strike="noStrike">
                <a:solidFill>
                  <a:srgbClr val="000000"/>
                </a:solidFill>
                <a:latin typeface="Comic Sans MS"/>
              </a:rPr>
              <a:t>Deutscher Wein und deutscher Sang</a:t>
            </a:r>
            <a:br>
              <a:rPr sz="1600"/>
            </a:br>
            <a:r>
              <a:rPr b="1" lang="pl-PL" sz="1600" spc="-1" strike="noStrike">
                <a:solidFill>
                  <a:srgbClr val="000000"/>
                </a:solidFill>
                <a:latin typeface="Comic Sans MS"/>
              </a:rPr>
              <a:t>Sollen in der Welt behalten</a:t>
            </a:r>
            <a:br>
              <a:rPr sz="1600"/>
            </a:br>
            <a:r>
              <a:rPr b="1" lang="pl-PL" sz="1600" spc="-1" strike="noStrike">
                <a:solidFill>
                  <a:srgbClr val="000000"/>
                </a:solidFill>
                <a:latin typeface="Comic Sans MS"/>
              </a:rPr>
              <a:t>Ihren alten, schönen Klang,</a:t>
            </a:r>
            <a:br>
              <a:rPr sz="1600"/>
            </a:br>
            <a:r>
              <a:rPr b="1" lang="pl-PL" sz="1600" spc="-1" strike="noStrike">
                <a:solidFill>
                  <a:srgbClr val="000000"/>
                </a:solidFill>
                <a:latin typeface="Comic Sans MS"/>
              </a:rPr>
              <a:t>Und zu edler Tat begeistern</a:t>
            </a:r>
            <a:br>
              <a:rPr sz="1600"/>
            </a:br>
            <a:r>
              <a:rPr b="1" lang="pl-PL" sz="1600" spc="-1" strike="noStrike">
                <a:solidFill>
                  <a:srgbClr val="000000"/>
                </a:solidFill>
                <a:latin typeface="Comic Sans MS"/>
              </a:rPr>
              <a:t>Unser ganzes Leben lang -</a:t>
            </a:r>
            <a:br>
              <a:rPr sz="1600"/>
            </a:br>
            <a:r>
              <a:rPr b="1" lang="pl-PL" sz="1600" spc="-1" strike="noStrike">
                <a:solidFill>
                  <a:srgbClr val="000000"/>
                </a:solidFill>
                <a:latin typeface="Comic Sans MS"/>
              </a:rPr>
              <a:t>Deutsche Frauen, deutsche Treue,</a:t>
            </a:r>
            <a:br>
              <a:rPr sz="1600"/>
            </a:br>
            <a:r>
              <a:rPr b="1" lang="pl-PL" sz="1600" spc="-1" strike="noStrike">
                <a:solidFill>
                  <a:srgbClr val="000000"/>
                </a:solidFill>
                <a:latin typeface="Comic Sans MS"/>
              </a:rPr>
              <a:t>Deutscher Wein und deutscher Sang</a:t>
            </a:r>
            <a:r>
              <a:rPr b="0" lang="pl-PL" sz="1800" spc="-1" strike="noStrike">
                <a:solidFill>
                  <a:srgbClr val="000000"/>
                </a:solidFill>
                <a:latin typeface="Comic Sans MS"/>
              </a:rPr>
              <a:t>!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115240" y="4365720"/>
            <a:ext cx="3729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omic Sans MS"/>
              </a:rPr>
              <a:t>Einigkeit und Recht und Freiheit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mic Sans MS"/>
              </a:rPr>
              <a:t>Für das deutsche Vaterland!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mic Sans MS"/>
              </a:rPr>
              <a:t>Danach lasst uns alle sterben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mic Sans MS"/>
              </a:rPr>
              <a:t>Brüderlich mit Herzen und Hand.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mic Sans MS"/>
              </a:rPr>
              <a:t>Einigkeit und Recht und Freiheit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mic Sans MS"/>
              </a:rPr>
              <a:t>Sind des Glückes Unterpfand -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mic Sans MS"/>
              </a:rPr>
              <a:t>Blüh im Glanze dieses Glückes,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mic Sans MS"/>
              </a:rPr>
              <a:t>Blühe, deutsches Vaterland!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24000" y="328464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2124000" y="4437000"/>
            <a:ext cx="2664000" cy="195912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mph" presetID="22" repeatCount="10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1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1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1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41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7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418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1" dur="56369" fill="hold"/>
                                        <p:tgtEl>
                                          <p:spTgt spid="2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1258920" y="890640"/>
            <a:ext cx="6985080" cy="492444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3635280" y="2708280"/>
            <a:ext cx="2232000" cy="12826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468360" y="549360"/>
            <a:ext cx="3000240" cy="170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 N D E</a:t>
            </a:r>
            <a:endParaRPr b="0" lang="en-US" sz="9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1" name=""/>
          <p:cNvSpPr/>
          <p:nvPr/>
        </p:nvSpPr>
        <p:spPr>
          <a:xfrm>
            <a:off x="6306840" y="5878440"/>
            <a:ext cx="103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6c6c6"/>
                </a:solidFill>
                <a:latin typeface="Comic Sans MS"/>
              </a:rPr>
              <a:t>J.Matusia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583 -0.07121 C 0.20173 -0.0719 0.20764 -0.0719 0.21337 -0.07329 C 0.21666 -0.07399 0.22274 -0.07745 0.22274 -0.07745 C 0.23038 -0.08439 0.22569 -0.08092 0.23715 -0.08601 C 0.23871 -0.0867 0.24184 -0.08809 0.24184 -0.08809 C 0.24965 -0.09595 0.25173 -0.09526 0.26094 -0.09873 C 0.26753 -0.10127 0.27326 -0.10497 0.28003 -0.10705 C 0.29635 -0.11861 0.27413 -0.10404 0.29583 -0.11352 C 0.29757 -0.11422 0.29878 -0.11699 0.30052 -0.11768 C 0.32673 -0.12832 0.35451 -0.12948 0.3816 -0.13248 C 0.51024 -0.13086 0.50347 -0.13595 0.57517 -0.12416 C 0.58125 -0.12138 0.58646 -0.11768 0.59271 -0.1156 C 0.59739 -0.11144 0.60191 -0.11052 0.60694 -0.10705 C 0.61719 -0.10011 0.62448 -0.08647 0.63559 -0.08185 C 0.63958 -0.07768 0.64444 -0.0756 0.64826 -0.07121 C 0.65035 -0.0689 0.65104 -0.0652 0.65295 -0.06266 C 0.65434 -0.06081 0.65642 -0.06011 0.65781 -0.05849 C 0.66059 -0.05526 0.66302 -0.05133 0.66562 -0.04786 C 0.67048 -0.04138 0.67708 -0.0363 0.6816 -0.0289 C 0.68472 -0.02404 0.68889 -0.01757 0.69114 -0.01202 C 0.69548 -0.00162 0.69739 0.00948 0.70382 0.01758 C 0.7066 0.02682 0.7092 0.03492 0.71337 0.04301 C 0.72066 0.07214 0.72517 0.10266 0.73229 0.13179 C 0.73142 0.20139 0.73281 0.27492 0.7276 0.34521 C 0.72604 0.36509 0.721 0.38659 0.71805 0.40648 C 0.71458 0.42937 0.71371 0.45295 0.71163 0.4763 C 0.71024 0.50867 0.70746 0.53943 0.70382 0.57133 C 0.7026 0.58151 0.70121 0.59815 0.69739 0.6074 C 0.69184 0.62058 0.68212 0.63145 0.67361 0.64116 C 0.65035 0.66798 0.6335 0.68948 0.60225 0.69411 C 0.56215 0.69295 0.54288 0.69411 0.51007 0.68555 C 0.50087 0.67931 0.49323 0.677 0.48316 0.67492 C 0.44166 0.65688 0.40191 0.65573 0.35781 0.65388 C 0.33785 0.64948 0.31753 0.6437 0.29739 0.64116 C 0.28698 0.63561 0.27656 0.63538 0.26562 0.63284 C 0.24548 0.62821 0.22569 0.62359 0.20538 0.62012 C 0.19132 0.61758 0.20052 0.61873 0.18785 0.61573 C 0.1816 0.61411 0.16892 0.61156 0.16892 0.61156 C 0.13715 0.59122 0.09462 0.59307 0.06094 0.59052 C 0.05 0.58844 0.03993 0.58428 0.02916 0.58197 C 0.01701 0.57919 0.00434 0.57734 -0.00729 0.57133 C -0.02066 0.56463 -0.03316 0.557 -0.04705 0.55237 C -0.05972 0.54127 -0.07136 0.52856 -0.08351 0.51653 C -0.08733 0.50844 -0.08802 0.5022 -0.09306 0.49526 C -0.09566 0.48116 -0.1007 0.4689 -0.10417 0.45526 C -0.10469 0.42289 -0.11111 0.29989 -0.10261 0.26914 C -0.09601 0.24486 -0.08768 0.22382 -0.07552 0.2037 C -0.07205 0.19792 -0.06754 0.19284 -0.06441 0.18659 C -0.06233 0.18243 -0.05816 0.17411 -0.05816 0.17411 C -0.05625 0.16648 -0.0533 0.157 -0.0533 0.14867 E">
                                      <p:cBhvr>
                                        <p:cTn id="427" dur="2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34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BUNDESLÄNDE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8920" y="691920"/>
            <a:ext cx="79930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omic Sans MS"/>
              </a:rPr>
              <a:t>Die Bundeslepublik Deutschland besteh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omic Sans MS"/>
              </a:rPr>
              <a:t>Aus 16 Bundesländer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403280" y="2162160"/>
            <a:ext cx="367200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3300"/>
                </a:solidFill>
                <a:latin typeface="Comic Sans MS"/>
              </a:rPr>
              <a:t>Bayern</a:t>
            </a:r>
            <a:r>
              <a:rPr b="0" lang="pl-PL" sz="22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3300"/>
                </a:solidFill>
                <a:latin typeface="Comic Sans MS"/>
              </a:rPr>
              <a:t>Baden-Württemberg</a:t>
            </a:r>
            <a:r>
              <a:rPr b="0" lang="pl-PL" sz="22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3300"/>
                </a:solidFill>
                <a:latin typeface="Comic Sans MS"/>
              </a:rPr>
              <a:t>Rheinland-Pfalz</a:t>
            </a:r>
            <a:r>
              <a:rPr b="0" lang="pl-PL" sz="22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3300"/>
                </a:solidFill>
                <a:latin typeface="Comic Sans MS"/>
              </a:rPr>
              <a:t>Saarland</a:t>
            </a:r>
            <a:r>
              <a:rPr b="0" lang="pl-PL" sz="22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3300"/>
                </a:solidFill>
                <a:latin typeface="Comic Sans MS"/>
              </a:rPr>
              <a:t>Hessen</a:t>
            </a:r>
            <a:r>
              <a:rPr b="0" lang="pl-PL" sz="22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3300"/>
                </a:solidFill>
                <a:latin typeface="Comic Sans MS"/>
              </a:rPr>
              <a:t>Nordrhein-Westfalen</a:t>
            </a:r>
            <a:r>
              <a:rPr b="0" lang="pl-PL" sz="22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3300"/>
                </a:solidFill>
                <a:latin typeface="Comic Sans MS"/>
              </a:rPr>
              <a:t>Niedersachsen</a:t>
            </a:r>
            <a:r>
              <a:rPr b="0" lang="pl-PL" sz="22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3300"/>
                </a:solidFill>
                <a:latin typeface="Comic Sans MS"/>
              </a:rPr>
              <a:t>Hamburg</a:t>
            </a:r>
            <a:r>
              <a:rPr b="0" lang="pl-PL" sz="22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3300"/>
                </a:solidFill>
                <a:latin typeface="Comic Sans MS"/>
              </a:rPr>
              <a:t>Bremen</a:t>
            </a:r>
            <a:r>
              <a:rPr b="0" lang="pl-PL" sz="22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3300"/>
                </a:solidFill>
                <a:latin typeface="Comic Sans MS"/>
              </a:rPr>
              <a:t>Schleswig-Holstein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pl-PL" sz="2200" spc="-1" strike="noStrike">
                <a:solidFill>
                  <a:srgbClr val="ff3300"/>
                </a:solidFill>
                <a:latin typeface="Comic Sans MS"/>
              </a:rPr>
              <a:t>Berlin</a:t>
            </a:r>
            <a:r>
              <a:rPr b="0" lang="pl-P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"/>
          <p:cNvSpPr/>
          <p:nvPr/>
        </p:nvSpPr>
        <p:spPr>
          <a:xfrm>
            <a:off x="4719240" y="4005360"/>
            <a:ext cx="4252320" cy="20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703dff"/>
                </a:solidFill>
                <a:latin typeface="Comic Sans MS"/>
              </a:rPr>
              <a:t>Sachsen</a:t>
            </a:r>
            <a:r>
              <a:rPr b="0" lang="pl-PL" sz="22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703dff"/>
                </a:solidFill>
                <a:latin typeface="Comic Sans MS"/>
              </a:rPr>
              <a:t>Thüringen</a:t>
            </a:r>
            <a:r>
              <a:rPr b="0" lang="pl-PL" sz="22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703dff"/>
                </a:solidFill>
                <a:latin typeface="Comic Sans MS"/>
              </a:rPr>
              <a:t>Sachsen-Anhalt</a:t>
            </a:r>
            <a:r>
              <a:rPr b="0" lang="pl-PL" sz="22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703dff"/>
                </a:solidFill>
                <a:latin typeface="Comic Sans MS"/>
              </a:rPr>
              <a:t>Brandenburg</a:t>
            </a:r>
            <a:r>
              <a:rPr b="0" lang="pl-PL" sz="22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703dff"/>
                </a:solidFill>
                <a:latin typeface="Comic Sans MS"/>
              </a:rPr>
              <a:t>Mecklenburg-Vorprommern</a:t>
            </a:r>
            <a:r>
              <a:rPr b="0" lang="pl-PL" sz="18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19358400">
            <a:off x="382320" y="1988280"/>
            <a:ext cx="21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8000"/>
                </a:solidFill>
                <a:latin typeface="Comic Sans MS"/>
              </a:rPr>
              <a:t>Alte Bundeslä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2478000">
            <a:off x="6253200" y="3357360"/>
            <a:ext cx="23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cc3300"/>
                </a:solidFill>
                <a:latin typeface="Comic Sans MS"/>
              </a:rPr>
              <a:t>Neue Bundeslä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" dur="10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79280" y="333360"/>
            <a:ext cx="3934080" cy="51814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657320" y="501480"/>
            <a:ext cx="315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8000"/>
                </a:solidFill>
                <a:latin typeface="Comic Sans MS"/>
              </a:rPr>
              <a:t>Die deutsche Hauptstadt 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1" lang="pl-PL" sz="1800" spc="-1" strike="noStrike">
                <a:solidFill>
                  <a:srgbClr val="ff3300"/>
                </a:solidFill>
                <a:latin typeface="Comic Sans MS"/>
              </a:rPr>
              <a:t>BER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3634920" y="981000"/>
            <a:ext cx="2089080" cy="93528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93600" y="1798560"/>
            <a:ext cx="36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mic Sans MS"/>
              </a:rPr>
              <a:t>Deutschland hat 81 Mio</a:t>
            </a:r>
            <a:r>
              <a:rPr b="0" lang="pl-PL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6453360" y="2297160"/>
            <a:ext cx="1143000" cy="11523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6669000" y="2513160"/>
            <a:ext cx="1143000" cy="11523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5"/>
          <a:stretch/>
        </p:blipFill>
        <p:spPr>
          <a:xfrm>
            <a:off x="6885000" y="2728800"/>
            <a:ext cx="1143000" cy="11527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6"/>
          <a:stretch/>
        </p:blipFill>
        <p:spPr>
          <a:xfrm>
            <a:off x="7101000" y="2944800"/>
            <a:ext cx="1143000" cy="11523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7"/>
          <a:stretch/>
        </p:blipFill>
        <p:spPr>
          <a:xfrm>
            <a:off x="7316640" y="3160800"/>
            <a:ext cx="1143000" cy="11523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8"/>
          <a:stretch/>
        </p:blipFill>
        <p:spPr>
          <a:xfrm>
            <a:off x="4211640" y="2276640"/>
            <a:ext cx="1143000" cy="11523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9"/>
          <a:stretch/>
        </p:blipFill>
        <p:spPr>
          <a:xfrm>
            <a:off x="4427640" y="2565360"/>
            <a:ext cx="1143000" cy="11527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0"/>
          <a:stretch/>
        </p:blipFill>
        <p:spPr>
          <a:xfrm>
            <a:off x="4643280" y="2781360"/>
            <a:ext cx="1143000" cy="1152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11"/>
          <a:stretch/>
        </p:blipFill>
        <p:spPr>
          <a:xfrm>
            <a:off x="4859280" y="2997360"/>
            <a:ext cx="1143000" cy="11523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12"/>
          <a:stretch/>
        </p:blipFill>
        <p:spPr>
          <a:xfrm>
            <a:off x="5075280" y="3213000"/>
            <a:ext cx="1143000" cy="11527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13"/>
          <a:stretch/>
        </p:blipFill>
        <p:spPr>
          <a:xfrm>
            <a:off x="5435640" y="2349360"/>
            <a:ext cx="1143000" cy="11527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14"/>
          <a:stretch/>
        </p:blipFill>
        <p:spPr>
          <a:xfrm>
            <a:off x="5796000" y="2781360"/>
            <a:ext cx="1143000" cy="11523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15"/>
          <a:stretch/>
        </p:blipFill>
        <p:spPr>
          <a:xfrm>
            <a:off x="6156360" y="3213000"/>
            <a:ext cx="1143000" cy="11527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16"/>
          <a:stretch/>
        </p:blipFill>
        <p:spPr>
          <a:xfrm>
            <a:off x="6516720" y="3645000"/>
            <a:ext cx="1143000" cy="11523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7"/>
          <a:stretch/>
        </p:blipFill>
        <p:spPr>
          <a:xfrm>
            <a:off x="6877080" y="4076640"/>
            <a:ext cx="1143000" cy="11527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4846320" y="5276880"/>
            <a:ext cx="324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EINWOH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0"/>
                            </p:stCondLst>
                            <p:childTnLst>
                              <p:par>
                                <p:cTn id="16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258920" y="0"/>
            <a:ext cx="614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en-US" sz="2400" spc="-1" strike="noStrike">
                <a:solidFill>
                  <a:srgbClr val="008000"/>
                </a:solidFill>
                <a:latin typeface="Comic Sans MS"/>
              </a:rPr>
              <a:t>DIE DEUTSCHE HAUPTSTAD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419640" y="404640"/>
            <a:ext cx="1847520" cy="10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ERLI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79280" y="4221000"/>
            <a:ext cx="3627720" cy="24084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4140360" y="4221000"/>
            <a:ext cx="3528720" cy="24480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179280" y="1197000"/>
            <a:ext cx="1998720" cy="26636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173760" y="2453400"/>
            <a:ext cx="1683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120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                              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5"/>
          <a:stretch/>
        </p:blipFill>
        <p:spPr>
          <a:xfrm>
            <a:off x="6156360" y="476280"/>
            <a:ext cx="2592360" cy="31687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6"/>
          <a:stretch/>
        </p:blipFill>
        <p:spPr>
          <a:xfrm>
            <a:off x="3348000" y="1557360"/>
            <a:ext cx="2087640" cy="23032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519120" y="6093000"/>
            <a:ext cx="273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00"/>
                </a:solidFill>
                <a:latin typeface="Comic Sans MS"/>
              </a:rPr>
              <a:t>Das Brandenburger 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59320" y="378864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omic Sans MS"/>
              </a:rPr>
              <a:t>Siegessäule</a:t>
            </a:r>
            <a:r>
              <a:rPr b="0" lang="pl-PL" sz="1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50920" y="764280"/>
            <a:ext cx="20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omic Sans MS"/>
              </a:rPr>
              <a:t>Schloss Bellev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72000" y="436572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omic Sans MS"/>
              </a:rPr>
              <a:t>Reichst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409080" y="3067920"/>
            <a:ext cx="197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omic Sans MS"/>
              </a:rPr>
              <a:t>Alexanderplatz</a:t>
            </a:r>
            <a:r>
              <a:rPr b="0" lang="pl-PL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7"/>
          <a:stretch/>
        </p:blipFill>
        <p:spPr>
          <a:xfrm>
            <a:off x="395280" y="101520"/>
            <a:ext cx="1494000" cy="6634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7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7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8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8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8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8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8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1979640" y="44280"/>
            <a:ext cx="5057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b8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IE WICHTIGSTEN PERSONEN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b8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59280" y="765000"/>
            <a:ext cx="30193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N DEUTSCHLAND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79280" y="1341360"/>
            <a:ext cx="2808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UNDEDSPRÄSIDE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250920" y="1700280"/>
            <a:ext cx="1847880" cy="17143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77400" y="3357720"/>
            <a:ext cx="22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omic Sans MS"/>
              </a:rPr>
              <a:t>Johannes R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435640" y="1413000"/>
            <a:ext cx="2808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UNDEDSKANZL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6012000" y="1733400"/>
            <a:ext cx="1944720" cy="183996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5992920" y="3500280"/>
            <a:ext cx="31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omic Sans MS"/>
              </a:rPr>
              <a:t>Gerhard Schrö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1979640" y="3932280"/>
            <a:ext cx="4608360" cy="295272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2594520" y="6308640"/>
            <a:ext cx="275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omic Sans MS"/>
              </a:rPr>
              <a:t>Die deutsche Regier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0" dur="2000" fill="hold"/>
                                        <p:tgtEl>
                                          <p:spTgt spid="1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4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2" dur="2000" fill="hold"/>
                                        <p:tgtEl>
                                          <p:spTgt spid="19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8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8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8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 rot="246000">
            <a:off x="1116000" y="0"/>
            <a:ext cx="58863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ie berühmten Deutschen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1268280"/>
            <a:ext cx="371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Albert Einstein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179280" y="1700280"/>
            <a:ext cx="2076480" cy="22953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3613320" y="1413000"/>
            <a:ext cx="363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omic Sans MS"/>
              </a:rPr>
              <a:t>Johann Wolfgang von Goeth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4356000" y="1773360"/>
            <a:ext cx="1773360" cy="230508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1326240" y="4245120"/>
            <a:ext cx="268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Comic Sans MS"/>
              </a:rPr>
              <a:t>Ludwig van Beethoven</a:t>
            </a:r>
            <a:r>
              <a:rPr b="0" lang="pl-PL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4"/>
          <a:stretch/>
        </p:blipFill>
        <p:spPr>
          <a:xfrm>
            <a:off x="1835280" y="4724280"/>
            <a:ext cx="1585800" cy="194472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5076000" y="429264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omic Sans MS"/>
              </a:rPr>
              <a:t>Günter Gra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5"/>
          <a:stretch/>
        </p:blipFill>
        <p:spPr>
          <a:xfrm>
            <a:off x="4932360" y="4687920"/>
            <a:ext cx="2016000" cy="178596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4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4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901080" y="501480"/>
            <a:ext cx="67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UM ETWAS IN DEUTSCHLAND ZU KAUFEN, BRAUCHEN W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0" y="1052640"/>
            <a:ext cx="1922400" cy="19429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1800360" y="1052640"/>
            <a:ext cx="1922400" cy="19429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3600360" y="1052640"/>
            <a:ext cx="1922400" cy="19429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5"/>
          <a:stretch/>
        </p:blipFill>
        <p:spPr>
          <a:xfrm>
            <a:off x="5400720" y="1052640"/>
            <a:ext cx="1922400" cy="19429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6"/>
          <a:stretch/>
        </p:blipFill>
        <p:spPr>
          <a:xfrm>
            <a:off x="7221600" y="1052640"/>
            <a:ext cx="1922400" cy="19429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7"/>
          <a:stretch/>
        </p:blipFill>
        <p:spPr>
          <a:xfrm>
            <a:off x="1979640" y="3090960"/>
            <a:ext cx="5688000" cy="3173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9" name=""/>
          <p:cNvSpPr txBox="1"/>
          <p:nvPr/>
        </p:nvSpPr>
        <p:spPr>
          <a:xfrm>
            <a:off x="684360" y="4005360"/>
            <a:ext cx="8064360" cy="187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URO IST DAS NEUE DEUTSCHE GEL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ransition>
    <p:wheel spokes="2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8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8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8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8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670480" y="620640"/>
            <a:ext cx="387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omic Sans MS"/>
              </a:rPr>
              <a:t>Die Deutschen gehen in die Kir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79720" y="580536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45%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64600" y="587700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7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360400" y="595008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,1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571880" y="575784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,1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2556000" y="1125360"/>
            <a:ext cx="1242720" cy="18241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47560" cy="2376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7020000" y="1628640"/>
            <a:ext cx="1814400" cy="10717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930680" y="5181480"/>
            <a:ext cx="144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3300"/>
                </a:solidFill>
                <a:latin typeface="Comic Sans MS"/>
              </a:rPr>
              <a:t>evangel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542760" y="518148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8000"/>
                </a:solidFill>
                <a:latin typeface="Comic Sans MS"/>
              </a:rPr>
              <a:t>kathol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172840" y="5253120"/>
            <a:ext cx="103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03dff"/>
                </a:solidFill>
                <a:latin typeface="Comic Sans MS"/>
              </a:rPr>
              <a:t>Mos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91640" y="5253120"/>
            <a:ext cx="79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b200"/>
                </a:solidFill>
                <a:latin typeface="Comic Sans MS"/>
              </a:rPr>
              <a:t>Ju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5"/>
          <a:stretch/>
        </p:blipFill>
        <p:spPr>
          <a:xfrm>
            <a:off x="5003640" y="1197000"/>
            <a:ext cx="1133640" cy="18223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6"/>
          <a:stretch/>
        </p:blipFill>
        <p:spPr>
          <a:xfrm rot="1389600">
            <a:off x="2158560" y="4005360"/>
            <a:ext cx="1065240" cy="12556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7"/>
          <a:stretch/>
        </p:blipFill>
        <p:spPr>
          <a:xfrm rot="1389600">
            <a:off x="3634920" y="4076640"/>
            <a:ext cx="1065240" cy="12556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8"/>
          <a:stretch/>
        </p:blipFill>
        <p:spPr>
          <a:xfrm rot="1389600">
            <a:off x="5219280" y="4149720"/>
            <a:ext cx="1065240" cy="125568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9"/>
          <a:stretch/>
        </p:blipFill>
        <p:spPr>
          <a:xfrm rot="1389600">
            <a:off x="7308360" y="4149720"/>
            <a:ext cx="1065240" cy="12556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094 -0.02982 C -0.06337 -0.04 -0.06701 -0.04532 -0.07361 -0.0511 C -0.08177 -0.06751 -0.07101 -0.04763 -0.0816 -0.06173 C -0.08663 -0.06844 -0.09062 -0.07815 -0.09583 -0.08485 C -0.10035 -0.09063 -0.1033 -0.09248 -0.10694 -0.09965 C -0.10937 -0.10959 -0.11198 -0.11607 -0.11493 -0.12508 C -0.11701 -0.1311 -0.11701 -0.1385 -0.11962 -0.14404 C -0.12569 -0.15607 -0.13073 -0.16925 -0.13559 -0.18219 C -0.13663 -0.18474 -0.13889 -0.18613 -0.14028 -0.18844 C -0.14375 -0.19445 -0.14531 -0.20277 -0.14983 -0.2074 C -0.16042 -0.21803 -0.17049 -0.23121 -0.18003 -0.24347 C -0.18385 -0.25919 -0.1816 -0.25803 -0.18958 -0.26659 C -0.19618 -0.27352 -0.18889 -0.26936 -0.19739 -0.27306 C -0.20555 -0.28323 -0.20989 -0.29526 -0.21337 -0.3089 C -0.21684 -0.32208 -0.21649 -0.31121 -0.21649 -0.31745 E">
                                      <p:cBhvr>
                                        <p:cTn id="367" dur="2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000"/>
                            </p:stCondLst>
                            <p:childTnLst>
                              <p:par>
                                <p:cTn id="36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3.2948E-006 C -0.00191 -0.01064 -0.00486 -0.01619 -0.0099 -0.02197 C -0.01632 -0.03885 -0.00799 -0.0185 -0.01615 -0.03307 C -0.02014 -0.04 -0.02309 -0.04995 -0.02726 -0.05688 C -0.03073 -0.06266 -0.03299 -0.06474 -0.03576 -0.07214 C -0.03767 -0.08232 -0.03976 -0.08902 -0.04201 -0.09827 C -0.04375 -0.10451 -0.04375 -0.11214 -0.04566 -0.11769 C -0.05035 -0.13018 -0.05434 -0.14382 -0.05816 -0.157 C -0.05885 -0.15977 -0.06059 -0.16116 -0.06181 -0.16347 C -0.06441 -0.16971 -0.06563 -0.17827 -0.0691 -0.18312 C -0.07743 -0.19399 -0.08524 -0.20763 -0.09271 -0.22012 C -0.09566 -0.2363 -0.09392 -0.23515 -0.1 -0.24393 C -0.10521 -0.2511 -0.09948 -0.24694 -0.10608 -0.25064 C -0.1125 -0.26104 -0.1158 -0.27353 -0.11858 -0.28763 C -0.12118 -0.30104 -0.12101 -0.28995 -0.12101 -0.29642 E">
                                      <p:cBhvr>
                                        <p:cTn id="370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4000"/>
                            </p:stCondLst>
                            <p:childTnLst>
                              <p:par>
                                <p:cTn id="37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2.54335E-006 C -0.00069 -0.01086 -0.00173 -0.01664 -0.00347 -0.02289 C -0.00573 -0.04023 -0.00277 -0.01919 -0.00573 -0.03422 C -0.00711 -0.04138 -0.00816 -0.05156 -0.00955 -0.05873 C -0.01076 -0.06497 -0.01163 -0.06705 -0.01267 -0.07468 C -0.01319 -0.08508 -0.01389 -0.09202 -0.01475 -0.10173 C -0.01527 -0.10821 -0.01527 -0.11607 -0.01597 -0.12185 C -0.01771 -0.1348 -0.01909 -0.1489 -0.02031 -0.16254 C -0.02066 -0.16532 -0.02118 -0.1667 -0.0217 -0.16925 C -0.02257 -0.17572 -0.02309 -0.18451 -0.0243 -0.18959 C -0.02708 -0.20092 -0.02986 -0.2148 -0.03246 -0.22797 C -0.0335 -0.24462 -0.03281 -0.24347 -0.03507 -0.25271 C -0.0368 -0.26011 -0.03489 -0.25549 -0.03715 -0.25942 C -0.03941 -0.27029 -0.04062 -0.28323 -0.04149 -0.2978 C -0.04236 -0.31167 -0.04236 -0.30011 -0.04236 -0.30682 E">
                                      <p:cBhvr>
                                        <p:cTn id="373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1.21387E-006 C -0.00069 -0.01179 -0.00156 -0.0178 -0.0033 -0.02451 C -0.00538 -0.04347 -0.0026 -0.02058 -0.00538 -0.03676 C -0.0066 -0.04439 -0.00764 -0.05572 -0.00885 -0.06335 C -0.01007 -0.07006 -0.01076 -0.07214 -0.01163 -0.08023 C -0.01233 -0.09179 -0.01302 -0.09919 -0.01371 -0.1096 C -0.01424 -0.11653 -0.01424 -0.12486 -0.01493 -0.13133 C -0.01649 -0.1452 -0.01771 -0.16023 -0.01892 -0.17526 C -0.01927 -0.17804 -0.01979 -0.17965 -0.02014 -0.18243 C -0.02101 -0.18913 -0.02135 -0.19885 -0.02257 -0.20416 C -0.02517 -0.21642 -0.02778 -0.23145 -0.03021 -0.24555 C -0.03108 -0.26359 -0.03056 -0.2622 -0.03264 -0.27214 C -0.0342 -0.28 -0.03246 -0.27538 -0.03455 -0.27954 C -0.03663 -0.29133 -0.03767 -0.30497 -0.03854 -0.32069 C -0.03941 -0.33572 -0.03941 -0.32347 -0.03941 -0.33064 E">
                                      <p:cBhvr>
                                        <p:cTn id="375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 rot="21390000">
            <a:off x="684000" y="692280"/>
            <a:ext cx="4608360" cy="83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DEUTSCHE   AUTO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539640" y="1916280"/>
            <a:ext cx="2303640" cy="23032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3276720" y="1989000"/>
            <a:ext cx="2663640" cy="22320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4"/>
          <a:stretch/>
        </p:blipFill>
        <p:spPr>
          <a:xfrm>
            <a:off x="6300720" y="2133720"/>
            <a:ext cx="2482920" cy="231444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5"/>
          <a:stretch/>
        </p:blipFill>
        <p:spPr>
          <a:xfrm>
            <a:off x="3924360" y="4292640"/>
            <a:ext cx="2332080" cy="256536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4392 0.8141 C 0.69479 0.83745 0.63593 0.81526 0.5835 0.80994 C 0.56267 0.80532 0.54097 0.8037 0.51996 0.80162 C 0.45277 0.78173 0.38055 0.78474 0.31215 0.78243 C 0.28194 0.77849 0.25208 0.77549 0.2217 0.7741 C 0.17795 0.76462 0.13264 0.763 0.08836 0.76138 C 0.07291 0.76 0.05659 0.76439 0.04218 0.75722 C 0.02448 0.74844 0.0052 0.74612 -0.01337 0.74451 C -0.02865 0.7378 -0.0441 0.73225 -0.05938 0.72532 C -0.06094 0.72462 -0.0625 0.72416 -0.06407 0.72323 C -0.06615 0.72185 -0.06823 0.72023 -0.07049 0.71907 C -0.07361 0.71745 -0.08004 0.71491 -0.08004 0.71514 C -0.08733 0.70797 -0.09601 0.70566 -0.10382 0.70011 C -0.10886 0.69641 -0.11337 0.69156 -0.11806 0.6874 C -0.11962 0.68601 -0.12275 0.68323 -0.12275 0.68347 C -0.1283 0.6615 -0.12414 0.67815 -0.12761 0.66404 C -0.12813 0.66196 -0.12917 0.6578 -0.12917 0.65803 C -0.12813 0.63745 -0.129 0.61526 -0.11493 0.60277 C -0.11094 0.58659 -0.11754 0.60994 -0.10539 0.58589 C -0.10035 0.57595 -0.09809 0.56855 -0.08941 0.56485 C -0.08073 0.55676 -0.06927 0.53873 -0.05938 0.53526 C 0.05816 0.49295 0.05121 0.51352 0.25017 0.5119 C 0.29861 0.50659 0.34635 0.49433 0.39461 0.48855 C 0.41319 0.48647 0.45225 0.48393 0.47395 0.48231 C 0.48645 0.47422 0.50312 0.47352 0.51684 0.47167 C 0.53454 0.46589 0.50625 0.47468 0.54062 0.46751 C 0.54948 0.46566 0.55902 0.46127 0.5677 0.45896 C 0.5743 0.45711 0.57986 0.44994 0.58663 0.44855 C 0.59375 0.44693 0.60295 0.44624 0.60885 0.44 C 0.625 0.42335 0.63975 0.40138 0.65816 0.38936 C 0.66093 0.37803 0.66267 0.38497 0.6677 0.37664 C 0.67361 0.3667 0.67864 0.3563 0.68663 0.34913 C 0.69149 0.33988 0.69878 0.33225 0.70573 0.32578 C 0.70625 0.3237 0.70625 0.32138 0.70729 0.31953 C 0.70954 0.3156 0.71527 0.3089 0.71527 0.30913 C 0.71788 0.29826 0.72378 0.2874 0.72951 0.2793 C 0.73316 0.26451 0.72795 0.28231 0.73593 0.26659 C 0.73784 0.26266 0.73871 0.25803 0.74062 0.2541 C 0.74166 0.24994 0.74392 0.24578 0.74392 0.24138 C 0.74392 0.22451 0.74357 0.2074 0.74218 0.19052 C 0.74166 0.18497 0.73698 0.18289 0.73437 0.18011 C 0.71718 0.16162 0.69184 0.16254 0.67083 0.16092 C 0.65069 0.16231 0.63038 0.163 0.61059 0.16948 C 0.59583 0.17433 0.58125 0.17965 0.56614 0.18219 C 0.55573 0.18659 0.56666 0.18243 0.54861 0.18636 C 0.53784 0.18867 0.5276 0.1926 0.51684 0.19491 C 0.50451 0.20046 0.49149 0.20347 0.47882 0.2074 C 0.47309 0.20925 0.46857 0.21133 0.46284 0.21387 C 0.45573 0.21711 0.44791 0.21711 0.44062 0.22011 C 0.43576 0.22196 0.43142 0.22543 0.42639 0.22659 C 0.41632 0.2289 0.40625 0.23167 0.39618 0.23491 C 0.38107 0.2474 0.36441 0.25017 0.34704 0.2541 C 0.33975 0.25572 0.32482 0.25826 0.32482 0.25849 C 0.31232 0.26358 0.29809 0.26682 0.28507 0.2689 C 0.27448 0.27237 0.26406 0.27514 0.25329 0.27722 C 0.24149 0.28254 0.23264 0.28416 0.21996 0.28578 C 0.21041 0.28994 0.19982 0.29225 0.18993 0.2941 C 0.15798 0.30774 0.12465 0.31329 0.09149 0.31953 C 0.06979 0.3237 0.04948 0.33295 0.02795 0.33849 C 0.01007 0.3489 -0.01129 0.35422 -0.03073 0.35769 C -0.03889 0.36115 -0.04757 0.36162 -0.05608 0.36393 C -0.08039 0.36323 -0.10816 0.36832 -0.1323 0.35769 C -0.14167 0.33942 -0.12882 0.3637 -0.14028 0.34497 C -0.14601 0.33549 -0.14132 0.34173 -0.14497 0.33225 C -0.14896 0.32185 -0.15243 0.31422 -0.15452 0.30266 C -0.15365 0.27769 -0.15747 0.23769 -0.13872 0.22011 C -0.13542 0.20693 -0.12778 0.19861 -0.12118 0.18844 C -0.11285 0.17549 -0.10573 0.15907 -0.09584 0.14821 C -0.09184 0.14381 -0.08785 0.13896 -0.08316 0.13572 C -0.08108 0.13433 -0.07865 0.13341 -0.07674 0.13133 C -0.06546 0.11907 -0.05625 0.10381 -0.04184 0.09757 C -0.03091 0.08786 -0.03594 0.09063 -0.02761 0.08693 C -0.02379 0.07676 -0.02327 0.07491 -0.01493 0.07214 C -0.0099 0.06266 -0.00417 0.05202 0.0026 0.04462 C 0.0052 0.04185 0.01059 0.03953 0.01059 0.03422 E">
                                      <p:cBhvr>
                                        <p:cTn id="381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1:54:58Z</dcterms:created>
  <dc:creator>student3c</dc:creator>
  <dc:description/>
  <dc:language>en-US</dc:language>
  <cp:lastModifiedBy>student3c</cp:lastModifiedBy>
  <dcterms:modified xsi:type="dcterms:W3CDTF">2002-10-31T10:59:44Z</dcterms:modified>
  <cp:revision>20</cp:revision>
  <dc:subject/>
  <dc:title>BUNDESREPUBLIK DEUTSCHLAND </dc:title>
</cp:coreProperties>
</file>