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9EDC-4AC9-42DE-8433-8EF7FF15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4709-92B2-4B4D-AA9E-B7278D3C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AEED-2B47-4561-9E98-E2D8FDDE9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8601-6C7F-4C4B-BEF3-E93AA848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42F6F-8B2B-47E4-87F1-400F41A1E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17340-7D4F-4A43-84AC-CC1D8827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69137-1F20-4292-B2EA-9876F643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062FF-642B-46DA-9B47-6DE404F9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EE831-FD5F-41B6-9384-85FEA402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AC023-8773-4DD1-916C-9912865A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F8340-D873-4E95-9A89-D10C0533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4D8D-1A74-47E7-8A34-A11D9635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7F248-2AE9-4F0E-ADB5-0BDFFF2A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4F510-AB6E-487B-A4A1-268A1105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59CF4-DCD5-48D2-A597-0908F8CA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1BF4C-AB5D-40F6-9AC0-CB3C73D2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A0C57-3AB8-4A7B-AA2C-35540D19B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F698-DC8B-42C3-B894-5A7F23D8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349A-50C2-49EB-A8AE-3A367DC6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1509-1F18-41AA-ADDF-BB0C2E91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7D04-E644-41D2-A68E-3F3D6982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2134-3091-43CF-9FA6-001D5D5B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7817-8806-4E43-9731-F3DC7711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DA26-5ACC-47B7-9CB5-D4F13CBF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336A-C2FA-46B8-8730-A9EEF234BF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3792-DC98-4AF7-918F-F241C903B4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hyperlink" Target="http://arturtulowiecki.webpark.pl/images/ja.gif" TargetMode="External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Spójrz na to UWAŻNIE..."/>
          <p:cNvPicPr/>
          <p:nvPr/>
        </p:nvPicPr>
        <p:blipFill>
          <a:blip r:embed="rId2">
            <a:lum bright="-12000"/>
          </a:blip>
          <a:stretch/>
        </p:blipFill>
        <p:spPr>
          <a:xfrm rot="20056200">
            <a:off x="1692000" y="333000"/>
            <a:ext cx="3101760" cy="5111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eorgia"/>
              </a:rPr>
              <a:t>Grafologi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Monotype Corsiva"/>
              </a:rPr>
              <a:t>Podstawowe typy pis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smo kątow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łówne cechy autor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lne poczucie etyk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decydowani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ieomylnoś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czucie obowiązk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asna linia postępowan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nsekwenc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pó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wardoś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rak uczu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rażliwoś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iecierpliwoś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zorstkoś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łótliwoś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050920" y="1557360"/>
            <a:ext cx="4321440" cy="77472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3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3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3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3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3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3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3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3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3000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3000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3000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3000"/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3000"/>
                                        <p:tgtEl>
                                          <p:spTgt spid="1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3000"/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Georgia"/>
              </a:rPr>
              <a:t>Kąt nachylenia pis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smo prawoskrętn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dzie pochylający w ten sposób 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dzie towarzys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biący ryzyko i napięc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kspansywni w działani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zadko planują swoją przyszłoś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ą do przodu, nie oglądając się za sieb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332000" y="2274840"/>
            <a:ext cx="6696000" cy="866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3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3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3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3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3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30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Georgia"/>
              </a:rPr>
              <a:t>Kąt nachylenia pis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smo lewoskrętn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dzie pochylający w ten sposób t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udzie spokojn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 stosunkach z ludźmi zachowują rezerw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ą ostrożn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ubią zorganizowane i uporządkowane życi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ywają pesymistycznie nastawieni do ży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900000" y="2430360"/>
            <a:ext cx="7344000" cy="939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5" dur="3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3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1" dur="3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3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3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30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Georgia"/>
              </a:rPr>
              <a:t>Kąt nachylenia pis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smo prostopadł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dzie piszący w ten sposób t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soby praktycz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zadko ulegają wpływom innych osó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ykazują cechy przywódcz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ie sprawia im problemów wydawanie poleceń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ie lubią wykonywać cudzych pleceń, ale potrafią się do tego przystosowa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547640" y="2367000"/>
            <a:ext cx="6480360" cy="990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7" dur="3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0" dur="3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3" dur="3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6" dur="3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3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2" dur="30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Georgia"/>
              </a:rPr>
              <a:t>Kąt nachylenia pis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smo wachlarzowe (chwiejące się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dzie piszący w ten sposób są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iezdecydowa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wiejni emocjonaln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ieustannie toczą walkę z samym sob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00000" y="2565360"/>
            <a:ext cx="6913800" cy="951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9" dur="3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2" dur="3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5" dur="3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" dur="3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Georgia"/>
              </a:rPr>
              <a:t>Trójpodział litery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ja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7488360" cy="413064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0" y="0"/>
            <a:ext cx="4286160" cy="2228400"/>
            <a:chOff x="0" y="0"/>
            <a:chExt cx="4286160" cy="2228400"/>
          </a:xfrm>
        </p:grpSpPr>
        <p:sp>
          <p:nvSpPr>
            <p:cNvPr id="121" name=""/>
            <p:cNvSpPr/>
            <p:nvPr/>
          </p:nvSpPr>
          <p:spPr>
            <a:xfrm>
              <a:off x="3333600" y="0"/>
              <a:ext cx="9525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43200" y="1752480"/>
              <a:ext cx="9046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47560" y="857160"/>
              <a:ext cx="68580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09760" y="66600"/>
              <a:ext cx="6476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160" y="1676520"/>
              <a:ext cx="119988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440" y="876240"/>
              <a:ext cx="104760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160" y="56880"/>
              <a:ext cx="12380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>
              <a:hlinkClick r:id="rId3"/>
            </p:cNvPr>
            <p:cNvSpPr/>
            <p:nvPr/>
          </p:nvSpPr>
          <p:spPr>
            <a:xfrm>
              <a:off x="0" y="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5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Georgia"/>
              </a:rPr>
              <a:t>Trójpodział lite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dświadomoś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żeli górna część litery jest nadmierni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ydłużona to osoba je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mbit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zebojow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ubi władz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żeli górne akcenty są małe, stanowi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dwrotność wcześniejszej charakterystyki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419640" y="1484280"/>
            <a:ext cx="2104920" cy="1104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5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8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1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4" dur="2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7" dur="2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Georgia"/>
              </a:rPr>
              <a:t>Trójpodział litery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Świadomoś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ża część środkowa występuje u osób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śmiałych i zdecydowany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niących pracę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esują się tym co dzieje się aktualn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ła część środkowa jest uznawana za normę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348000" y="1700280"/>
            <a:ext cx="2257560" cy="790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4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7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0" dur="2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3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6" dur="2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9" dur="20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Georgia"/>
              </a:rPr>
              <a:t>Trójpodział litery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eorgia"/>
              </a:rPr>
              <a:t>Podświadomoś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Georgia"/>
              </a:rPr>
              <a:t>Duży element podlinijny mówi 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eorgia"/>
              </a:rPr>
              <a:t>dużych potrzebach seksualny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eorgia"/>
              </a:rPr>
              <a:t>powodzeniu w sferze materialnej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Georgia"/>
              </a:rPr>
              <a:t>Małe dolne elementy mówią o braku tych ce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348000" y="1628640"/>
            <a:ext cx="1647720" cy="1590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6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9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2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8" dur="2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55640" y="836640"/>
            <a:ext cx="74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Znaczenie linii w piśm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92392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ie wznoszące się ku górze charakteryzuje ludz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tymistyczny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bitny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tóre często osiągają zamierzony c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84360" y="2133720"/>
            <a:ext cx="7914960" cy="876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Monotype Corsiva"/>
              </a:rPr>
              <a:t>Grafologi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rafologi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wg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łownika psychologiczneg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to nauka zajmująca się badaniem odręcznego pisma, pozwalająca na podstawie analizy konkretnych przypadków określić właściwości osobowościowe danej jednostki, a niekiedy ich okresowe zmiany wyrażające się w aktualnym stani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Znaczenie linii w piśm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ie pisma falujące charakteryzuje ludz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datnych na wpływy otoczen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ść często zmieniających zdan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dobrze rozwiniętym zmyśle dyplomacj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332000" y="1916280"/>
            <a:ext cx="6095880" cy="12664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1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Znaczenie linii w piśm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smo równe charakteryzuje ludz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 bardzo silnej wol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sekwentnych w działani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 wysokim poczuciu samodyscyplin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równoważone wewnętrzn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187280" y="2276640"/>
            <a:ext cx="6572520" cy="11142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1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Znaczenie linii w piśm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278136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ie pisma opadające charakteryzuje ludz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jących dużo zmartwień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czej negatywnie nastawionych do ży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arakteryzuje ich smutek i apat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7134120" cy="1504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6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9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2" dur="1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5" dur="1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Zakończen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1763640" y="2133720"/>
            <a:ext cx="604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zedstawiono tylko charakterystyczne cechy pisma. Przy analizie grafologicznej bierze się pod uwagę o wiele więcej tych cech, a przygotowanie się do pracy grafologa wymaga ukończenia odpowiedniego kierunku studiów. Pamiętajcie to była tylko zabawa, a zainteresowanych zachęcam do zgłębienia tego temat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3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zentację przygotowano korzystając z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435880" cy="48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Kukiełka I., </a:t>
            </a:r>
            <a:r>
              <a:rPr b="0" i="1" lang="pl-PL" sz="2800" spc="-1" strike="noStrike">
                <a:solidFill>
                  <a:srgbClr val="ffffff"/>
                </a:solidFill>
                <a:latin typeface="Tahoma"/>
              </a:rPr>
              <a:t>Grafologia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, Łódź 2002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Luke A., Lang A., </a:t>
            </a:r>
            <a:r>
              <a:rPr b="0" i="1" lang="pl-PL" sz="2800" spc="-1" strike="noStrike">
                <a:solidFill>
                  <a:srgbClr val="ffffff"/>
                </a:solidFill>
                <a:latin typeface="Tahoma"/>
              </a:rPr>
              <a:t>Sztuka grafologii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, Wrocław 1993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http//psphome.dthml.pl/test-grafolog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http//arturtulowiecki.wegpark.pl/strony/grafolog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Monotype Corsiva"/>
              </a:rPr>
              <a:t>Grafologi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c00"/>
                </a:solidFill>
                <a:latin typeface="Tahoma"/>
              </a:rPr>
              <a:t>Trochę histori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Analizę charakteru pisma Chińczycy stosowali już kilka tysięcy lat temu, jednak w wiekach późniejszych umiejętność ta poszła nieco w zapomnienie. Za ojca współczesnej grafologii uznaje się księdza Michon, który w 1871 roku w Paryżu ogłosił narodziny nowej wiedzy.</a:t>
            </a:r>
            <a:r>
              <a:rPr b="0" lang="pl-PL" sz="32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newsflash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Monotype Corsiva"/>
              </a:rPr>
              <a:t>Grafologi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Jego uczeń, Jean Crepieux-Jamin, kontynuując dzieło mistrza, ustalił zasady klasyfikacji pisma na podstawie siedmiu kryteriów: kształtu, kierunku, rozmiaru, nacisku, szybkości, ciągłości i układu. W ten sposób zostały wytyczone zarysy nowej wiedzy, która zyskała uznanie również poza granicami Francj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u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Monotype Corsiva"/>
              </a:rPr>
              <a:t>Grafologi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ecnie dziedziną tą zajmuje się profesjonalnie wielu specjalistów. Grafologia wykorzystywana jest m.in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 kryminalistyce i sądownictwie, psychoterapii, doradztwie personalnym. Coraz modniejsza staje się również metoda grafologicznego kojarzenia par małżeńskich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hecker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Monotype Corsiva"/>
              </a:rPr>
              <a:t>Grafologi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bawa w grafolog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 czystej kartce (bez linii czy kratek) napiszcie kilka zdań. W ten sposób przygotowujemy materiał do badań grafologicznyc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czynamy zabawę – analizujemy swoje próbki pism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Monotype Corsiva"/>
              </a:rPr>
              <a:t>Podstawowe typy pis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Pismo girlandow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Główne cechy auto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Otwartoś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Oddani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Bystrość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Tolerancj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Łatwowierność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Gadatliwoś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Podatność na wpływ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Wygodnictw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Umiejętność przystosowania si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Elastyczność przekonań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763640" y="2009880"/>
            <a:ext cx="5688000" cy="842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3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3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3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30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30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30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30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300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3000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3000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3000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Monotype Corsiva"/>
              </a:rPr>
              <a:t>Podstawowe typy pis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smo arkadow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łówne cechy autor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amykanie się w sobi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stroż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ozważ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malis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nserwatys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 dystansem do ży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zewidują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ieuf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ieszcze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zasami chciw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908000" y="1844640"/>
            <a:ext cx="5400720" cy="62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3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3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3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3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3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3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3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3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30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3000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3000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Monotype Corsiva"/>
              </a:rPr>
              <a:t>Podstawowe typy pis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smo nitkow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łówne cechy autor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szechstronność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czne uzdolnien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miejętność adaptacj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mysł dyplomatyczn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ak umiar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ytroś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rętactw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ieobowiązkowoś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wiejnoś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258920" y="1700280"/>
            <a:ext cx="6121440" cy="701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3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3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3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3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3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30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30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30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3000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3000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4:45:15Z</dcterms:created>
  <dc:creator>PG SzOK</dc:creator>
  <dc:description/>
  <dc:language>en-US</dc:language>
  <cp:lastModifiedBy>PG SzOK</cp:lastModifiedBy>
  <dcterms:modified xsi:type="dcterms:W3CDTF">2006-04-24T08:11:51Z</dcterms:modified>
  <cp:revision>23</cp:revision>
  <dc:subject/>
  <dc:title>Grafologia</dc:title>
</cp:coreProperties>
</file>