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974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00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338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338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338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338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8826B-BE0E-4DD2-B946-40DD1BFBB1AF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06640" y="812880"/>
            <a:ext cx="532908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06640" y="812880"/>
            <a:ext cx="532908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6640" y="812880"/>
            <a:ext cx="532764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06640" y="812880"/>
            <a:ext cx="532764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06640" y="812880"/>
            <a:ext cx="532764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06640" y="812880"/>
            <a:ext cx="532764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06640" y="812880"/>
            <a:ext cx="532764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06640" y="812880"/>
            <a:ext cx="532764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06640" y="812880"/>
            <a:ext cx="532764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06640" y="812880"/>
            <a:ext cx="532764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06640" y="812880"/>
            <a:ext cx="5327640" cy="39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06640" y="812880"/>
            <a:ext cx="5317920" cy="39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06640" y="812880"/>
            <a:ext cx="5317920" cy="39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06640" y="812880"/>
            <a:ext cx="5330520" cy="39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06640" y="812880"/>
            <a:ext cx="532908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06640" y="812880"/>
            <a:ext cx="5329080" cy="39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B18-E211-4DFD-A6CA-389D0EB0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6040" y="1787400"/>
            <a:ext cx="89600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6040" y="4344120"/>
            <a:ext cx="89600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88C-2582-4E98-B655-72F0B247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6040" y="178740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120" y="178740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6040" y="434412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120" y="434412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3F8-9BAE-444A-9ABF-51B669A3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6040" y="1787400"/>
            <a:ext cx="28850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87400"/>
            <a:ext cx="28850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560" y="1787400"/>
            <a:ext cx="28850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6040" y="4344120"/>
            <a:ext cx="28850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344120"/>
            <a:ext cx="28850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560" y="4344120"/>
            <a:ext cx="28850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4B3-F40E-4E51-B4A2-2A7A9768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6040" y="1787400"/>
            <a:ext cx="89600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D4D-3E8A-4CDE-BF09-8EFA457A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6040" y="1787400"/>
            <a:ext cx="89600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0D8-AFC6-44EF-BB74-CC91E6E8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6040" y="1787400"/>
            <a:ext cx="4372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120" y="1787400"/>
            <a:ext cx="4372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29C-2777-4315-8163-000F3FA7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20B-69E1-4CC5-9293-4E96BF2B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6040" y="293400"/>
            <a:ext cx="89600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C9F-FD2E-4981-BA28-7B539EBD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6040" y="178740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120" y="1787400"/>
            <a:ext cx="4372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6040" y="434412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E66-80FA-4781-AE92-AC27CD8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6040" y="1787400"/>
            <a:ext cx="4372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120" y="178740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120" y="434412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24E-AFE3-4E9C-8930-346B1FEF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6040" y="178740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120" y="1787400"/>
            <a:ext cx="4372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6040" y="4344120"/>
            <a:ext cx="89600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DC4-A620-4996-8F78-52D1F95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6040" y="293400"/>
            <a:ext cx="8960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6040" y="1787400"/>
            <a:ext cx="89600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5920" indent="-290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55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195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17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193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193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193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6400" y="6857640"/>
            <a:ext cx="2284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59240" y="6857640"/>
            <a:ext cx="31240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1880" y="6857640"/>
            <a:ext cx="2284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62A58-84F2-4F2A-97CF-A52F72ADDD91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360360"/>
            <a:ext cx="88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GANIZATOR: GMINA PAKOSŁA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ÓŁORGANIZATOR: SZKOŁA PODSTAWOWA W GOSZOWIC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15280" y="1836720"/>
            <a:ext cx="5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2376360"/>
            <a:ext cx="521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2735280"/>
            <a:ext cx="774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16000" y="1476360"/>
            <a:ext cx="7740720" cy="16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ZAWODY SPORTOW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1655640" y="4896000"/>
            <a:ext cx="1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76720" y="6696000"/>
            <a:ext cx="3240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356000"/>
            <a:ext cx="17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95640" y="4356000"/>
            <a:ext cx="414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345600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2840" algn="ctr">
              <a:lnSpc>
                <a:spcPct val="118000"/>
              </a:lnSpc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 Black"/>
              </a:rPr>
              <a:t>„</a:t>
            </a:r>
            <a:r>
              <a:rPr b="1" i="1" lang="pl-PL" sz="2000" spc="-1" strike="noStrike">
                <a:solidFill>
                  <a:srgbClr val="ff0000"/>
                </a:solidFill>
                <a:latin typeface="Arial Black"/>
              </a:rPr>
              <a:t>PRZEDSZKOLA I SZKOŁY GMINY PAKOSŁAW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algn="ctr">
              <a:lnSpc>
                <a:spcPct val="118000"/>
              </a:lnSpc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 Black"/>
              </a:rPr>
              <a:t>KUŹNIĄ TALENTÓW OLIMPIJSKI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35640" y="628344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4535640"/>
            <a:ext cx="504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2840" algn="ctr">
              <a:lnSpc>
                <a:spcPct val="118000"/>
              </a:lnSpc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500" spc="-1" strike="noStrike">
                <a:solidFill>
                  <a:srgbClr val="000000"/>
                </a:solidFill>
                <a:latin typeface="Arial Black"/>
              </a:rPr>
              <a:t>GOSZOWICE, styczeń - luty 20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80720" y="7056360"/>
            <a:ext cx="541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96000" y="2735280"/>
            <a:ext cx="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35280" y="5435640"/>
            <a:ext cx="648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2840" algn="ctr">
              <a:lnSpc>
                <a:spcPct val="118000"/>
              </a:lnSpc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Arial Black"/>
              </a:rPr>
              <a:t>WYKONAŁA: klasa VI SP GOSZO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algn="ctr">
              <a:lnSpc>
                <a:spcPct val="118000"/>
              </a:lnSpc>
              <a:tabLst>
                <a:tab algn="l" pos="0"/>
                <a:tab algn="l" pos="312840"/>
                <a:tab algn="l" pos="7603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Arial Black"/>
              </a:rPr>
              <a:t>POD KIERUNKIEM </a:t>
            </a:r>
            <a:r>
              <a:rPr b="1" i="1" lang="pl-PL" sz="1600" spc="-1" strike="noStrike">
                <a:solidFill>
                  <a:srgbClr val="0000ff"/>
                </a:solidFill>
                <a:latin typeface="Arial Black"/>
              </a:rPr>
              <a:t> ZBIGNIEWA GMOCHOWSK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135400" y="1787400"/>
                <a:ext cx="4380120" cy="23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079640" y="5219640"/>
            <a:ext cx="18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0000" y="6300720"/>
            <a:ext cx="899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531-1864-41F1-8E6E-C2ACA3EDCC7B}" type="slidenum">
              <a:t>1</a:t>
            </a:fld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440000"/>
            <a:ext cx="4680000" cy="360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659640" y="3419640"/>
            <a:ext cx="2104920" cy="324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17520" y="360360"/>
            <a:ext cx="742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Tenis stołowy – chłopcy z Goszowic                      1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0720" y="5400720"/>
            <a:ext cx="35989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Powyżej: Krzysztof Podola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ze Szkoły Podstawowej z Goszow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zwycięzca turnieju w tenisie stołowy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2340000"/>
            <a:ext cx="25192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Poniżej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Krzysztof odbiera nagrodę za zwycięstw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22E-0750-4CF5-9E58-C8E6FB24F7C5}" type="slidenum">
              <a:t>10</a:t>
            </a:fld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0360" y="955800"/>
            <a:ext cx="2933640" cy="21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659640" y="1674720"/>
            <a:ext cx="2933640" cy="210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85640" y="4500720"/>
            <a:ext cx="2934000" cy="2160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60360" y="289080"/>
            <a:ext cx="7340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Badminton – dziewczęta z Goszowic                    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0360" y="1079640"/>
            <a:ext cx="27003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Po lewej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Ela Wańk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20360" y="7920000"/>
            <a:ext cx="18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360" y="3240000"/>
            <a:ext cx="233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9280" y="2535120"/>
            <a:ext cx="234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2700360"/>
            <a:ext cx="243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Po prawej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Basia Broda znów w akcj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0720" y="3600360"/>
            <a:ext cx="2670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Poniżej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Wioletta Ziółkowska znalazł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w końcu lotkę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19640" y="4680000"/>
            <a:ext cx="5219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4500720"/>
            <a:ext cx="48592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ziewczęta dzielnie walczyły, ale konkurent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kazały się nad wyraz moc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I i III miejsce zajęły zawodniczki z Prusinow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4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F03-FC1B-4B9D-8F88-C357AB46E0AC}" type="slidenum">
              <a:t>11</a:t>
            </a:fld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00720" y="801720"/>
            <a:ext cx="4209840" cy="5857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60360" y="289080"/>
            <a:ext cx="7340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Badminton – dziewczęta z Goszowic                    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9640" y="1260360"/>
            <a:ext cx="181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079640"/>
            <a:ext cx="37195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II miejsce w grach indywidual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ziewcząt w badmintona zaję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Ela Wańko ze Szkoły Podstaw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 Goszowic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0000" y="4140360"/>
            <a:ext cx="28796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Obok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Zawsze uśmiechnięta Ela odbiera medal i nagrod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za II miejs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19C-1406-47C8-973C-B12DC2BC03C8}" type="slidenum">
              <a:t>12</a:t>
            </a:fld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60720" y="1440000"/>
            <a:ext cx="6343560" cy="4562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60360" y="289080"/>
            <a:ext cx="7340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Piłka nożna halowa – chłopcy z Goszowic           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79640" y="6300720"/>
            <a:ext cx="6480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Mecz pomiędzy SP Goszowice i SP Złotogłowice decydujący o I miejsc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2340000"/>
            <a:ext cx="18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440000"/>
            <a:ext cx="270036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Chłopcy z Goszowic pokonali ryw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ze Złotogłowic 2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i tym samym zapewnili sobie I miejs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 zawod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431-4A2D-49AC-BD11-2FF937987DFA}" type="slidenum">
              <a:t>13</a:t>
            </a:fld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580000" y="1800360"/>
            <a:ext cx="3060720" cy="4319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06360" y="1619280"/>
            <a:ext cx="2934000" cy="2104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360" y="289080"/>
            <a:ext cx="7340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Piłka nożna halowa - chłopcy z Goszowic            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4319640"/>
            <a:ext cx="45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Na zdjęciach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Zwycięska drużyna w składzie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Paweł Smyrski bramkarz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Mateusz Bierczak, Wiktor Dud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Krzysztof Podolak, Daniel Jaszczyszyn na podiu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2AC-E111-4A2A-813C-9A0FDC6948B5}" type="slidenum">
              <a:t>14</a:t>
            </a:fld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22440" y="1260360"/>
            <a:ext cx="5857560" cy="4210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260360" y="289080"/>
            <a:ext cx="7340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Piłka nożna halowa – chłopcy z Goszowic            3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0360" y="1619280"/>
            <a:ext cx="3060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Zwycięzcy na zasłużonym odpoczyn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9E7-E1C9-4952-8DAA-AD1423285B9A}" type="slidenum">
              <a:t>15</a:t>
            </a:fld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197160" y="900000"/>
            <a:ext cx="6343560" cy="4562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60360" y="289080"/>
            <a:ext cx="7340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Taniec sportowy – dziewczęta z Goszowic            1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0720" y="1260360"/>
            <a:ext cx="2340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odczas imprezy odbył się równie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okaz tańca spo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0000" y="5759280"/>
            <a:ext cx="8099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                   </a:t>
            </a: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Na zdjęciu: dziewczęta ze Szkoły Podstawowej z Goszowic w tańcu zespołowym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8A0-CA31-4881-BFDF-28D4066D0B11}" type="slidenum">
              <a:t>16</a:t>
            </a:fld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755720" y="1079640"/>
            <a:ext cx="6343560" cy="4562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260360" y="289080"/>
            <a:ext cx="7340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Podsumowanie                                                     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0360" y="6300720"/>
            <a:ext cx="630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79640" y="6119640"/>
            <a:ext cx="7740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                                 </a:t>
            </a: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A po zawodach jest czas nawet na flirtowani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68D-98C0-4210-AF65-FD3B086556E5}" type="slidenum">
              <a:t>17</a:t>
            </a:fld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41360" y="900000"/>
            <a:ext cx="5857920" cy="4210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260360" y="277920"/>
            <a:ext cx="7340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Podsumowanie                                                     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80360" y="1260360"/>
            <a:ext cx="25192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Plakat, tandem i medal  to pamiątki pana Andrzeja Zająca z paraolimpiad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w Pekini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1C5-4541-49BB-AFA8-4D54A5A39F0B}" type="slidenum">
              <a:t>18</a:t>
            </a:fld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260360" y="289080"/>
            <a:ext cx="729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Podsumowanie                                                     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20720" y="900000"/>
            <a:ext cx="3857760" cy="5372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59280" y="900000"/>
            <a:ext cx="4859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Pan Andrzej Zając złoty medalista  z Pekinu w jeździe na rowerze w tandemie prezentuje swe pamiątki dziecio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59280" y="1979640"/>
            <a:ext cx="485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" y="6300720"/>
            <a:ext cx="900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80000" y="1739880"/>
            <a:ext cx="540072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eprowadzeniu imprezy wzięło udział większość nauczycieli Gminy Pakosław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czę nad całością działań Szkoły Podstaw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Goszowic miała Pani dyrektor Beata Lichos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leży wspomnieć o Pani dyrektor Gimnazj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Pakosławic, która udostępniła nieodpła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alę sportową i brała czynny udział w przeprowadzeniu imprez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ywiście, należy wymienić tu Pana Ireneusza       Kowalskiego dyrektora Szkoły Podstawowe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Prusinowic za pomysł, przygotowa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koordynację olimpi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elkie podziękowania należą się P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drzejowi Zającowi, olimpijczykowi z Pekinu za uświetnienie imprezy swoją osobą, który starał się zarazić swoją pasją do sportu dzieci i młodzież naszej gm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6D5-A010-45E4-A2CB-85EE0306685B}" type="slidenum">
              <a:t>19</a:t>
            </a:fld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79640" y="360360"/>
            <a:ext cx="7920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79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SPIS TREŚCI: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2160720" y="1995480"/>
            <a:ext cx="684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1800360"/>
            <a:ext cx="6480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720720" y="3959280"/>
            <a:ext cx="720720" cy="53964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20720" y="1260360"/>
            <a:ext cx="720720" cy="54000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20720" y="1800360"/>
            <a:ext cx="720720" cy="53964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20720" y="2340000"/>
            <a:ext cx="720720" cy="53964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736560" y="2879640"/>
            <a:ext cx="720720" cy="54000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720720" y="3419640"/>
            <a:ext cx="720720" cy="53964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720720" y="4500720"/>
            <a:ext cx="720720" cy="53964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720720" y="5040360"/>
            <a:ext cx="720720" cy="53964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7" action="ppaction://hlinksldjump"/>
          </p:cNvPr>
          <p:cNvSpPr/>
          <p:nvPr/>
        </p:nvSpPr>
        <p:spPr>
          <a:xfrm>
            <a:off x="720720" y="5580000"/>
            <a:ext cx="720720" cy="53964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lastslide"/>
          </p:cNvPr>
          <p:cNvSpPr/>
          <p:nvPr/>
        </p:nvSpPr>
        <p:spPr>
          <a:xfrm>
            <a:off x="720720" y="6119640"/>
            <a:ext cx="720720" cy="54000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00360" y="1079640"/>
            <a:ext cx="73800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1260360"/>
            <a:ext cx="75596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Strona tytułowa – st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Winieta – st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Wprowadzenie – st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Ringo – drużyna dziewcząt – str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Tenis stołowy chłopców -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Badminton dziewcząt -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Piłka nożna halowa – drużyna chłopców – str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Taniec sportowy dziewcząt – str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Podsumowanie – str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</a:rPr>
              <a:t>Koniec – str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7020000"/>
            <a:ext cx="882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426-57CE-40A4-9930-BF2DBCB0987A}" type="slidenum">
              <a:t>2</a:t>
            </a:fld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60360" y="289080"/>
            <a:ext cx="729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Podsumowanie                                                     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0720" y="900000"/>
            <a:ext cx="86407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minnej Olimpiadzie ze strony Szkoły Podstawowej w Goszowicach wzięło udział około 50 dzieci we wszystkich dyscyplinach sportowych i konkurs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ONANIA SPORTOWE SP GOSZ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234000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2087640"/>
            <a:ext cx="899964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BADMINT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I miejsce – SP Prusin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 miejsce – SP Goszowice         Ela Wań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I miejsce – SP Prusin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RING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I miejsce – SP Złotogł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 miejsce – SP Goszowice                   Ela Wań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lwia Miel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bara Br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I miejsce – SP Prusin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60720" y="7899480"/>
            <a:ext cx="181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900000" y="7920000"/>
            <a:ext cx="18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94E-62D6-459B-9C1B-096180DD124D}" type="slidenum">
              <a:t>20</a:t>
            </a:fld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260360" y="289080"/>
            <a:ext cx="729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Podsumowanie                                                     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6560" y="1701720"/>
            <a:ext cx="8756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TENIS STOŁOW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I miejsce – SP Goszowice – Krzysztof Podo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 miejsce – SP Złotogłowice – Kamil Poniewier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I miejsce – SP Złotogłowice – Szymon Sad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IŁKA NOŻNA HAL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I miejsce – SP Goszowice – Mateusz Bierc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weł Smyr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iel Jaszczysz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zysztof Podo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ktor D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 miejsce – SP Prusin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I miejsce – SP Złotogł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ówno w klasyfikacji punktowej jak i medalowej zwyciężyła Szkoła Podstawow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Goszowic (10 pkt) przed Szkołą Podstawową z Prusinowic i Szkołą Podstaw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Złotogłowic (po 7 pk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 flipV="1">
            <a:off x="8640720" y="701928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4EB-C471-4181-A862-D4E37ECBD50D}" type="slidenum">
              <a:t>21</a:t>
            </a:fld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160720" y="1440000"/>
            <a:ext cx="6300720" cy="1265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8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KONIEC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8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1079640" y="4319640"/>
            <a:ext cx="774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ZIĘKUJEMY ZA OBEJRZENIE PREZENT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0000" y="6480000"/>
            <a:ext cx="1979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00000" y="5219640"/>
            <a:ext cx="1800360" cy="900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73721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Zakończ pokaz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19640" y="5400720"/>
            <a:ext cx="34196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Prezentację wykonał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Klasa VI SP Goszow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Opiekun: Zbigniew Gmochows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djęcia:mgr Grzegorz Balińs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828-0ABE-44F4-84A9-828E21CB1365}" type="slidenum">
              <a:t>22</a:t>
            </a:fld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44600" y="360360"/>
            <a:ext cx="7475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Winieta                                                                   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6600" y="6972480"/>
            <a:ext cx="3715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040" y="1079640"/>
            <a:ext cx="9072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b30000"/>
                </a:solidFill>
                <a:latin typeface="Arial"/>
              </a:rPr>
              <a:t>Organizator rozgrywek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Szkoła Podstawowa w Prusinowicach  48 – 314 Pakosławi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600" spc="-1" strike="noStrike">
                <a:solidFill>
                  <a:srgbClr val="b80047"/>
                </a:solidFill>
                <a:latin typeface="Arial"/>
              </a:rPr>
              <a:t>Koordynator projektu: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yrektor Szkoły i Przedszkola w Prusinowicach Ireneusz Kowalski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b30000"/>
                </a:solidFill>
                <a:latin typeface="Arial"/>
              </a:rPr>
              <a:t>Uczestnicy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Publiczne Gimnazjum w Pakosławicach – opiekun Wojciech Maruszcz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zkoła Podstawowa i Przedszkole w Prusinowicach – opiek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gorzata Jaszczyszyn, Anna Chlipał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zkoła Podstawowa w Goszowicach – opiekun Zbigniew Gmochow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dszkole we Frączkowie – opiekun dyrektor Irena Zube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zkoła Podstawowa w Złotogłowicach – opiekun dyrektor Jacek Szostak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b30000"/>
                </a:solidFill>
                <a:latin typeface="Arial"/>
              </a:rPr>
              <a:t>Termin rozgrywek: 13.12.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b3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b30000"/>
                </a:solidFill>
                <a:latin typeface="Arial"/>
              </a:rPr>
              <a:t>Miejsce </a:t>
            </a:r>
            <a:r>
              <a:rPr b="0" lang="pl-PL" sz="1600" spc="-1" strike="noStrike">
                <a:solidFill>
                  <a:srgbClr val="b84700"/>
                </a:solidFill>
                <a:latin typeface="Arial"/>
              </a:rPr>
              <a:t>rozgrywek</a:t>
            </a:r>
            <a:r>
              <a:rPr b="0" lang="pl-PL" sz="1600" spc="-1" strike="noStrike">
                <a:solidFill>
                  <a:srgbClr val="b30000"/>
                </a:solidFill>
                <a:latin typeface="Arial"/>
              </a:rPr>
              <a:t>: Gimnazjum w Pakosławic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b30000"/>
                </a:solidFill>
                <a:latin typeface="Arial"/>
              </a:rPr>
              <a:t>Zespół Redakcyjny: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lasa VI Szkoły Podstawowej w Goszowicach pod opieką                                                                   Zbigniewa Gmochowskie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b30000"/>
                </a:solidFill>
                <a:latin typeface="Arial"/>
              </a:rPr>
              <a:t>Zdjęcia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mgr Grzegorz Balińsk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0720" y="6659640"/>
            <a:ext cx="864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360000" y="7199280"/>
            <a:ext cx="18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7020000"/>
            <a:ext cx="882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D79-CCD2-4E4D-9941-1598C28D6D9F}" type="slidenum">
              <a:t>3</a:t>
            </a:fld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9280" y="360360"/>
            <a:ext cx="161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4600" y="360360"/>
            <a:ext cx="7475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Winieta                                                                   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60360" y="1440000"/>
            <a:ext cx="79200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YSCYPLINY SPORT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łka nożna halowa – drużyna chłopc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minton – gry indywidualne dziewczą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ingo – drużyna dziewczą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nis – gry indywidualne chłopc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ry i zabaw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ę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ca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ac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cra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zz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IFA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r przeszkód – drużyny przedszkola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6840360"/>
            <a:ext cx="882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9EB-E94A-427E-AC63-AE5603B3D534}" type="slidenum">
              <a:t>4</a:t>
            </a:fld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1260360"/>
            <a:ext cx="918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60360" y="1260360"/>
            <a:ext cx="7739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miesiącach październiku – grudniu 2008 przeprowadzono dodatkowe zajęcia w szkołach mające na celu przygotowanie dzieci do Gminnych Igrzysk Olimpijsk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reza ta zorganizowana 13.12.2008. w rocznicę wprowadzenia stanu wojennego przeprowadzona została w Publicznym Gimnazj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akosławic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grzyska były imprezą podsumowującą cały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angażowane w nią były wszystkie placówki oświatowe naszej gmin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cześniej wspomniane Publiczne Gimnazjum w Pakosławic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dszkole we Frączkow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koła Podstawowa i Przedszkole w Prusinowic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Szkoła Podstawowa w Goszowic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koła Podstawowa ze Złotogłow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zkołach prowadzono dodatkowe zajęcia pozalekcyjne z logicznego myślenia, kółko turystyczne oraz zajęcia sport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eci w ramach zajęć sportowych brały udział w nauce gry w ringo, badmintona, tenisa stołowego oraz piłki nożnej halow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79640" y="360360"/>
            <a:ext cx="809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46040" y="360360"/>
            <a:ext cx="7475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Wprowadzenie                                                        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BCB-1A4C-4B82-97A4-9322A3CF27F8}" type="slidenum">
              <a:t>5</a:t>
            </a:fld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79640" y="539640"/>
            <a:ext cx="809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44600" y="360360"/>
            <a:ext cx="7475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Wprowadzenie                                                        2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900000"/>
            <a:ext cx="846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obywcy trzech pierwszych miejsc z każdej konkurencji otrzymali me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nagro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tomiast wszyscy uczestnicy pamiątkowe koszulki i dypl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 dniu odbyło się wiele imprez towarzysząc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kurs tańca sportowego dla dzieci i młodzieży szkół podstawowych                    i gimnazj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awa prac uczniów pt. „Atrakcje krajobrazowe, kulturowe i turystyczne              gminy Pakosław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tkanie z panem Andrzejem Zającem zdobywcą złotego medalu                         na paraolimpiadzie w Peki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awa prac konkursowych na symbol gminnych igrzy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ała impreza została podsumowana akademią poświęconą sportowcom stanu wojenn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ojekcie obok dzieci i uczniów z gminy Pakosławice wzięli udział zaproszeni goście z Republiki Czech ze Zlatych 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ncją organizatorów było, aby w zawodach wzięło możliwie jak najwięcej dzieci, aby mogły cieszyć się i żyć zawodami jak najdłużej, a jednocześnie przybliżyć    im najnowszą historię Pols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gramem zostało objętych około 200 dzie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1AD-E154-4A27-BE76-B3F57B8A766B}" type="slidenum">
              <a:t>6</a:t>
            </a:fld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79640" y="1260360"/>
            <a:ext cx="8459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6440" y="1079640"/>
            <a:ext cx="6343560" cy="4562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559640" y="2519280"/>
            <a:ext cx="1800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to cała ek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Szkoły Podstaw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z Goszow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Za chwilę wszyscy wezmą udzia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 zawod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0360" y="360360"/>
            <a:ext cx="7559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Wprowadzenie                                                         3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00C-2EA8-4A26-80D9-9B5A32CCA9F6}" type="slidenum">
              <a:t>7</a:t>
            </a:fld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7020000" cy="450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57400" y="322200"/>
            <a:ext cx="7481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Wprowadzenie                                                         4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0720" y="900000"/>
            <a:ext cx="864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Młodzież i dzieci wzięły udział w akademii upamiętniającej rocznicę wprowad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 Polsce stanu wojenn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3600360"/>
            <a:ext cx="15591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Uroczystoś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rzygotow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gimnazjali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z Pakosławi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B04-3810-4B5D-8E39-8574B8341814}" type="slidenum">
              <a:t>8</a:t>
            </a:fld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6800" y="900000"/>
            <a:ext cx="3822840" cy="2762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57720" y="795240"/>
            <a:ext cx="4562640" cy="6043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57400" y="360360"/>
            <a:ext cx="7481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Arial"/>
              </a:rPr>
              <a:t>Ringo – drużyna dziewcząt z Goszowic                  1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4680000"/>
            <a:ext cx="341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ziewczęta z Goszowic: Barbara Broda, Sylwia Mielnik, Ela Wańko zajęły II miejsce w tej dyscypli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3780000"/>
            <a:ext cx="468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23dc"/>
                </a:solidFill>
                <a:latin typeface="Arial"/>
              </a:rPr>
              <a:t>Na zdjęciu powyżej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23dc"/>
                </a:solidFill>
                <a:latin typeface="Arial"/>
              </a:rPr>
              <a:t>dziewczyny ze Szkoły Podstawowej w Goszowicach: Basia Broda, Sylwia Mielnik, Ela Wańk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5940360"/>
            <a:ext cx="342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Na zdjęciu obok: odebrały medal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500" spc="-1" strike="noStrike">
                <a:solidFill>
                  <a:srgbClr val="2300dc"/>
                </a:solidFill>
                <a:latin typeface="Arial"/>
              </a:rPr>
              <a:t>i puchar za II miejsce.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539640" y="7020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80"/>
              </a:gs>
              <a:gs pos="50000">
                <a:srgbClr val="800000"/>
              </a:gs>
              <a:gs pos="100000">
                <a:srgbClr val="000080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640720" y="702000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4500720" y="6840360"/>
            <a:ext cx="360360" cy="360720"/>
          </a:xfrm>
          <a:prstGeom prst="upArrowCallout">
            <a:avLst>
              <a:gd name="adj1" fmla="val 25002"/>
              <a:gd name="adj2" fmla="val 25000"/>
              <a:gd name="adj3" fmla="val 16683"/>
              <a:gd name="adj4" fmla="val 66660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79800" y="6467400"/>
            <a:ext cx="2761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1D7-C1EC-48BB-8542-DCCE8180939D}" type="slidenum">
              <a:t>9</a:t>
            </a:fld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