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5D6-A920-44CC-8872-88FC4888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149-3BFF-463B-B6F6-29158484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0C0-E9E0-47E6-BE65-E39BFC11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A29-CDA2-4B92-99C6-28FA1817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C0C-BAF7-4EC3-B7B2-FFF64D4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7CF-8C0F-43DF-9477-8E568A31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553-4373-49A2-A059-7FE8B3C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4F4-4537-430F-A43E-BD73D43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024-C03C-4721-BFD1-DB66547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9F3-9500-41E7-980E-F4C61D5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366-3707-4126-9D8F-137BC94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5C2-A785-4867-AF78-1B01CCD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57E-7767-41D4-A153-AE456BFBCF7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DANIE  nr 8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ne dwa okrę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promieniach R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łączyć łukiem wypukł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zadanym promieniu r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oła_łącz_łukiem_zew_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ła_łącz_łukiem_zew_6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6600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ff66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koła_łącz_łukiem_zew_6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oła_łącz_łukiem_zew_1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oła_łącz_łukiem_zew_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uki przetną się 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oła_łącz_łukiem_zew_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uki przetną się w punkcie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oła_łącz_łukiem_zew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zecinającą okrąg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koła_łącz_łukiem_zew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zecinającą okrąg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oła_łącz_łukiem_zew_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zecinającą okrąg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oła_łącz_łukiem_zew_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omocniczą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zecinającą okrąg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oła_łącz_łukiem_zew_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6:51:32Z</dcterms:modified>
  <cp:revision>27</cp:revision>
  <dc:subject/>
  <dc:title>PowerPoint Presentation</dc:title>
</cp:coreProperties>
</file>