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60F91-FA04-4E7B-AF14-B3406970C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49CD0-B14D-45FB-A4AC-8B3959656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DAA6F-63D0-412C-9094-6F617BD01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AA808-C8CC-4DCA-8574-95C5B18D3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4EA17-A79A-43D3-8D55-1F5D65458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232A1-A0F6-430C-921D-72F5D310E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A8236-A2C2-49C6-A45F-6F01229A5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1273C-1BA5-405C-A2FD-9898665BD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B15E0-BEE0-4B18-AC25-C55116621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F3D07-291F-41F1-BE37-B254B564F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C92CC-107D-49FB-B3DF-CB2045A1A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69CAA-E980-4F57-ADF7-2C97C79A0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9240C-AA46-4C33-901F-D60D52B1BBF1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Times New Roman"/>
              </a:rPr>
              <a:t>ZADANIE  nr 8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437920"/>
            <a:ext cx="64008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Dane dwa okręg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o promieniach R</a:t>
            </a:r>
            <a:r>
              <a:rPr b="0" lang="pl-PL" sz="32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 i R</a:t>
            </a:r>
            <a:r>
              <a:rPr b="0" lang="pl-PL" sz="32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połączyć łukiem wklęsły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o zadanym promieniu r</a:t>
            </a:r>
            <a:r>
              <a:rPr b="0" lang="pl-PL" sz="3200" spc="-1" strike="noStrike" baseline="-25000">
                <a:solidFill>
                  <a:srgbClr val="ffffff"/>
                </a:solidFill>
                <a:latin typeface="Times New Roman"/>
              </a:rPr>
              <a:t>Z</a:t>
            </a: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-360" y="-5965920"/>
            <a:ext cx="22860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W punkcie O</a:t>
            </a:r>
            <a:r>
              <a:rPr b="0" lang="pl-PL" sz="24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 wbij nóżkę cyrkl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Zatocz łuk o promieniu r</a:t>
            </a:r>
            <a:r>
              <a:rPr b="0" lang="pl-PL" sz="2400" spc="-1" strike="noStrike" baseline="-25000">
                <a:solidFill>
                  <a:srgbClr val="ffffff"/>
                </a:solidFill>
                <a:latin typeface="Times New Roman"/>
              </a:rPr>
              <a:t>Z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 łącząc punkty A i 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koła_łącz_łukiem_wew_5" descr=""/>
          <p:cNvPicPr/>
          <p:nvPr/>
        </p:nvPicPr>
        <p:blipFill>
          <a:blip r:embed="rId1"/>
          <a:stretch/>
        </p:blipFill>
        <p:spPr>
          <a:xfrm>
            <a:off x="1905120" y="1763640"/>
            <a:ext cx="5333760" cy="509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-360" y="-5965920"/>
            <a:ext cx="22860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W punkcie O</a:t>
            </a:r>
            <a:r>
              <a:rPr b="0" lang="pl-PL" sz="24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 wbij nóżkę cyrkl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Zatocz łuk o promieniu r</a:t>
            </a:r>
            <a:r>
              <a:rPr b="0" lang="pl-PL" sz="2400" spc="-1" strike="noStrike" baseline="-25000">
                <a:solidFill>
                  <a:srgbClr val="ffffff"/>
                </a:solidFill>
                <a:latin typeface="Times New Roman"/>
              </a:rPr>
              <a:t>Z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 łącząc punkty A i 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koła_łącz_łukiem_wew_6" descr=""/>
          <p:cNvPicPr/>
          <p:nvPr/>
        </p:nvPicPr>
        <p:blipFill>
          <a:blip r:embed="rId1"/>
          <a:stretch/>
        </p:blipFill>
        <p:spPr>
          <a:xfrm>
            <a:off x="1905120" y="1763640"/>
            <a:ext cx="5333760" cy="509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3300"/>
                </a:solidFill>
                <a:latin typeface="Times New Roman"/>
              </a:rPr>
              <a:t>GOTOWE  </a:t>
            </a:r>
            <a:r>
              <a:rPr b="1" lang="pl-PL" sz="4400" spc="-1" strike="noStrike">
                <a:solidFill>
                  <a:srgbClr val="ff3300"/>
                </a:solidFill>
                <a:latin typeface="Times New Roman"/>
              </a:rPr>
              <a:t>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1880" y="5486400"/>
            <a:ext cx="457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5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koła_łącz_łukiem_wew_6" descr=""/>
          <p:cNvPicPr/>
          <p:nvPr/>
        </p:nvPicPr>
        <p:blipFill>
          <a:blip r:embed="rId1"/>
          <a:stretch/>
        </p:blipFill>
        <p:spPr>
          <a:xfrm>
            <a:off x="1905120" y="1763640"/>
            <a:ext cx="5333760" cy="509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-360" y="-5965920"/>
            <a:ext cx="22860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W punkcie O</a:t>
            </a:r>
            <a:r>
              <a:rPr b="0" lang="pl-PL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 wbij nóżkę cyrkl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Zatocz łuk o promieniu (r</a:t>
            </a:r>
            <a:r>
              <a:rPr b="0" lang="pl-PL" sz="2400" spc="-1" strike="noStrike" baseline="-25000">
                <a:solidFill>
                  <a:srgbClr val="ffffff"/>
                </a:solidFill>
                <a:latin typeface="Times New Roman"/>
              </a:rPr>
              <a:t>Z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+R</a:t>
            </a:r>
            <a:r>
              <a:rPr b="0" lang="pl-PL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koła_łącz_łukiem_wew_1" descr=""/>
          <p:cNvPicPr/>
          <p:nvPr/>
        </p:nvPicPr>
        <p:blipFill>
          <a:blip r:embed="rId1"/>
          <a:stretch/>
        </p:blipFill>
        <p:spPr>
          <a:xfrm>
            <a:off x="1905120" y="1763640"/>
            <a:ext cx="5333760" cy="509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-360" y="-5965920"/>
            <a:ext cx="22860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519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W punkcie O</a:t>
            </a:r>
            <a:r>
              <a:rPr b="0" lang="pl-PL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 wbij nóżkę cyrkl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Zatocz łuk o promieniu (r</a:t>
            </a:r>
            <a:r>
              <a:rPr b="0" lang="pl-PL" sz="2400" spc="-1" strike="noStrike" baseline="-25000">
                <a:solidFill>
                  <a:srgbClr val="ffffff"/>
                </a:solidFill>
                <a:latin typeface="Times New Roman"/>
              </a:rPr>
              <a:t>Z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+R</a:t>
            </a:r>
            <a:r>
              <a:rPr b="0" lang="pl-PL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koła_łącz_łukiem_wew_2" descr=""/>
          <p:cNvPicPr/>
          <p:nvPr/>
        </p:nvPicPr>
        <p:blipFill>
          <a:blip r:embed="rId1"/>
          <a:stretch/>
        </p:blipFill>
        <p:spPr>
          <a:xfrm>
            <a:off x="1905120" y="1763640"/>
            <a:ext cx="5333760" cy="509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-360" y="-5965920"/>
            <a:ext cx="22860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519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W punkcie O</a:t>
            </a:r>
            <a:r>
              <a:rPr b="0" lang="pl-PL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 wbij nóżkę cyrkl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Zatocz łuk o promieniu (r</a:t>
            </a:r>
            <a:r>
              <a:rPr b="0" lang="pl-PL" sz="2400" spc="-1" strike="noStrike" baseline="-25000">
                <a:solidFill>
                  <a:srgbClr val="ffffff"/>
                </a:solidFill>
                <a:latin typeface="Times New Roman"/>
              </a:rPr>
              <a:t>Z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+R</a:t>
            </a:r>
            <a:r>
              <a:rPr b="0" lang="pl-PL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Łuki przetną się w punkcie O</a:t>
            </a:r>
            <a:r>
              <a:rPr b="0" lang="pl-PL" sz="24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koła_łącz_łukiem_wew_2" descr=""/>
          <p:cNvPicPr/>
          <p:nvPr/>
        </p:nvPicPr>
        <p:blipFill>
          <a:blip r:embed="rId1"/>
          <a:stretch/>
        </p:blipFill>
        <p:spPr>
          <a:xfrm>
            <a:off x="1905120" y="1763640"/>
            <a:ext cx="5333760" cy="509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-360" y="-5965920"/>
            <a:ext cx="22860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522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W punkcie O</a:t>
            </a:r>
            <a:r>
              <a:rPr b="0" lang="pl-PL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 wbij nóżkę cyrkl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Zatocz łuk o promieniu (r</a:t>
            </a:r>
            <a:r>
              <a:rPr b="0" lang="pl-PL" sz="2400" spc="-1" strike="noStrike" baseline="-25000">
                <a:solidFill>
                  <a:srgbClr val="ffffff"/>
                </a:solidFill>
                <a:latin typeface="Times New Roman"/>
              </a:rPr>
              <a:t>Z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+R</a:t>
            </a:r>
            <a:r>
              <a:rPr b="0" lang="pl-PL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Łuki przetną się w punkcie O</a:t>
            </a:r>
            <a:r>
              <a:rPr b="0" lang="pl-PL" sz="24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koła_łącz_łukiem_wew_3" descr=""/>
          <p:cNvPicPr/>
          <p:nvPr/>
        </p:nvPicPr>
        <p:blipFill>
          <a:blip r:embed="rId1"/>
          <a:stretch/>
        </p:blipFill>
        <p:spPr>
          <a:xfrm>
            <a:off x="1905120" y="1763640"/>
            <a:ext cx="5333760" cy="509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-5965920"/>
            <a:ext cx="22860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prowadź prostą pomocniczą O</a:t>
            </a:r>
            <a:r>
              <a:rPr b="0" lang="pl-PL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pl-PL" sz="24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 przecinającą okrąg w punkcie 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koła_łącz_łukiem_wew_3" descr=""/>
          <p:cNvPicPr/>
          <p:nvPr/>
        </p:nvPicPr>
        <p:blipFill>
          <a:blip r:embed="rId1"/>
          <a:stretch/>
        </p:blipFill>
        <p:spPr>
          <a:xfrm>
            <a:off x="1905120" y="1763640"/>
            <a:ext cx="5333760" cy="509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-5965920"/>
            <a:ext cx="22860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519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prowadź prostą pomocniczą O</a:t>
            </a:r>
            <a:r>
              <a:rPr b="0" lang="pl-PL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pl-PL" sz="24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 przecinającą okrąg w punkcie 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koła_łącz_łukiem_wew_4" descr=""/>
          <p:cNvPicPr/>
          <p:nvPr/>
        </p:nvPicPr>
        <p:blipFill>
          <a:blip r:embed="rId1"/>
          <a:stretch/>
        </p:blipFill>
        <p:spPr>
          <a:xfrm>
            <a:off x="1905120" y="1763640"/>
            <a:ext cx="5333760" cy="509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-360" y="-5965920"/>
            <a:ext cx="22860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prowadź prostą pomocniczą O</a:t>
            </a:r>
            <a:r>
              <a:rPr b="0" lang="pl-PL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pl-PL" sz="24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 przecinającą okrąg w punkcie 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koła_łącz_łukiem_wew_4" descr=""/>
          <p:cNvPicPr/>
          <p:nvPr/>
        </p:nvPicPr>
        <p:blipFill>
          <a:blip r:embed="rId1"/>
          <a:stretch/>
        </p:blipFill>
        <p:spPr>
          <a:xfrm>
            <a:off x="1905120" y="1763640"/>
            <a:ext cx="5333760" cy="509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-5965920"/>
            <a:ext cx="22860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prowadź prostą pomocniczą O</a:t>
            </a:r>
            <a:r>
              <a:rPr b="0" lang="pl-PL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pl-PL" sz="24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 przecinającą okrąg w punkcie 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koła_łącz_łukiem_wew_5" descr=""/>
          <p:cNvPicPr/>
          <p:nvPr/>
        </p:nvPicPr>
        <p:blipFill>
          <a:blip r:embed="rId1"/>
          <a:stretch/>
        </p:blipFill>
        <p:spPr>
          <a:xfrm>
            <a:off x="1905120" y="1763640"/>
            <a:ext cx="5333760" cy="5094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Ostrowski Ryszard</cp:lastModifiedBy>
  <dcterms:modified xsi:type="dcterms:W3CDTF">2004-07-25T17:04:29Z</dcterms:modified>
  <cp:revision>29</cp:revision>
  <dc:subject/>
  <dc:title>PowerPoint Presentation</dc:title>
</cp:coreProperties>
</file>