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8E6-D3C1-4578-AEB8-E0D90EF1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EEC-CCA2-4444-A34D-72C1A6C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2D1-2854-4418-9C50-DAD5DFEE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DA2-1B9A-41AA-BE4A-7550786F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0B3-02CE-46C8-8DB3-DB04BBAF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32E-5018-442A-A7D9-69C805F3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B6B-0CF9-4652-93AB-8FF6D3D6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004-B9DD-48D3-B53A-295EB89A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68B-17E4-4BE7-8030-06055834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37C-F858-43E8-8F4C-93AC713A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6A13-A911-4CAF-A4B2-667CFC52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DA3-A228-4E0C-877D-033C2480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CB97-793A-41AF-ADA2-DDABB8DD901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ZADANIE  n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wie proste prostopadł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łączyć łuki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 założonym promieniu r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3300"/>
                </a:solidFill>
                <a:latin typeface="Times New Roman"/>
              </a:rPr>
              <a:t>GOTOWE  </a:t>
            </a:r>
            <a:r>
              <a:rPr b="1" lang="pl-PL" sz="4400" spc="-1" strike="noStrike">
                <a:solidFill>
                  <a:srgbClr val="6633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1880" y="5486400"/>
            <a:ext cx="45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łuk_prostokątny_5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0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promieniu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 W wyniku przecięcia powstaną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łuk_prostokątny_1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unkcie 0 wbij nóżkę cyr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tocz łuk o promieniu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 W wyniku przecięcia powstaną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łuk_prostokątny_2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A i zakreśl łuk o promieniu tym samym co poprzed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łuk_prostokątny_2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A i zakreśl łuk o promieniu tym samym co poprzed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łuk_prostokątny_3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B i zakreśl łuk o promieniu tym samym co poprzed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stałe łuki przetną się w punkcie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łuk_prostokątny_3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6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B i zakreśl łuk o promieniu tym samym co poprzed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wstałe łuki przetną się w punkcie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łuk_prostokątny_4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C i zakreśl łuk o promieniu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łącząc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łuk_prostokątny_4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596592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bij nóżkę cyrkla w punkcie C i zakreśl łuk o promieniu r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łącząc punkty A i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łuk_prostokątny_5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800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trowski Ryszard</cp:lastModifiedBy>
  <dcterms:modified xsi:type="dcterms:W3CDTF">2004-07-25T15:07:28Z</dcterms:modified>
  <cp:revision>8</cp:revision>
  <dc:subject/>
  <dc:title>PowerPoint Presentation</dc:title>
</cp:coreProperties>
</file>