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B16-E849-47B5-8BFE-A004D1C1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3FA-2112-4D8F-A9C2-06CF12A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7FF-2E6A-4974-A0B9-1E1775AA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08E-6EDF-4D6E-9112-10816544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434-0FA2-4E10-A753-C7D933AC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B16-6AE1-4E76-B7A1-EEF76AD1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D6B-56B8-43F2-B49A-4635B0D8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67B-D04E-4D71-8A89-7D56589D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7FE-D19D-4B23-A54A-8B5636AF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606-0F96-48D3-B72E-8E490451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8BD-8EE7-4C89-8242-E077ACC5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035-F163-41E5-822B-346D44D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9BFF-0397-4EDA-88A5-EA3FAF3F639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ADANIE  n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ąt pros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dziel na trzy równe ką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(3x30</a:t>
            </a:r>
            <a:r>
              <a:rPr b="0" i="1" lang="pl-PL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łącz punkty 0 i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kąt_na_3_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łącz punkty 0 i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kąt_na_3_6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cc"/>
                </a:solidFill>
                <a:latin typeface="Times New Roman"/>
              </a:rPr>
              <a:t>GOTOWE  </a:t>
            </a:r>
            <a:r>
              <a:rPr b="1" lang="pl-PL" sz="44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1880" y="5486400"/>
            <a:ext cx="45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kąt_na_3_6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0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dowolnym promieniu. W wyniku przecięcia powstaną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kąt_na_3_1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0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dowolnym promieniu. W wyniku przecięcia powstaną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kąt_na_3_2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m samym promieniem zatocz ł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 przecięciu powstanie punkt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kąt_na_3_2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m samym promieniem zatocz ł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 przecięciu powstanie punkt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kąt_na_3_3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łącz punkty 0 i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kąt_na_3_3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łącz punkty 0 i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kąt_na_3_4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m samym promieniem co poprzednio zatocz ł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 przecięciu powstanie punkt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kąt_na_3_4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m samym promieniem co poprzednio zatocz ł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 przecięciu powstanie punkt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kąt_na_3_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trowski Ryszard</cp:lastModifiedBy>
  <dcterms:modified xsi:type="dcterms:W3CDTF">2004-07-25T14:37:33Z</dcterms:modified>
  <cp:revision>20</cp:revision>
  <dc:subject/>
  <dc:title>PowerPoint Presentation</dc:title>
</cp:coreProperties>
</file>