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686-FEC6-46A8-BD14-436904C7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C7A-0CC3-42C1-B46E-38481676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ED9-1F11-4491-8D92-A38547E4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ED8-A52E-40D5-89C9-71AC0B2A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5FC-EF44-4FA4-91FA-29056EF0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BCDB-F5EE-47F5-B0B5-CA72199C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810-9B28-4CF2-8494-613354A3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1EE5-0E24-4472-B02E-0E6A3058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D3C-1B27-4BC1-8748-52E80A4E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EEF-05D9-47ED-938B-1AAC5132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91E-9E51-437F-B138-E7D5B569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9E1-37DE-4600-9D5B-B780BA8D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9D9F-9E93-4F87-A921-42FC6C3D13D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ZADANIE  nr 2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any kąt o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odziel na dwa równe ką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GOTOWE  </a:t>
            </a: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1880" y="5486400"/>
            <a:ext cx="45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kąt_ostr_na_2_5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86728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unkcie 0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ocz łuk o dowolnym promieniu. W wyniku przecięcia powstaną punkty A i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kąt_ostr_na_2_1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86728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unkcie 0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ocz łuk o dowolnym promieniu. W wyniku przecięcia powstaną punkty A i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kąt_ostr_na_2_2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86728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bij nóżkę cyrkla w punkcie A i zakreśl łuk o promieniu tym samym co poprzed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kąt_ostr_na_2_2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86728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bij nóżkę cyrkla w punkcie A i zakreśl łuk o promieniu tym samym co poprzed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kąt_ostr_na_2_3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86728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bij nóżkę cyrkla w punkcie B i zakreśl łuk o promieniu tym samym co poprzed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stałe łuki przetną się w punkcie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kąt_ostr_na_2_3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86728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bij nóżkę cyrkla w punkcie B i zakreśl łuk o promieniu tym samym co poprzed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stałe łuki przetną się w punkcie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kąt_ostr_na_2_4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86728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prowadź prostą przez punkty 0 i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kąt_ostr_na_2_4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86728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prowadź prostą przez punkty 0 i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kąt_ostr_na_2_5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867280" cy="420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strowski Ryszard</cp:lastModifiedBy>
  <dcterms:modified xsi:type="dcterms:W3CDTF">2004-07-25T12:17:22Z</dcterms:modified>
  <cp:revision>4</cp:revision>
  <dc:subject/>
  <dc:title>PowerPoint Presentation</dc:title>
</cp:coreProperties>
</file>