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51F-235B-4DF4-A2B9-55D6F635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53E-4E35-4A59-B601-1595EF3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217-BAA6-44C8-AB47-8A5BE3A0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181-0512-4A57-BD05-AC1F97D4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655-1C50-4334-81F1-922BABA8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4AB-5D1E-40A5-BAA9-2DB7A5B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DB1-D69D-44DE-8005-8723D68C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1F9-4637-436A-A63C-193C7636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D0C-97FD-4D18-B9BD-1A873654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106-FFC1-43EE-9AA9-261010A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A4D-9F79-4EE6-B89C-CB33390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4CF-14F3-4C30-AAD3-4818668C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503-F40C-44EF-9962-5732DD596D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Times New Roman"/>
              </a:rPr>
              <a:t>ZADANIE  n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99"/>
                </a:solidFill>
                <a:latin typeface="Times New Roman"/>
              </a:rPr>
              <a:t>W okrąg o promieniu r</a:t>
            </a:r>
            <a:r>
              <a:rPr b="0" lang="pl-PL" sz="3200" spc="-1" strike="noStrike" baseline="-25000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99"/>
                </a:solidFill>
                <a:latin typeface="Times New Roman"/>
              </a:rPr>
              <a:t>wpisz sześciokąt forem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Połącz punkty leżące na przecięciach łuków pomocniczych i okrę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ześciokąt_5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Połącz punkty leżące na przecięciach łuków pomocniczych i okrę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ześciokąt_6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Czynności te powtarzaj do chwili osiągnięcia kształtu sześciokąta forem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ześciokąt_6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Czynności te powtarzaj do chwili osiągnięcia kształtu sześciokąta forem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ześciokąt_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33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ccff33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ześciokąt_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Na okręgu, w jego osi, zaznacz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ześciokąt_1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Na okręgu, w jego osi, zaznacz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ześciokąt_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Wbij nóżkę cyrkla w punkcie A i wykonaj łuk o promieniu r</a:t>
            </a:r>
            <a:r>
              <a:rPr b="0" lang="pl-PL" sz="2400" spc="-1" strike="noStrike" baseline="-25000">
                <a:solidFill>
                  <a:srgbClr val="ffff99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ześciokąt_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Wbij nóżkę cyrkla w punkcie A i wykonaj łuk o promieniu r</a:t>
            </a:r>
            <a:r>
              <a:rPr b="0" lang="pl-PL" sz="2400" spc="-1" strike="noStrike" baseline="-25000">
                <a:solidFill>
                  <a:srgbClr val="ffff99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ześciokąt_3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Wbij nóżkę cyrkla w punkcie B i wykonaj łuk o promieniu r</a:t>
            </a:r>
            <a:r>
              <a:rPr b="0" lang="pl-PL" sz="2400" spc="-1" strike="noStrike" baseline="-25000">
                <a:solidFill>
                  <a:srgbClr val="ffff99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ześciokąt_3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Wbij nóżkę cyrkla w punkcie B i wykonaj łuk o promieniu r</a:t>
            </a:r>
            <a:r>
              <a:rPr b="0" lang="pl-PL" sz="2400" spc="-1" strike="noStrike" baseline="-25000">
                <a:solidFill>
                  <a:srgbClr val="ffff99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ześciokąt_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Połącz punkt A z najbliższym siebie punktem leżącym na przecięciu łuku pomocniczego i okrę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ześciokąt_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Times New Roman"/>
              </a:rPr>
              <a:t>Połącz punkt A z najbliższym siebie punktem leżącym na przecięciu łuku pomocniczego i okrę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ześciokąt_5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497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5T18:08:56Z</dcterms:modified>
  <cp:revision>25</cp:revision>
  <dc:subject/>
  <dc:title>PowerPoint Presentation</dc:title>
</cp:coreProperties>
</file>