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4D0-7F69-4B8D-99D6-172BA9A2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E83-F5B2-4D3D-B5D3-64FCFA78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F37-9E32-41B4-B691-A96DB366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5BB-1238-48C5-833E-37CC0C31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409-0F80-44EA-87A0-D9ED30C0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D8E-A7CA-4F34-AEE7-1565F5B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232-1B7D-4B00-9187-BC8D46F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6D3-18CF-4F50-BF77-D0E94F8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2C2-943C-4F1B-BF48-5B0EB2C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79B-3DCB-4135-B6B8-BC8301B6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922-076C-42B8-9E71-42A8169A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7D4-998D-4649-B729-79C39FCE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2720-536B-46D8-A344-0BD45C55CE6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ff99"/>
                </a:solidFill>
                <a:latin typeface="Times New Roman"/>
              </a:rPr>
              <a:t>ZADANIE  nr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ff99"/>
                </a:solidFill>
                <a:latin typeface="Times New Roman"/>
              </a:rPr>
              <a:t>W dany okrą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cff99"/>
                </a:solidFill>
                <a:latin typeface="Times New Roman"/>
              </a:rPr>
              <a:t>wpisz pięciokąt forem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C i zakreśl łuk o promieniu długości 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ęciokąt_5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C i zakreśl łuk o promieniu długości 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ęciokąt_6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ając nóżkę cyrkla w powstały punkt E zakreśl łuk o długości jak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Czynności te powtórz, wbijając nóżkę cyrkla w nowo powstające punkty na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ęciokąt_6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ając nóżkę cyrkla w powstały punkt E zakreśl łuk o długości jak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Czynności te powtórz, wbijając nóżkę cyrkla w nowo powstające punkty na okręg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opia%20pięciokąt_7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łącz powstałe punk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Kopia%20pięciokąt_7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łącz powstałe punk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opia%20pięciokąt_9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Kopia%20pięciokąt_9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Na powierzchni okręgu, na jego osiach obierz punkty A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ęciokąt_1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Na powierzchni okręgu, na jego osiach obierz punkty A i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ęciokąt_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A i zakreśl łuk o dowolnym promieniu, większym od polowy długości odcinka A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B i zakreśl łuk o tym samym prom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ęciokąt_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A i zakreśl łuk o dowolnym promieniu, większym od polowy długości odcinka A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B i zakreśl łuk o tym samym promien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ęciokąt_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łącz punkty powstałe z przecięcia łu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ęciokąt_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łącz punkty powstałe z przecięcia łuk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ęciokąt_4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B i zakreśl łuk o promieniu długości 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ęciokąt_4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Wbij nóżkę cyrkla w punkcie B i zakreśl łuk o promieniu długości 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ccff99"/>
                </a:solidFill>
                <a:latin typeface="Times New Roman"/>
              </a:rPr>
              <a:t>Powstanie punkt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ęciokąt_5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244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6T16:53:32Z</dcterms:modified>
  <cp:revision>24</cp:revision>
  <dc:subject/>
  <dc:title>PowerPoint Presentation</dc:title>
</cp:coreProperties>
</file>