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894-4D8A-4567-9232-452AC792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E15B-353A-4B2D-AFB0-FAF66FF4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865-2DFF-45A4-9BE9-88555C4A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ADD-3326-41CA-BDE2-F18123A5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8FA-AC77-44CA-AE1B-7E4C8DDB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585F-1896-4C2E-B14E-CDB1D992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79-4407-4D3E-862F-FDC317F4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D7B-3208-4154-8457-7CF646A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D03-2264-42CF-A830-9E8EAF28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621-4E71-4511-A0A4-486ADC7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0B3-6D3F-40CA-AD41-B612F3C9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DC5-249C-489A-B2E5-41282DD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DDD6-D2F4-4B5B-AB70-3B5EB7401A5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ZADANIE  n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ny odcinek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dzielić na dwie równe czę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2776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A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nim łuk o dowolnym promieni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(zaleca się długość promienia równą długości odcinka A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dcinek_1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57754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A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nim łuk o dowolnym promieniu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(zaleca się długość promienia równą długości odcinka AB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Kopia%20odcinek_2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57754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B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nim łuk o takim samym promieniu jak poprzednio – łuki przetną się – uzyskasz punkty C i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Kopia%20odcinek_2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-577548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B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nim łuk o takim samym promieniu jak poprzednio – łuki przetną się – uzyskasz punkty C i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Kopia%20odcinek_3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-55087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wyniku połączenia punktów C i D powstanie punkt E leżący w połowie odcinka 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dcinek_3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-55087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wyniku połączenia punktów C i D powstanie punkt E dzielący odcinek AB na dwie równe czę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Kopia%20odcinek_4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GOTOWE </a:t>
            </a:r>
            <a:r>
              <a:rPr b="1" lang="pl-PL" sz="44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odcinek_4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428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7T17:27:40Z</dcterms:modified>
  <cp:revision>17</cp:revision>
  <dc:subject/>
  <dc:title>PowerPoint Presentation</dc:title>
</cp:coreProperties>
</file>