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APARAT.WAV" ContentType="audio/x-wav"/>
  <Override PartName="/ppt/media/image5.wmf" ContentType="image/x-wmf"/>
  <Override PartName="/ppt/media/MASZYNA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F3E-32FE-471C-B948-2B7228E1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98B1-CC79-4B57-89CC-CBBDEEDB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328-FFE4-4AB7-8E55-8AA1332A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C69-A5A1-4C80-BFE9-B502B642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1A79-C87B-43C8-8375-5FD81238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3415-806C-426D-A93D-5E836078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48D0-5C8E-43DA-84B4-F30E4688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6C3-001A-45C0-9EEA-18D10C1D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6D1C-CE13-4970-BB1A-17D52568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CBD1-7D17-4DB2-933A-8D12D685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E130-C355-4A9D-8FD1-C4DBAFC3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1551-EAB3-49F8-90F5-D5B95D04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212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8C0C-7165-4A6B-B718-7A02235765A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ARAT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MASZYNA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audio" Target="../media/APARAT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7b7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2800" y="0"/>
          <a:ext cx="5973840" cy="914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800" y="0"/>
                    <a:ext cx="597384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  <p:sndAc>
      <p:stSnd>
        <p:snd r:embed="rId3" name="APARA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a6a6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2743200"/>
          <a:ext cx="6554880" cy="374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43200"/>
                    <a:ext cx="65548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212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946240"/>
            <a:ext cx="58294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Wykorzystanie  możliwości pakietu Office`97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ułatwia i usprawnia w bardzo dużym stopniu pracę sekretariatu szkoły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zyli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zoom dir="in"/>
    <p:sndAc>
      <p:stSnd>
        <p:snd r:embed="rId1" name="APARAT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72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236232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ypełnienie i wydruk pism urzędowy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ktualizację danych pracowni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zybką selekcję informacj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zybki dostęp do informacj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wipe dir="l"/>
    <p:sndAc>
      <p:stSnd>
        <p:snd r:embed="rId1" name="APARAT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7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 prezentuję przykłady pracy w  aplikacji Power Point,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która stanowi efektowną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latformę pokazu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212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Times New Roman"/>
              </a:rPr>
              <a:t>Dziękuję za uwagę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066320" y="5181480"/>
            <a:ext cx="4800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4572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212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9600" y="1015920"/>
            <a:ext cx="5829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Wykorzystałem w omawianej pracy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rzy aplikacje pakietu Office`97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040" y="3352680"/>
            <a:ext cx="480060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dytor tekstów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aza danych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ezenter Power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blinds dir="horz"/>
    <p:sndAc>
      <p:stSnd>
        <p:snd r:embed="rId1" name="MASZYN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212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5840" y="812520"/>
            <a:ext cx="628632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 aplikacji Access utworzyłem bazę danych o nauczycielach mojej szkoły, która zawierała m.in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4440" y="3250800"/>
            <a:ext cx="5829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mię i nazwisk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d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lef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ykładany przedmi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aż p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ykształce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2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212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3080" y="812520"/>
            <a:ext cx="62863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 edytorze Word przygotowałem zestaw pism, które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ykorzystuje w pracy sekretariat szkoł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3657240"/>
            <a:ext cx="582948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kt mianow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mowa o prac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eks do umow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arta nadgodz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Zaprosze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op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2124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4440" y="1930320"/>
            <a:ext cx="582912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orzystając z korespondencji seryjnej Worda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stawiałem pola korespondencji seryjnej do  przygotowanych p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4920" y="160200"/>
          <a:ext cx="6370560" cy="928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200"/>
                    <a:ext cx="6370560" cy="9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6000">
    <p:cover dir="u"/>
    <p:sndAc>
      <p:stSnd>
        <p:snd r:embed="rId3" name="APARAT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228600" y="360360"/>
          <a:ext cx="6629400" cy="878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60360"/>
                    <a:ext cx="6629400" cy="878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5000">
    <p:wipe dir="u"/>
    <p:sndAc>
      <p:stSnd>
        <p:snd r:embed="rId3" name="APARAT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09480" y="320760"/>
          <a:ext cx="5761080" cy="88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760"/>
                    <a:ext cx="5761080" cy="88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4000">
    <p:strips dir="rd"/>
    <p:sndAc>
      <p:stSnd>
        <p:snd r:embed="rId3" name="APARA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33440" y="558720"/>
          <a:ext cx="5992920" cy="802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558720"/>
                    <a:ext cx="5992920" cy="80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3000">
    <p:blinds dir="horz"/>
    <p:sndAc>
      <p:stSnd>
        <p:snd r:embed="rId3" name="APARAT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0T22:20:22Z</dcterms:created>
  <dc:creator>Tomek</dc:creator>
  <dc:description/>
  <dc:language>en-US</dc:language>
  <cp:lastModifiedBy>***</cp:lastModifiedBy>
  <dcterms:modified xsi:type="dcterms:W3CDTF">2004-06-09T19:44:35Z</dcterms:modified>
  <cp:revision>6</cp:revision>
  <dc:subject/>
  <dc:title>Office`97</dc:title>
</cp:coreProperties>
</file>