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064-238D-4647-9332-04449694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469-CE67-4402-8156-F0F91B2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B0-6D2B-4C34-BB3B-2A6A8A20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23C-CCAA-493E-8ECB-DD1AEDB8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2CF3-14C2-42EB-AFD8-6DC116CC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35CB-56C6-4B9E-A795-467A67B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123-72A7-48FB-AF62-EACC1BD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75E-F854-4616-BB1F-A5ED435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D6BF-E1BF-4C71-A797-4958215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545D-02B5-4715-8A2B-6678853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820-5A2C-42E8-88A2-F2B3DF4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440-5410-47E9-A5E6-6CE79B0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CE29-CC5B-46B2-8531-02E0B79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3BE-2DEB-450E-BD4E-491A38A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E012-4C8E-4A56-9ABA-A161739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0E9-CE51-4C38-908E-57698635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C3E-0341-4C12-960B-580A40C6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E92-A716-485A-AFB9-42049C0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CA9-BE9A-489E-96BF-62050CBF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6EB-E436-4290-A99A-CA132367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DAE-2CFF-4D21-B8EA-A119138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1C2-3E2B-45EF-A344-908357E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B35-FC4D-4C95-BB78-23D988B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567-744B-4801-8E4F-56275B9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4CA-A171-4956-8CB8-4B700432B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29E-05B3-4B4D-B7B7-B1087524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6600"/>
                </a:solidFill>
                <a:latin typeface="Times New Roman"/>
              </a:rPr>
              <a:t>Największe półwyspy świata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Opracowała: Dorota Bęben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LABRADOR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 1 430 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Verdana"/>
              </a:rPr>
              <a:t>Labrador, największy półwysep w Ameryce Północnej, położony we wschodniej Kanadzie, pomiędzy Zatoką Hudsona na zachodzie, Cieśniną Hudsona na północy, Oceanem Atlantyckim na północnym wschodzie i Zatoką Św. Wawrzyńca na południowym wschodzie. Powierzchnia 1,43 mln km</a:t>
            </a:r>
            <a:r>
              <a:rPr b="0" i="1" lang="pl-PL" sz="2800" spc="-1" strike="noStrike" baseline="30000">
                <a:solidFill>
                  <a:srgbClr val="cc6600"/>
                </a:solidFill>
                <a:latin typeface="Verdana"/>
              </a:rPr>
              <a:t>2</a:t>
            </a:r>
            <a:r>
              <a:rPr b="0" i="1" lang="pl-PL" sz="2800" spc="-1" strike="noStrike">
                <a:solidFill>
                  <a:srgbClr val="cc6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BRA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554364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SOMALIJSKI</a:t>
            </a:r>
            <a:br>
              <a:rPr sz="40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900 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Somalijski Półwysep, półwysep w Afryce Wschodniej, między Zatoką Adeńskąa Oceanem Indyjskim. Na Półwyspie Somalijskim leży Somalia i część Etiopii. Powierzchnia ok. 750 tys. km</a:t>
            </a:r>
            <a:r>
              <a:rPr b="0" i="1" lang="pl-PL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Znaczną część powierzchni zajmuje Wyżyna Somalijska. Klimat podrównikowy su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Główne rzeki: Uebi Szebeli, Dżuba. Roślinność pustynna, w głębi półwyspu sawannow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4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SOMALIJSKI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z orbit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39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SKANDYNAWSKI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800 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Skandynawski Półwysep, Skandinaviska halvön, Den skandinaviske halvøy, Skandinavian niemimaa, półwysep w północnej Europie, między Morzami: Norweskim, Północnym, Bałtyckim i Barentsa. Największy na kontynencie. Powierzchnia ok. 800 tys. km</a:t>
            </a:r>
            <a:r>
              <a:rPr b="0" i="1" lang="pl-PL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, długość 1900 km, szerokość 800 k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Na Półwyspie Skandynawskim leżą: Norwegia, Szwecja i północno-zachodnia część Finlandi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SKANDYNAWSKI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79404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BERYJSKI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580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828800"/>
            <a:ext cx="8458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Iberyjski Półwysep, Półwysep Pirenejski, najbardziej na południowy zachód wysunięta część kontynentu europejskiego. Powierzchnia 580 tys. km</a:t>
            </a:r>
            <a:r>
              <a:rPr b="0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. Oddzielony od pnia kontynentalnego Europy masywem Pirenejów, otoczony wodami Morza Śródziemnego(na południu i wschodzie) oraz Oceanu Atlantyckiego (na zachodzie i północy). Na obszarze Półwyspu Iberyjskiego położona jest Hiszpania i Portug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BERYJSKI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343240" y="2362320"/>
            <a:ext cx="43624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BAŁKAŃSKI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570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cc6600"/>
                </a:solidFill>
                <a:latin typeface="Times New Roman"/>
              </a:rPr>
              <a:t>Bałkański Półwysep, półwysep w południowej części Europy, między Morzami: Adriatyckim, Jońskim Egejskim i Czarnym. Oddzielony od Azji cieśninami Bosfor i Dardanele oraz morzem Marmara. Powierzchnia ok. 500 tys. km</a:t>
            </a:r>
            <a:r>
              <a:rPr b="0" i="1" lang="pl-PL" sz="24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pl-PL" sz="2400" spc="-1" strike="noStrike">
                <a:solidFill>
                  <a:srgbClr val="cc6600"/>
                </a:solidFill>
                <a:latin typeface="Times New Roman"/>
              </a:rPr>
              <a:t>, długość 950 km, szerokość do 1260 km. Ponad 50 mln mieszkańców. Skład etniczny: Grecy, Albańczycy, Bułgarzy, Serbowie, Słoweńcy, Chorwaci, Czarnogórcy, Bośniacy, Macedończycy, Turcy, Węgrzy, Ormianie, Żydzi, Romowie. Średnia gęstość zaludnienia 100 osób/km</a:t>
            </a:r>
            <a:r>
              <a:rPr b="0" i="1" lang="pl-PL" sz="24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pl-PL" sz="2400" spc="-1" strike="noStrike">
                <a:solidFill>
                  <a:srgbClr val="cc6600"/>
                </a:solidFill>
                <a:latin typeface="Times New Roman"/>
              </a:rPr>
              <a:t>. Za północną granicę półwyspu przyjmuje się rzekę Sawę i dolny bieg Duna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BAŁKAŃSKI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981080" y="2147760"/>
            <a:ext cx="4442040" cy="34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PÓŁWYSEP - DEFINICJ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ółwysep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 - część lądowej powierzchni Ziemi wysunięta w stronę morza lub jeziora, otoczona z trzech stron wodą. Miejsce, w którym półwysep łączy się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z główną częścią lądu nazywane jest jego nasadą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AZJA MNIEJSZA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510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Azja Mniejsza - półwysep w zachodniej Azji, tworzący pomost lądowy łączący ten kontynent z Europą. Półwysep oblewają morza: Śródziemne, Egejskie, Marmara i Czarne. Od Europy oddzielają go cieśniny Bosfor i Dardanele. Zajmuje powierzchnię ok. 500 tys. km2. Na półwyspie tym leży azjatycka część Turcji Anatolia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AZJA MNIEJSZ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ARABSKI</a:t>
            </a:r>
            <a:br>
              <a:rPr sz="4000"/>
            </a:b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Pow. ok. 2730 tys.km</a:t>
            </a:r>
            <a:r>
              <a:rPr b="0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18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cc6600"/>
                </a:solidFill>
                <a:latin typeface="Verdana"/>
              </a:rPr>
              <a:t>Arabski Półwysep, Dżazirat al'-Arab, największy półwysep Azji, stanowiący jej południowo-zachodnią część, położony pomiędzy Zatoką Perską, Zatoką Omańską, Morzem Arabskim, Zatoką Adeńską, Morzem Czerwonym i Zatoką Akaba. W obręb Półwyspu Arabskiego wchodzi rozległy obszar Pustyni Syryjskiej nie należy zaś do niego Nizina Mezopotamii i ciągnąca się wzdłuż Morza Śródziemnego Wyżyna Syryjsko-Palestyńsk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cc6600"/>
                </a:solidFill>
                <a:latin typeface="Verdana"/>
              </a:rPr>
              <a:t>Tak pojęty obszar ma ok. 2730 tys.km</a:t>
            </a:r>
            <a:r>
              <a:rPr b="1" i="1" lang="pl-PL" sz="1800" spc="-1" strike="noStrike" baseline="30000">
                <a:solidFill>
                  <a:srgbClr val="cc6600"/>
                </a:solidFill>
                <a:latin typeface="Verdana"/>
              </a:rPr>
              <a:t>2</a:t>
            </a:r>
            <a:r>
              <a:rPr b="1" i="1" lang="pl-PL" sz="1800" spc="-1" strike="noStrike">
                <a:solidFill>
                  <a:srgbClr val="cc6600"/>
                </a:solidFill>
                <a:latin typeface="Verdana"/>
              </a:rPr>
              <a:t> powierzchni i leży na terytorium: Arabii Saudyjskiej, Jemenu, Omanu, Zjednoczinych Emiratów Arabskich, Kataru, Kuwejtu, południowo-zachodniego Iraku, południowej Syrii i wschodniej Jordani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8000" y="2286000"/>
            <a:ext cx="5326200" cy="41911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ARABSKI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Z ORBIT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ARABSKI</a:t>
            </a:r>
            <a:br>
              <a:rPr sz="4000"/>
            </a:b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Największe państwo Półwyspu – Arabia Saudyjsk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71560" y="2286000"/>
            <a:ext cx="5600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NDOCHIŃSKI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Z MALAJSKIM</a:t>
            </a:r>
            <a:br>
              <a:rPr sz="4000"/>
            </a:br>
            <a:r>
              <a:rPr b="0" i="1" lang="en-US" sz="2800" spc="-1" strike="noStrike">
                <a:solidFill>
                  <a:srgbClr val="cc6600"/>
                </a:solidFill>
                <a:latin typeface="Times New Roman"/>
              </a:rPr>
              <a:t>Pow. ok. 2200  tys.km</a:t>
            </a:r>
            <a:r>
              <a:rPr b="0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c6600"/>
                </a:solidFill>
                <a:latin typeface="Times New Roman"/>
              </a:rPr>
              <a:t>Indochiński Półwysep, półwysep w południowo-wschodniej części kontynentu azjatyckiego, otoczony wodami (z zachodu na wschód) Zatoki Bengalskiej, Morza Andamańskiego i Morza Południowochińskiego. Na południowym zachodzie z Półwyspu Indochińskiego wyodrębnia się drugorzędny Półwysep Malajs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NDOCHIŃSKI</a:t>
            </a:r>
            <a:br>
              <a:rPr sz="4000"/>
            </a:b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Z MALAJSKIM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3520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NDYJSKI</a:t>
            </a:r>
            <a:br>
              <a:rPr sz="40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Pow. ok. 2 000  tys.km</a:t>
            </a:r>
            <a:r>
              <a:rPr b="1" i="1" lang="en-US" sz="28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Indyjski Półwysep, półwysep w południowej części kontynentu azjatyckiego, między Morzem Arabskim a Zatoką Bengalską. Powierzchnia ok. 2 mln km</a:t>
            </a:r>
            <a:r>
              <a:rPr b="0" i="1" lang="en-US" sz="2400" spc="-1" strike="noStrike" baseline="30000">
                <a:solidFill>
                  <a:srgbClr val="cc66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Oddzielony od pnia kontynentalnego Azji masywem Himalajów. Na obszarze Półwyspu Indyjskiego, zwanego nierzadko subkontynentem indyjskim, położona jest większa część terytorium Ind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ÓŁWYSEP INDYJSKI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7:58:10Z</dcterms:created>
  <dc:creator>Bebenek</dc:creator>
  <dc:description/>
  <dc:language>en-US</dc:language>
  <cp:lastModifiedBy>Bebenek</cp:lastModifiedBy>
  <dcterms:modified xsi:type="dcterms:W3CDTF">2004-05-06T13:14:04Z</dcterms:modified>
  <cp:revision>9</cp:revision>
  <dc:subject/>
  <dc:title>Prezentacja programu PowerPoint</dc:title>
</cp:coreProperties>
</file>