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CE3-AFB2-45A5-9E54-A7F7E913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315-1BAC-4D64-8CDF-4AAF2A9C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BE0-BD10-4333-9813-ACDD79EF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F50-FDD5-4F96-AC2A-35D44422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3D34-2906-4F28-AE70-BA08281B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FEFD-DDF5-4C9E-A004-BDA86326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0635-B1EB-4957-AF8C-7A344894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894F-F2E5-4A35-AB7F-AB7A9FBD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858C-6A9B-4603-B4EE-74C79EE3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D44A-E0F8-4881-84AD-C3BA8C30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8F4E-D122-4B19-83F2-8E4519E7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43C-0440-456D-B3B0-03D3791A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C0E1-E0C1-4113-9563-D089576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3DDD-5989-407D-A614-434A88C5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ED54-308F-45AD-B0F0-00A9D344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E141-B10B-4C65-BC94-FAF9180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514B-36A5-4347-A16C-52D423DA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18CCE-2EB3-47CF-8ABB-E9AC9FF7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B6861-0A70-4C90-80C4-F8EF6CC0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EE3FB-69A7-4E22-AEFF-2D9C5206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0DBD5-F065-4638-AF36-137AC947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DFB0-7BAE-48C5-84FD-24B6D7DC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461-17E0-4B22-A7F0-70675221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D08DC-4034-47AF-A6DD-0D52152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CE1A0-8A2C-4C97-BC6E-895FB1AC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9D0B-D239-4941-B697-A2530FC4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F08C-2E4D-479F-92B7-8C79353A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E3324-AE02-44A9-A5F3-B4D22B9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9ADDC-9D61-4CAA-AFF9-A8B3D016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79CDB-4155-4CA5-8CC7-D551E157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2B4-4183-4666-9D94-77D66BBE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2D6-6765-4AB9-8DC1-EA95308D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394-F666-44A7-B9B3-139F1366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364-CCD5-4524-9260-843C2A95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EB1B-B094-401E-B486-03FB331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EF3-7DE2-41CB-B7D7-8F1F8230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9DD8-74B9-46D1-91DA-131F82EBF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3C5-A6F1-43DE-A56F-6C1182C6AF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5E5-8F43-4C21-9687-ECF0F96B6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eec94"/>
                </a:solidFill>
                <a:latin typeface="Bookman Old Style"/>
              </a:rPr>
              <a:t>„…</a:t>
            </a:r>
            <a:r>
              <a:rPr b="1" i="1" lang="en-US" sz="4000" spc="-1" strike="noStrike">
                <a:solidFill>
                  <a:srgbClr val="feec94"/>
                </a:solidFill>
                <a:latin typeface="Bookman Old Style"/>
              </a:rPr>
              <a:t>lubię moją samotność zawieszoną wyżej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Bookman Old Style"/>
              </a:rPr>
              <a:t>niż most</a:t>
            </a:r>
            <a:br>
              <a:rPr sz="4000"/>
            </a:br>
            <a:r>
              <a:rPr b="1" i="1" lang="en-US" sz="4000" spc="-1" strike="noStrike">
                <a:solidFill>
                  <a:srgbClr val="feec94"/>
                </a:solidFill>
                <a:latin typeface="Bookman Old Style"/>
              </a:rPr>
              <a:t>rękoma obejmujący niebo…”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101320" y="5111280"/>
            <a:ext cx="56581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Berlin Sans FB"/>
              </a:rPr>
              <a:t>Halina Poświatow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Polecenia do tek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Poświatowska wykorzystuje imiona bohaterów Szekspi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oznacza, że Julia ma lat „tysiąc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dzie jest Rome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Poświatowska opisuje działanie miłości?</a:t>
            </a:r>
            <a:r>
              <a:rPr b="0" lang="pl-P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 Nowacki A., Siwicka D.,Przeszłość to dziś: literatura język kultura, Podręcznik do II klasy liceum i technikum część pierwsza; STENTOR, Warszawa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5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8" dur="2000"/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„</a:t>
            </a: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Jeśli zechcesz odejść…”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zechcesz odejść ode mni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zapominaj o uśmiech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żesz zapomnieć kapelusz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ękawiczek notesu z ważnymi adresam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zegokolwiek wreszcie - po co musiałbyś wróci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racając niespodzianie zobaczysz mnie we łzac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nie odejdzies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zechcesz pozosta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zapomnij o uśmiech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lno ci nie pamiętać daty moich urodzi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 miejsca naszego pierwszego pocałunk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 powodu naszej pierwszej sprzeczk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jednak chcesz zosta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czyń tego z westchnienie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 z uśmieche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stań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„</a:t>
            </a: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namiętność to jest to…”</a:t>
            </a: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amiętność to jest to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 czym śpiewały skrzypc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amknięte w ciemnym futer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 duszny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jak no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ewnątrz łupiny światł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znaczone paznokciami gwiazd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na żyj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 twoich słowach z ciepłego granatu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chnie brzoskwini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łońc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chwytanym w zieloną sieć drzew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ojrzał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zechylona nad spłowiałą trawą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iąż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u moim dłoniom otwarty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ja -- zamknięte usta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 obcym języku uczę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łowa -- ciasnego jak śmier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łość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„</a:t>
            </a: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jeśli zechcesz odejść ode mnie…”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zechcesz odejść ode mni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zapominaj o uśmiech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żesz zapomnieć kapelusz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ękawiczek notesu z ważnymi adresam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zegokolwiek wreszcie - po co musiałbyś wróci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racając niespodzianie zobaczysz mnie we łzac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nie odejdzies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zechcesz pozosta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zapomnij o uśmiech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lno ci nie pamiętać daty moich urodzi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 miejsca naszego pierwszego pocałunku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i powodu naszej pierwszej sprzeczk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eśli jednak chcesz zostać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e czyń tego z westchnienie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 z uśmieche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ostań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7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6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Monotype Corsiva"/>
              </a:rPr>
              <a:t>„</a:t>
            </a:r>
            <a:r>
              <a:rPr b="1" lang="en-US" sz="4800" spc="-1" strike="noStrike">
                <a:solidFill>
                  <a:srgbClr val="feec94"/>
                </a:solidFill>
                <a:latin typeface="Monotype Corsiva"/>
              </a:rPr>
              <a:t>Halina Poświatowska to jest podobno człowiek…”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*** 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lina Poświatowska to jest podobno człowiek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podobno ma umrzeć jak wielu przed nią ludzi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lina Poświatowska właśnie teraz się trudzi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d własnym umieraniem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a jeszcze nie wierzy ale już podejrzew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kiedy w sen zagłębia lewą rękę to w prawej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ciska mocno gwiazdę - strzępek żywego nieb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światłem poprzez ciemność krwawi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tem gaśnie za sobą wlokąc warkocz różow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emniejący na wietrze nocy groźnej i chłodnej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lina Poświatowska- te trochę garderob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te ręce- i usta co nie są już głodne 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Filadelfia XI 195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lecenia do pracy w do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04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1. Wybierz utwór,  który Cię zainspirował. Dokonaj samodzielnej analizy i interpretacji wykorzystując wiedzę i umiejętności zdobyte na zajęci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2. Opracuj samodzielnie jeden z przedstawionych tematów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 oparciu o wybrane utwory poetyckie przedstaw jaką wizję miłości ukazuje Halina Poświatowsk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Znane postaci kobiece w poezji Haliny Poświatowskiej i ich funkcja. Przeanalizuj problem na podstawie samodzielnie zgromadzonego materiału literackig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Jaką rolę pełni motyw śmierci i przemijania w poezji Haliny Poświatowskiej. Omów na wybranych utworach poetyckich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Opracowała: Jolanta Michałowska-Werman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2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4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7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0" dur="2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eec94"/>
                </a:solidFill>
                <a:latin typeface="comic"/>
              </a:rPr>
              <a:t>Halina Poświatowska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Życie i twórczoś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5249880" cy="573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Biografia - dzieciń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바탕"/>
              </a:rPr>
              <a:t>Halina Poświatowska urodziła się w 1935 roku. W czasie wojny nieszczęśliwie zachorowała na anginę, co stało się przyczyną jej kłopotów z sercem. Od tamtej pory stale chorował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3713040" cy="486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75440" y="575316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ina razem z siostr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Okruchy szczęścia - miłoś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바탕"/>
              </a:rPr>
              <a:t>Podczas jednego z pobytów w sanatorium poznała Adolfa Poświatowskiego, nieuleczalnie chorego na serce, którego wkrótce poślubiła. Niestety, jej mąż zmarł dwa lata późni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479760" cy="43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Monotype Corsiva"/>
              </a:rPr>
              <a:t>W cieniu śmierc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바탕"/>
              </a:rPr>
              <a:t>W 1958 roku Halina Poświatowska wyjechała do USA, gdzie operacja serca przedłużyła jej życie o kilka lat. Tam też kończy z wyróżnieniem elitarny Smith College. Po powrocie do kraju ukończyła studia na wydziale Historyczno – Filozoficznym. W 1967 roku znowu poddała się operacji serca, w parę dni później przedwcześnie umiera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Twórczość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Halina Poświatowska jest autorką czterech tomów wierszy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Hymn bałwochwalczy” 19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Dzień dzisiejszy” 19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Oda do rąk”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Jeszcze jedno wspomnienie” 196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(pośmiertn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Wspomnień „Opowieść dla przyjaciela”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7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9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7546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onotype Corsiva"/>
              </a:rPr>
              <a:t>Wątki tematyczne w poezj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Pragnienie ży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Zmysłowa miłoś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Poczucie kruchości własnego istni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바탕"/>
              </a:rPr>
              <a:t>Nieuchronność śmier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ec94"/>
                </a:solidFill>
                <a:latin typeface="Monotype Corsiva"/>
              </a:rPr>
              <a:t>Jestem Julią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Jestem Julią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m lat 23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tknęłam kiedyś miłośc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iała smak gorzk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jak filiżanka ciemnej kaw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zmogł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ytm serc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ozdrażnił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ój żywy organizm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ozkołysała zmysły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deszła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Jestem Julią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 wysokim balkoni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zawisł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rzyczę wróć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łam wróć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lamię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zygryzione warg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arwą krwi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ie wróciła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Jestem Julią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m lat tysiąc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żyję -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8:24:38Z</dcterms:created>
  <dc:creator>user</dc:creator>
  <dc:description/>
  <dc:language>en-US</dc:language>
  <cp:lastModifiedBy>MC</cp:lastModifiedBy>
  <dcterms:modified xsi:type="dcterms:W3CDTF">2004-04-22T18:29:03Z</dcterms:modified>
  <cp:revision>15</cp:revision>
  <dc:subject/>
  <dc:title>Slajd 1</dc:title>
</cp:coreProperties>
</file>