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5.gif" ContentType="image/gif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bomb.wav" ContentType="audio/x-wav"/>
  <Override PartName="/ppt/media/image3.png" ContentType="image/png"/>
  <Override PartName="/ppt/media/image17.jpeg" ContentType="image/jpeg"/>
  <Override PartName="/ppt/media/image2.jpeg" ContentType="image/jpeg"/>
  <Override PartName="/ppt/media/image4.wmf" ContentType="image/x-wmf"/>
  <Override PartName="/ppt/media/image27.png" ContentType="image/png"/>
  <Override PartName="/ppt/media/image26.jpeg" ContentType="image/jpeg"/>
  <Override PartName="/ppt/media/image25.jpeg" ContentType="image/jpeg"/>
  <Override PartName="/ppt/media/image22.png" ContentType="image/png"/>
  <Override PartName="/ppt/media/image21.wmf" ContentType="image/x-wmf"/>
  <Override PartName="/ppt/media/image19.gif" ContentType="image/gif"/>
  <Override PartName="/ppt/media/image15.png" ContentType="image/png"/>
  <Override PartName="/ppt/media/image24.jpeg" ContentType="image/jpeg"/>
  <Override PartName="/ppt/media/image1.jpeg" ContentType="image/jpeg"/>
  <Override PartName="/ppt/media/image16.jpeg" ContentType="image/jpeg"/>
  <Override PartName="/ppt/media/image14.png" ContentType="image/png"/>
  <Override PartName="/ppt/media/image23.png" ContentType="image/pn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DA0A-F1C2-43F3-9530-ECF16C05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5E0-70FB-4C60-A0B9-8D9EBE31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092-DB5D-422D-A220-C8F9CE8C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514-B71E-4839-970F-DD0ADF5A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EE46D-6B1E-4388-9D4C-C0E290B7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96CB0-1B50-490B-AF2C-F28826F9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17424-EF2A-4021-B11D-7593CB99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5657C-4EB1-42FB-B506-B981E631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7D79B-108A-4D24-939E-65166D77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F0F4F-CA79-441F-AEBB-4950A5A3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057A2-A70B-40EC-AE33-372BCC6F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C1A-D699-491F-B7C0-9E472380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85042-E266-4994-89D3-D97BFA8F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ED773-2D18-489C-A349-F347777E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59279-C39C-4C5B-BD63-72779A73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FE598-C902-4F5D-9D3A-3C15AA70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ABCCB-5D24-4BF9-A82D-FC1F7596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AE34-E300-4739-956D-53A81F5D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45A39-A132-4C22-AFD2-B9124273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2F23A-31E4-4F6A-AC82-82137A8C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F6190-1343-4FD3-94D2-54B34D0F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C5239-E51A-4F0F-A68C-25DE2725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D8D5-0662-4691-9F11-79166232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7591D-38BD-4D2A-B7B1-41F3B114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C1A30-D51A-4E11-8794-D8FC6935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5012A-24AA-4C85-A869-EB16D60D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7032F-7C35-4EDC-9B0D-675AF217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65EA-482D-405C-80AF-A5DAD218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51FC1-3FF4-499F-B765-8445B7E2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168E4-A5FC-4705-8E93-EFD6BBE0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8B6A5-95B5-4567-8800-455CA3D8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05215-C7C4-462F-BFD7-C982A2C4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EAE20-3AA7-403B-A732-F21F38AF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220-F092-4B59-9BD0-5B33923B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D25DE-4D6A-4822-9B87-A8BACEA6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B9EBD-818C-47BF-B5F9-9FC8BA64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31AC8-F65D-416F-A696-4B3E65A2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FC226-DEDB-4DF1-9499-E069D716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A34E5-9678-4086-A43D-1670929C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8BBA5-1249-471E-9683-FCC534D6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AFDC9-399A-4D65-B4D2-1ED215F3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7615B-3898-4A6F-8323-38F0F13D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4D703-4742-4F2C-A825-5DE9A3F2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06019-15D8-4749-8B30-1540F3EC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05C-A968-46BD-8690-63AF3A1C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E8DB2-48F4-4F6A-9AE5-119011A2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3D0FD-3F9A-4A26-9EBE-B00F1B7B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1B249-F4F3-48F1-A0D2-22DB449C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06500-1663-46D3-9633-FE72CE89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97DFB-33E8-4F4D-839A-E53E180C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4A97E-4B98-4111-AE08-0BB3FD7D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3A8D9-24EE-49F4-BE04-3A80AABB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3F692-172E-49A0-B123-89E866F4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92DC9-D1E7-49B0-881B-C29CABCE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02B69-C329-4F96-804E-DD37A358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C29-ACEC-4273-9BD4-1D646109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53F1B-7F09-4228-9BE5-137BF13B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50D-9B59-4D65-8B5F-1AD0C1A1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3B9-FF6F-48AB-BD62-AABF7118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DF2-5570-4622-8BBD-D4795F50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3F21-2E39-492B-8336-F3F3A7E76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B423-99E5-4F75-848E-1EDEA0645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FCB8-72D1-4189-A504-2C75BBF3A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D649-185A-42D2-B04A-F09CE7AF6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CCA9-8D26-4F95-9824-7A5136AAD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4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3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4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ff"/>
                </a:solidFill>
                <a:latin typeface="Comic Sans MS"/>
              </a:rPr>
              <a:t>UKŁAD  SŁONECZ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01760" y="5638320"/>
            <a:ext cx="69840" cy="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  <p:sndAc>
      <p:stSnd>
        <p:snd r:embed="rId2" name="bomb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ZAĆMIENIE KSIĘŻYC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424720" cy="5256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  <p:sndAc>
      <p:stSnd>
        <p:snd r:embed="rId3" name="bomb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7e7ff"/>
                </a:solidFill>
                <a:latin typeface="comic"/>
              </a:rPr>
              <a:t>MARS</a:t>
            </a: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243504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Średnia odległość od Słońca: 227 900 000 k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Średnica: 6787 km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mp. na pow. -120 do 15o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ba: 24,6 godzin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ok: 687 ziemskich dni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czba księżyców: 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achylenie osi: 25o12'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995640" y="1984320"/>
            <a:ext cx="4608720" cy="3894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826920" y="260280"/>
            <a:ext cx="1095480" cy="20192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  <p:sndAc>
      <p:stSnd>
        <p:snd r:embed="rId4" name="bomb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7e7ff"/>
                </a:solidFill>
                <a:latin typeface="Forte"/>
              </a:rPr>
              <a:t>JOWISZ</a:t>
            </a: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pperplate Gothic Bold"/>
              </a:rPr>
              <a:t>Średnia odległość od Słońca: 778 300 000 km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Copperplate Gothic Bold"/>
              </a:rPr>
              <a:t>Średnica: 142 760 km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Copperplate Gothic Bold"/>
              </a:rPr>
              <a:t>Tem. na pow.: -150oC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Copperplate Gothic Bold"/>
              </a:rPr>
              <a:t>Doba: 9.84 godziny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Copperplate Gothic Bold"/>
              </a:rPr>
              <a:t>Rok: 11,86 ziemskich lat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Copperplate Gothic Bold"/>
              </a:rPr>
              <a:t>Liczba księżyców: 39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Copperplate Gothic Bold"/>
              </a:rPr>
              <a:t>Nachylenie osi: 3o07'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Copperplate Gothic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211640" y="2133720"/>
            <a:ext cx="4321080" cy="36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685800" y="3962520"/>
          <a:ext cx="3048120" cy="23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962520"/>
                    <a:ext cx="30481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6000">
    <p:dissolve/>
    <p:sndAc>
      <p:stSnd>
        <p:snd r:embed="rId5" name="bomb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7e7ff"/>
                </a:solidFill>
                <a:latin typeface="Forte"/>
              </a:rPr>
              <a:t>SATURN</a:t>
            </a: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3575160"/>
            <a:ext cx="4643280" cy="30733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4859280" y="2209680"/>
            <a:ext cx="3979800" cy="40388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333080" y="1413000"/>
            <a:ext cx="529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Średnia odległość od Słońca: 1 427 000 000 k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Średnica: 120 420 km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mp. na pow. -180o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ba: 10,23 godzin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k: 29,46 ziemskich la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czba księżyców: 3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chylenie osi: 26o42'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dissolve/>
    <p:sndAc>
      <p:stSnd>
        <p:snd r:embed="rId4" name="bomb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e7ff"/>
                </a:solidFill>
                <a:latin typeface="Comic Sans MS"/>
              </a:rPr>
              <a:t>URAN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Średnia odległość od Słońca: 2 871 000 000 k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Średnica: 51 118 k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. na pow. -214o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ba: 17,24 godzin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k: 84 ziemskich l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czba księżyców: 21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chylenie osi: 98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788000" y="1828800"/>
            <a:ext cx="4051080" cy="4038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  <p:sndAc>
      <p:stSnd>
        <p:snd r:embed="rId3" name="bomb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7e7ff"/>
                </a:solidFill>
                <a:latin typeface="Forte"/>
              </a:rPr>
              <a:t>NEPTUN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Średnia odległość od Słońca: 4 497 000 000 k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Średnica: 49 528 k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. na pow. -220o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ba: 18,4 godziny *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k: 164,8 ziemskich l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czba księżyców: 8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chylenie osi: 29o36'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- niepew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816360" cy="3240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  <p:sndAc>
      <p:stSnd>
        <p:snd r:embed="rId3" name="bomb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ff"/>
                </a:solidFill>
                <a:latin typeface="Comic Sans MS"/>
              </a:rPr>
              <a:t>PLUTON</a:t>
            </a:r>
            <a:br>
              <a:rPr sz="7200"/>
            </a:b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Średnia odległość od Słońca: 5 913 000 000 km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Średnica: 2 284 km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emp. na pow. -230oC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ba: 6,39 dni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ok: 248,5 ziemskich l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czba księżyców: 1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achylenie osi: 118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4495680" cy="41907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  <p:sndAc>
      <p:stSnd>
        <p:snd r:embed="rId3" name="bomb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8920" y="549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b7e7ff"/>
                </a:solidFill>
                <a:latin typeface="comic"/>
              </a:rPr>
              <a:t>OPRACOWANIE:</a:t>
            </a:r>
            <a:br>
              <a:rPr sz="3200"/>
            </a:br>
            <a:r>
              <a:rPr b="0" lang="en-US" sz="3200" spc="-1" strike="noStrike">
                <a:solidFill>
                  <a:srgbClr val="b7e7ff"/>
                </a:solidFill>
                <a:latin typeface="Comic Sans MS"/>
              </a:rPr>
              <a:t>mgr</a:t>
            </a:r>
            <a:r>
              <a:rPr b="0" lang="en-US" sz="3200" spc="-1" strike="noStrike">
                <a:solidFill>
                  <a:srgbClr val="b7e7ff"/>
                </a:solidFill>
                <a:latin typeface="comic"/>
              </a:rPr>
              <a:t> Bogumiła Kulczyck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419436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nauczyciel fizyki i matematyki w                  Zespole Szkół Zawodowych Nr 1 w                     Pru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e-mail: b.kulczycka@interia.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  <p:sndAc>
      <p:stSnd>
        <p:snd r:embed="rId3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Comic Sans MS"/>
              </a:rPr>
              <a:t>SŁOŃCE – CENTRUM UKŁADU SŁONECZNE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0" y="1666800"/>
          <a:ext cx="571500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6800"/>
                    <a:ext cx="57150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084720" y="1484280"/>
            <a:ext cx="2675160" cy="27352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  <p:sndAc>
      <p:stSnd>
        <p:snd r:embed="rId4" name="bomb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Comic Sans MS"/>
              </a:rPr>
              <a:t>PRETUBERANCJE SŁOŃ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49687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  <p:sndAc>
      <p:stSnd>
        <p:snd r:embed="rId2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Comic Sans MS"/>
              </a:rPr>
              <a:t>ZAĆMIENIE SŁOŃ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064720" cy="51847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  <p:sndAc>
      <p:stSnd>
        <p:snd r:embed="rId2" name="bomb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Comic Sans MS"/>
              </a:rPr>
              <a:t>ZAĆMIENIE SŁOŃ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3673440" cy="218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3672000" cy="2185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833400" y="3938760"/>
            <a:ext cx="3667320" cy="2187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024520" y="3938760"/>
            <a:ext cx="3724200" cy="2187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  <p:sndAc>
      <p:stSnd>
        <p:snd r:embed="rId5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ff"/>
                </a:solidFill>
                <a:latin typeface="Comic Sans MS"/>
              </a:rPr>
              <a:t>MERKURY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Średnia odległość od Słońca: 57 900 000 k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Średnica: 4878 k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mp. na pow. -185 do 430o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ba: 59 ziemskich dni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ok: 88 ziemskich dni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czba księżyców: 0 </a:t>
            </a:r>
            <a:br>
              <a:rPr sz="1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435640" y="2359080"/>
            <a:ext cx="2952720" cy="2077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835280" y="3716280"/>
            <a:ext cx="2663640" cy="26067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  <p:sndAc>
      <p:stSnd>
        <p:snd r:embed="rId4" name="bomb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ccff"/>
                </a:solidFill>
                <a:latin typeface="Comic Sans MS"/>
              </a:rPr>
              <a:t>WENU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Średnia odległość od Słońca: 108 200 000 k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Średnica: 12 104 km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emp. na pow. 480o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oba: 243 ziemskich dn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Rok: 225ziemskich dn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Liczba księżyców: 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Nachylenie osi: 177o18'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995640" y="2565360"/>
            <a:ext cx="4103640" cy="33847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  <p:sndAc>
      <p:stSnd>
        <p:snd r:embed="rId2" name="bomb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33"/>
                </a:solidFill>
                <a:latin typeface="Comic Sans MS"/>
              </a:rPr>
              <a:t>ZIEMIA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ane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Średnia odległość od Słońca: 150 000 000 k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Średnica: 12 756 km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mp. na pow. -89 do 58o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ba: 24 godzin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ok: 365 dni i 6 godz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czba księżyców: 1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achylenie osi: 23o26'</a:t>
            </a:r>
            <a:br>
              <a:rPr sz="1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3816360" cy="37447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  <p:sndAc>
      <p:stSnd>
        <p:snd r:embed="rId3" name="bomb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e7ff"/>
                </a:solidFill>
                <a:latin typeface="Forte"/>
              </a:rPr>
              <a:t>KSIĘZYC ZIEMI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6800" y="1600200"/>
            <a:ext cx="745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781680" cy="54864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  <p:sndAc>
      <p:stSnd>
        <p:snd r:embed="rId3" name="bomb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9:12:43Z</dcterms:created>
  <dc:creator>Administrator</dc:creator>
  <dc:description/>
  <dc:language>en-US</dc:language>
  <cp:lastModifiedBy>Bogumiła Kulczycka-</cp:lastModifiedBy>
  <dcterms:modified xsi:type="dcterms:W3CDTF">2004-01-02T12:46:27Z</dcterms:modified>
  <cp:revision>10</cp:revision>
  <dc:subject/>
  <dc:title>UKŁAD  SŁONECZNY</dc:title>
</cp:coreProperties>
</file>