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4DB-6A6A-400E-B132-D2072096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5A0-6805-4F83-AA82-D39D56A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A53-816C-4736-B220-CE40D1D4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03A-256E-4407-8C64-67E5C165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9477-6857-4C4F-A900-928390EF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BEB1-8679-4BD0-B892-A6B8903B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A7F5-997E-4049-AF80-F66A4E0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0612-AA6F-49E6-AA32-E5E8B4BB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26D-BE00-4623-B2B7-04D08976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50E4-59C1-461D-9903-2E4FA75B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82C5-0B68-4EDF-B9BE-76E9B2D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BE1-CFA2-4A4F-8333-F4CD1E29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6705-F73D-4583-A73D-D6968AD2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A27C-125A-46A0-B14D-40B4828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EB02-5C74-46A0-BF07-D326AC7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AA92-EF46-43CD-8C34-E262CBAE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CFF9-F4AD-4EA5-82E6-79B3727B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B8C-4970-476C-910E-F3B1168D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DC3-2F93-40F9-B6C6-E41D7F7A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59C-803E-41EE-982E-CB2760E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A04-ED2A-4933-A209-D4297AD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470-8D9F-4211-A534-FD2472D5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40F-D2FC-4352-9A5E-DA5D4797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1F8-8E8C-4894-927F-B5D0B99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83B5-5E26-45F6-9554-713AD8F27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41ED-E0D8-4D44-97F6-B84A7497A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useek.interklasa.pl/artykuly/artykul/ida/44/idc/14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Lucida Calligraphy"/>
              </a:rPr>
              <a:t>M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Lucida Calligraphy"/>
              </a:rPr>
              <a:t>Opracowała: Barbara Matolic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Lucida Calligraphy"/>
              </a:rPr>
              <a:t>KONIEC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509560" cy="3066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867280" y="57340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Dziękuję za uwag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Lucida Calligraphy"/>
              </a:rPr>
              <a:t>MITY</a:t>
            </a:r>
            <a:r>
              <a:rPr b="0" lang="en-US" sz="4400" spc="-1" strike="noStrike">
                <a:solidFill>
                  <a:srgbClr val="b7e7ff"/>
                </a:solidFill>
                <a:latin typeface="Lucida Calligraphy"/>
              </a:rPr>
              <a:t> </a:t>
            </a:r>
            <a:r>
              <a:rPr b="0" lang="en-US" sz="4400" spc="-1" strike="noStrike">
                <a:solidFill>
                  <a:srgbClr val="0000a4"/>
                </a:solidFill>
                <a:latin typeface="Lucida Calligraphy"/>
              </a:rPr>
              <a:t>GRECKIE-WSTĘ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Mit jest to opowieść o bogach, bohaterach i wydarzeniach z nimi związanych. Stanowi on próbę wyjaśnienia nieznanych zagadnień bytu, życia, śmierci człowieka, zjawisk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przyrodniczy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Mit przedstawia wierzenia danej społeczności. Istniał jako opowieść ustna o stałej fabule. Przekazywany ustnie przybierał różne warianty. W formie pisanej stracił związek z religią i stał się częścią literatu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Lucida Calligraphy"/>
              </a:rPr>
              <a:t>Mity pełniły różne funkcj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znawczą - umożliwiały interpretację zjawisk przyrody, zawierały obraz świata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światopoglądową - stanowiły podstawę wierzeń religijnych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kralną - były związane z kultem i obrzędami rytualnym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e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a4"/>
                </a:solidFill>
                <a:latin typeface="Lucida Calligraphy"/>
              </a:rPr>
              <a:t>Podstawowe typy mitów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66ff"/>
                </a:solidFill>
                <a:latin typeface="Arial"/>
              </a:rPr>
              <a:t>kosmogoniczne - ukazują powstawanie świata,</a:t>
            </a:r>
            <a:br>
              <a:rPr sz="2800"/>
            </a:br>
            <a:r>
              <a:rPr b="0" lang="pl-PL" sz="28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66ff"/>
                </a:solidFill>
                <a:latin typeface="Arial"/>
              </a:rPr>
              <a:t>teogoniczne - przedstawiają narodziny bogów,</a:t>
            </a:r>
            <a:br>
              <a:rPr sz="2800"/>
            </a:br>
            <a:r>
              <a:rPr b="0" lang="pl-PL" sz="28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66ff"/>
                </a:solidFill>
                <a:latin typeface="Arial"/>
              </a:rPr>
              <a:t>antropogeniczne - pokazują powstanie człowieka,</a:t>
            </a:r>
            <a:br>
              <a:rPr sz="2800"/>
            </a:br>
            <a:r>
              <a:rPr b="0" lang="pl-PL" sz="28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66ff"/>
                </a:solidFill>
                <a:latin typeface="Arial"/>
              </a:rPr>
              <a:t>rodów genealogiczne - opisują powstawanie ludzkich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562b"/>
                </a:solidFill>
                <a:latin typeface="Lucida Calligraphy"/>
              </a:rPr>
              <a:t>Związki frazeologicz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f562b"/>
                </a:solidFill>
                <a:latin typeface="Lucida Calligraphy"/>
              </a:rPr>
              <a:t>MĘKI TANT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ntal często gościł na Olimpie. Bogowie, okazując mu zaufanie, zapraszali go, mimo że był zwykłym śmiertelnikiem. Niestety, on nie obdarzył ich wierną przyjaźnią. Kradł ambrozję, którą spożywali bogowie i zanosił swoim przyjaciołom, mieszkańcom Ziemi. 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   Tantal był również okropnym plotkarzem. Nie potrafił zatrzymać dla siebie historii zasłyszanych na Olimpie. Wreszcie cierpliwość Zeusa się skończyła. Postanowił ukarać Tantala. Od tej pory śmiertelnik miał stać zanurzony w wodzie. Jednak nie dane mu było nigdy ugasić pragnienia, bo kiedy tylko chciał się napić, woda opadała. Tantal cierpiał za swoje czyny, przeżywał okropne męki i nikt nie mógł mu pomóc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760" y="1566720"/>
            <a:ext cx="3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58760" y="1566720"/>
            <a:ext cx="3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2025720"/>
            <a:ext cx="343224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562b"/>
                </a:solidFill>
                <a:latin typeface="Lucida Calligraphy"/>
              </a:rPr>
              <a:t>Paniczny strach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aniczny strach to strach budzący albo szerzący panikę, popłoch, przerażenie.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yraz "panika" pochodzi od imienia prastarego boga arkadyjskiego, z czasów, kiedy bogowie mieli jeszcze więcej pierwiastków zwierzęcych niż ludzkich. Pan był rodzajem półkozica o ludzkim ciele do bioder, a kozich nogach, uszach i rogach. Pod opieką Pana były kozy i owce, a także pasterze i myśliwi. Z reguły był łagodny, ale czasem potrafił budzić lęk, paniczny strach przez nagłe, przeraźliwe krzyki, zwłaszcza gdy w ciszy popołudniowej pogrążał się cały świat, gdy nadchodziła pora sjesty, wszyscy spali, ludzie i zwierzęta. Wówczas ludzie przerażeni krzykiem zrywali się ze snu.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0" y="1714680"/>
            <a:ext cx="6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u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3454560"/>
          <a:ext cx="9144000" cy="2142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hlinkClick r:id="rId1"/>
                        </a:rPr>
                        <a:t>  </a:t>
                      </a:r>
                      <a:r>
                        <a:rPr b="0" lang="en-US" sz="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               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00" y="1714680"/>
            <a:ext cx="6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u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45160" y="2171880"/>
            <a:ext cx="3998880" cy="3431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88000" y="1268280"/>
            <a:ext cx="2354040" cy="970200"/>
          </a:xfrm>
          <a:prstGeom prst="cloudCallout">
            <a:avLst>
              <a:gd name="adj1" fmla="val 50268"/>
              <a:gd name="adj2" fmla="val 10712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eee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562b"/>
                </a:solidFill>
                <a:latin typeface="Lucida Calligraphy"/>
              </a:rPr>
              <a:t>Syzyfowa praca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yzyfowa praca to praca wymagająca ustawicznych i często bezskutecznych wysiłków.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yzyf, król Koryntu, najsprytniejszy z ludzi, po śmierci, w Hadesie, odbywał straszliwą karę za swe uczynki. Pchał wielki głaz pod górę, a kiedy już był na szczycie, głaz spadał w dół. Syzyf od nowa toczył go pod górę i czynność tę powtarzał nieustannie, bo za każdym razem kamień staczał się z góry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52728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562b"/>
                </a:solidFill>
                <a:latin typeface="Lucida Calligraphy"/>
              </a:rPr>
              <a:t>Syreni śpiew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yreny to w mitologii greckiej pół kobiety, pół ptaki obdarzone urzekającym głosem, zamieszkałe w niebiańskich sferach albo Hadesie. Niebiańskie były pokrewne muzom, śpiewały i grały na instrumentach; podziemne troszczyły się o dusze zmarłych i opłakiwały je, stąd ich wizerunki na nagrobkach.</a:t>
            </a:r>
            <a:br>
              <a:rPr sz="1800"/>
            </a:b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"Odysei" Homera mieszkają one na wyspie położonej między wyspą Kirke a Scyllą i Charybdą, siedzą na łące i śpiewają, a na wybrzeżu pełno jest kości tych, co ten cudowny śpiew usłyszeli, zapomnieli o całym świecie, wyszli na ląd i zginęli.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7800" y="171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8520" y="1714680"/>
            <a:ext cx="9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źwięki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313000"/>
            <a:ext cx="4194000" cy="31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Lucida Calligraphy"/>
              </a:rPr>
              <a:t>Określenia mitologicz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cc"/>
                </a:solidFill>
                <a:latin typeface="Lucida Calligraphy"/>
              </a:rPr>
              <a:t>argusowe spojrzenie</a:t>
            </a:r>
            <a:r>
              <a:rPr b="0" lang="en-US" sz="2400" spc="-1" strike="noStrike">
                <a:solidFill>
                  <a:srgbClr val="0099cc"/>
                </a:solidFill>
                <a:latin typeface="Lucida Calligraphy"/>
              </a:rPr>
              <a:t> - czujne spojrzenie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cc"/>
                </a:solidFill>
                <a:latin typeface="Lucida Calligraphy"/>
              </a:rPr>
              <a:t>koryfeusz</a:t>
            </a:r>
            <a:r>
              <a:rPr b="0" lang="en-US" sz="2400" spc="-1" strike="noStrike">
                <a:solidFill>
                  <a:srgbClr val="0099cc"/>
                </a:solidFill>
                <a:latin typeface="Lucida Calligraphy"/>
              </a:rPr>
              <a:t> - człowiek przodujący w jakiejś dziedzinie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cc"/>
                </a:solidFill>
                <a:latin typeface="Lucida Calligraphy"/>
              </a:rPr>
              <a:t>krezus</a:t>
            </a:r>
            <a:r>
              <a:rPr b="0" lang="en-US" sz="2400" spc="-1" strike="noStrike">
                <a:solidFill>
                  <a:srgbClr val="0099cc"/>
                </a:solidFill>
                <a:latin typeface="Lucida Calligraphy"/>
              </a:rPr>
              <a:t> - bogacz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cc"/>
                </a:solidFill>
                <a:latin typeface="Lucida Calligraphy"/>
              </a:rPr>
              <a:t>Ksantypa</a:t>
            </a:r>
            <a:r>
              <a:rPr b="0" lang="en-US" sz="2400" spc="-1" strike="noStrike">
                <a:solidFill>
                  <a:srgbClr val="0099cc"/>
                </a:solidFill>
                <a:latin typeface="Lucida Calligraphy"/>
              </a:rPr>
              <a:t>- złośliwa i kłótliwa żon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cc"/>
                </a:solidFill>
                <a:latin typeface="Lucida Calligraphy"/>
              </a:rPr>
              <a:t>lakoniczny</a:t>
            </a:r>
            <a:r>
              <a:rPr b="0" lang="en-US" sz="2400" spc="-1" strike="noStrike">
                <a:solidFill>
                  <a:srgbClr val="0099cc"/>
                </a:solidFill>
                <a:latin typeface="Lucida Calligraphy"/>
              </a:rPr>
              <a:t> - oszczędny w słowach, zwięzł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99cc"/>
                </a:solidFill>
                <a:latin typeface="Lucida Calligraphy"/>
              </a:rPr>
              <a:t>marsowa mina</a:t>
            </a:r>
            <a:r>
              <a:rPr b="0" lang="pl-PL" sz="2400" spc="-1" strike="noStrike">
                <a:solidFill>
                  <a:srgbClr val="0099cc"/>
                </a:solidFill>
                <a:latin typeface="Lucida Calligraphy"/>
              </a:rPr>
              <a:t> - wojownicza, sroga min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99cc"/>
                </a:solidFill>
                <a:latin typeface="Lucida Calligraphy"/>
              </a:rPr>
              <a:t>nić Ariadny</a:t>
            </a:r>
            <a:r>
              <a:rPr b="0" lang="pl-PL" sz="2400" spc="-1" strike="noStrike">
                <a:solidFill>
                  <a:srgbClr val="0099cc"/>
                </a:solidFill>
                <a:latin typeface="Lucida Calligraphy"/>
              </a:rPr>
              <a:t> - wyjście z trudnej sytuacji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99cc"/>
                </a:solidFill>
                <a:latin typeface="Lucida Calligraphy"/>
              </a:rPr>
              <a:t>Penelopa</a:t>
            </a:r>
            <a:r>
              <a:rPr b="0" lang="pl-PL" sz="2400" spc="-1" strike="noStrike">
                <a:solidFill>
                  <a:srgbClr val="0099cc"/>
                </a:solidFill>
                <a:latin typeface="Lucida Calligraphy"/>
              </a:rPr>
              <a:t> - dozgonnie wierna żo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99cc"/>
                </a:solidFill>
                <a:latin typeface="Lucida Calligraphy"/>
              </a:rPr>
              <a:t>praca Danaid</a:t>
            </a:r>
            <a:r>
              <a:rPr b="0" lang="pl-PL" sz="2400" spc="-1" strike="noStrike">
                <a:solidFill>
                  <a:srgbClr val="0099cc"/>
                </a:solidFill>
                <a:latin typeface="Lucida Calligraphy"/>
              </a:rPr>
              <a:t> - bezowocna i niekończąca się prac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99cc"/>
                </a:solidFill>
                <a:latin typeface="Lucida Calligraphy"/>
              </a:rPr>
              <a:t>spartański</a:t>
            </a:r>
            <a:r>
              <a:rPr b="0" lang="pl-PL" sz="2400" spc="-1" strike="noStrike">
                <a:solidFill>
                  <a:srgbClr val="0099cc"/>
                </a:solidFill>
                <a:latin typeface="Lucida Calligraphy"/>
              </a:rPr>
              <a:t> - pozbawiony wygód, prosty;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8:59:04Z</dcterms:created>
  <dc:creator>Administrator</dc:creator>
  <dc:description/>
  <dc:language>en-US</dc:language>
  <cp:lastModifiedBy>Administrator</cp:lastModifiedBy>
  <dcterms:modified xsi:type="dcterms:W3CDTF">2003-10-29T10:30:43Z</dcterms:modified>
  <cp:revision>13</cp:revision>
  <dc:subject/>
  <dc:title>„Zalotnica niebieska”,czyli o Marii Pawlikowskiej-Jasnorzewskiej</dc:title>
</cp:coreProperties>
</file>