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gif" ContentType="image/gif"/>
  <Override PartName="/ppt/media/image10.jpeg" ContentType="image/jpeg"/>
  <Override PartName="/ppt/media/image5.png" ContentType="image/png"/>
  <Override PartName="/ppt/media/image17.png" ContentType="image/png"/>
  <Override PartName="/ppt/media/image8.gif" ContentType="image/gif"/>
  <Override PartName="/ppt/media/image16.gif" ContentType="image/gif"/>
  <Override PartName="/ppt/media/image14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15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17D9-79FD-42F6-91BB-1E829F2A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21B6-A6EA-4385-88E3-33B2BF00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FBBC-33E0-4AE4-BB6F-413FF780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E40C-ECCE-46FF-92FC-4002A8C9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5FD8-0751-499D-A84C-20ED49AE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3A25-D95C-4F2A-A80A-C7673B86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4EF0-F9F2-4ED9-92B6-85131A94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C974-77AE-4EEA-92D3-A9E1B2B9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3746-0249-4BE0-B792-18742348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E4CE-DAC1-4066-8561-1BB1D1D3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24F6-C56C-458A-AC11-C20F4E34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CC7D-E5CF-458E-9393-4E5C4757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DDCA-5F96-4AC5-8DC1-E0C2CBCF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B73E-41CC-4D72-9BA1-29CE50C6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DABC-D24A-41B0-8FE7-C00D27F5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F7D7-CFB2-4901-9FA9-8F0C84B58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D92B6-5739-4321-BF6A-F38EE3625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20EC-F3AF-4CA0-92BF-C0D1C1BA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16DB-2E27-4E1D-9FA5-3785631D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B693-8EE7-4740-8797-6E63F33F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3E60-F434-43A0-A5F0-FC1910C6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8FA6-7601-45A6-B4B5-568F7859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F191-232A-4028-94AD-1507D689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6B57-BB47-4631-A4FA-1951600A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276B-5FC3-4191-88AD-B1A239FBA38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8B28-2576-4C48-AC10-1DEE7DC9657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7d47d"/>
                </a:solidFill>
                <a:latin typeface="Arial Black"/>
              </a:rPr>
              <a:t>SARMATYZM</a:t>
            </a:r>
            <a:endParaRPr b="0" lang="en-US" sz="7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f1311"/>
                </a:solidFill>
                <a:latin typeface="Arial"/>
              </a:rPr>
              <a:t>PRZYGOTOWAŁA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f1311"/>
                </a:solidFill>
                <a:latin typeface="Arial"/>
              </a:rPr>
              <a:t>Mgr Beata Chył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7d47d"/>
                </a:solidFill>
                <a:latin typeface="Blackadder ITC"/>
              </a:rPr>
              <a:t>Portret  trumienny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2374920" cy="2168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500720" y="1413000"/>
            <a:ext cx="2376360" cy="22651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826920" y="4076640"/>
            <a:ext cx="2446560" cy="2340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4356000" y="4076640"/>
            <a:ext cx="2665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f7d47d"/>
                </a:solidFill>
                <a:latin typeface="Blackadder ITC"/>
              </a:rPr>
              <a:t>Kult przeszłosci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Wiek XVII można nazwać stuleciem pamiętników-spisywali je zarówno magnaci,jak i chuda szlachta,by przekazać potomkom jak najwięcej informacji o swoim życiu i czynach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851280" y="2352600"/>
            <a:ext cx="374508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7d47d"/>
                </a:solidFill>
                <a:latin typeface="Edwardian Script ITC"/>
              </a:rPr>
              <a:t>Sarmackie  siedziby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2f1311"/>
                </a:solidFill>
                <a:latin typeface="Arial"/>
              </a:rPr>
              <a:t>Dwór powinien mieć nad wejściem trójkątny tympaton wsparty na kolumnach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560556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7d47d"/>
                </a:solidFill>
                <a:latin typeface="Blackadder ITC"/>
              </a:rPr>
              <a:t>Przedstawiciele  sarmackiego  baroku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1311"/>
                </a:solidFill>
                <a:latin typeface="Arial"/>
              </a:rPr>
              <a:t>Wacław Potocki – twórca najwybitniejszego barokowego eposu sarmackiego pt.</a:t>
            </a:r>
            <a:r>
              <a:rPr b="1" i="1" lang="pl-PL" sz="2800" spc="-1" strike="noStrike">
                <a:solidFill>
                  <a:srgbClr val="2f1311"/>
                </a:solidFill>
                <a:latin typeface="Arial"/>
              </a:rPr>
              <a:t>Wojna chocimska</a:t>
            </a:r>
            <a:r>
              <a:rPr b="0" lang="pl-PL" sz="2800" spc="-1" strike="noStrike">
                <a:solidFill>
                  <a:srgbClr val="2f1311"/>
                </a:solidFill>
                <a:latin typeface="Arial"/>
              </a:rPr>
              <a:t>,którego bohaterem,Sarmatą idealnym,jest hetman Jan Karol Chodkiewicz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1311"/>
                </a:solidFill>
                <a:latin typeface="Arial"/>
              </a:rPr>
              <a:t>Jan Chryzostom Pasek – niezrównany gawędziarz,autor słynnych </a:t>
            </a:r>
            <a:r>
              <a:rPr b="1" i="1" lang="pl-PL" sz="2800" spc="-1" strike="noStrike">
                <a:solidFill>
                  <a:srgbClr val="2f1311"/>
                </a:solidFill>
                <a:latin typeface="Arial"/>
              </a:rPr>
              <a:t>Pamiętników </a:t>
            </a:r>
            <a:r>
              <a:rPr b="0" lang="pl-PL" sz="2800" spc="-1" strike="noStrike">
                <a:solidFill>
                  <a:srgbClr val="2f1311"/>
                </a:solidFill>
                <a:latin typeface="Arial"/>
              </a:rPr>
              <a:t>(zachowanych,niestety,tylko we fragmentach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7d47d"/>
                </a:solidFill>
                <a:latin typeface="Blackadder ITC"/>
              </a:rPr>
              <a:t>Ksenofobia ?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1311"/>
                </a:solidFill>
                <a:latin typeface="Arial"/>
              </a:rPr>
              <a:t>Zrozumiałą dumę z osiągnięć narodu zastąpiła w drugiej połowie XVII wieku zwykła megalomania,przejawiająca się w głębokim przekonaniu o wyższości polskiego ustroju,prawa,obyczaju,ubioru czy też w ogóle kultur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1311"/>
                </a:solidFill>
                <a:latin typeface="Arial"/>
              </a:rPr>
              <a:t>Stąd tylko krok do ksenofobii,która rychło wyparła typową dla Polski tolerancję i otwartość wobec świata…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7d47d"/>
                </a:solidFill>
                <a:latin typeface="Arial"/>
              </a:rPr>
              <a:t>DZIŚ</a:t>
            </a:r>
            <a:endParaRPr b="0" lang="en-US" sz="8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Dzisiaj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SARMATYZM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utożsamiany jest z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*nietolerancją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*zacofanie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*megalomanią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*konserwatyzme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*awanturnictwem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*życiem ponad sta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PREZENTACJĘ  PRZYGOTOWAŁA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2f1311"/>
                </a:solidFill>
                <a:latin typeface="Arial"/>
              </a:rPr>
              <a:t>BEATA  CHYŁA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2f1311"/>
                </a:solidFill>
                <a:latin typeface="Arial"/>
              </a:rPr>
              <a:t>Nauczycielka języka polskiego</a:t>
            </a:r>
            <a:endParaRPr b="0" lang="en-US" sz="6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2f1311"/>
                </a:solidFill>
                <a:latin typeface="Arial"/>
              </a:rPr>
              <a:t>Kontakt: 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2f1311"/>
                </a:solidFill>
                <a:latin typeface="Arial"/>
              </a:rPr>
              <a:t>(e-mail)tabech@wp.pl 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7d47d"/>
                </a:solidFill>
                <a:latin typeface="Blackadder ITC"/>
              </a:rPr>
              <a:t>Z  historii  sarmatyzmu</a:t>
            </a:r>
            <a:endParaRPr b="0" lang="en-US" sz="7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f1311"/>
                </a:solidFill>
                <a:latin typeface="Arial"/>
              </a:rPr>
              <a:t>Według XVI-wiecznych historyków SARMACI to starożytne plemię,zamieszkujące przed wiekami ziemie polskie,od którego wywodzi się szlachta polska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2f1311"/>
                </a:solidFill>
                <a:latin typeface="Arial"/>
              </a:rPr>
              <a:t>W rzeczywistości SARMACI zasiedlali w połowie pierwszego tysiąclecia p.n.e. ziemie nad dolną Wołgą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7d47d"/>
                </a:solidFill>
                <a:latin typeface="Blackadder ITC"/>
              </a:rPr>
              <a:t>Definicja  sarmatyzmu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2f1311"/>
                </a:solidFill>
                <a:latin typeface="Arial"/>
              </a:rPr>
              <a:t>Sarmatyzm</a:t>
            </a:r>
            <a:r>
              <a:rPr b="0" lang="pl-PL" sz="3200" spc="-1" strike="noStrike">
                <a:solidFill>
                  <a:srgbClr val="2f1311"/>
                </a:solidFill>
                <a:latin typeface="Arial"/>
              </a:rPr>
              <a:t>- zespół cech przypisywanych obyczajowości, umysłowości, kulturze i literaturze warstwy szlacheckiej w Polsce od schyłku XVI w. do końca XVIII w. Niektórzy badacze uważają, że relikty sarmatyzmu przetrwały do połowy XIX w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f7d47d"/>
                </a:solidFill>
                <a:latin typeface="Blackadder ITC"/>
              </a:rPr>
              <a:t>Czołem  Waszmościom!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824120" y="1125360"/>
            <a:ext cx="3773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f7d47d"/>
                </a:solidFill>
                <a:latin typeface="Blackadder ITC"/>
              </a:rPr>
              <a:t>Złota  wolnosc  szlachecka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f1311"/>
                </a:solidFill>
                <a:latin typeface="Blackadder ITC"/>
              </a:rPr>
              <a:t>     </a:t>
            </a:r>
            <a:endParaRPr b="0" lang="en-US" sz="9600" spc="-1" strike="noStrike">
              <a:solidFill>
                <a:srgbClr val="2f1311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f1311"/>
                </a:solidFill>
                <a:latin typeface="Blackadder ITC"/>
              </a:rPr>
              <a:t>    </a:t>
            </a:r>
            <a:r>
              <a:rPr b="0" lang="en-US" sz="9600" spc="-1" strike="noStrike">
                <a:solidFill>
                  <a:srgbClr val="2f1311"/>
                </a:solidFill>
                <a:latin typeface="Blackadder ITC"/>
              </a:rPr>
              <a:t>liberum  veto!</a:t>
            </a:r>
            <a:endParaRPr b="0" lang="en-US" sz="9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600" spc="-1" strike="noStrike">
                <a:solidFill>
                  <a:srgbClr val="f7d47d"/>
                </a:solidFill>
                <a:latin typeface="Blackadder ITC"/>
              </a:rPr>
              <a:t>Cechy  szlachcica-sarmaty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Wrodzona  duma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Waleczność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Odwaga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Męstwo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Wierność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Wolność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7d47d"/>
                </a:solidFill>
                <a:latin typeface="Blackadder ITC"/>
              </a:rPr>
              <a:t>Sarmacki  mesjanizm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2f1311"/>
                </a:solidFill>
                <a:latin typeface="Arial"/>
              </a:rPr>
              <a:t>Rzeczpospolita- antemurale christianitatis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1311"/>
                </a:solidFill>
                <a:latin typeface="Arial"/>
              </a:rPr>
              <a:t>(łac.przedmurze chrześcijaństwa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808440" y="1268280"/>
            <a:ext cx="34891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7d47d"/>
                </a:solidFill>
                <a:latin typeface="Blackadder ITC"/>
              </a:rPr>
              <a:t>Sarmackie  ceremonie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1311"/>
                </a:solidFill>
                <a:latin typeface="Arial"/>
              </a:rPr>
              <a:t>Polacy lubowali się wówczas w pompatycznych ceremoniach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2f1311"/>
                </a:solidFill>
                <a:latin typeface="Arial"/>
              </a:rPr>
              <a:t>Do historii przeszedł np.słynny wjazd kanclerza Jerzego Ossolińskiego do Rzymu ( 1633r. 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Żołnierz lekkiego znaku wg Encyklopedii PWN 1996"/>
          <p:cNvPicPr/>
          <p:nvPr/>
        </p:nvPicPr>
        <p:blipFill>
          <a:blip r:embed="rId1"/>
          <a:stretch/>
        </p:blipFill>
        <p:spPr>
          <a:xfrm>
            <a:off x="3635280" y="1557360"/>
            <a:ext cx="42022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7d47d"/>
                </a:solidFill>
                <a:latin typeface="Blackadder ITC"/>
              </a:rPr>
              <a:t>Sarmacki  pogrzeb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Sarmacki obrządek pogrzebowy przybierał niezwykle bogatą formę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Ceremonie były starannie i długo przygotowywane,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2f1311"/>
                </a:solidFill>
                <a:latin typeface="Arial"/>
              </a:rPr>
              <a:t>trwały nawet do czterech dni i kończyły się stypą,która z łatwością przeradzała się w zwykłą hulankę…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411800" y="16128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5288040" y="3933720"/>
            <a:ext cx="9126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10:07:16Z</dcterms:created>
  <dc:creator>Administrator</dc:creator>
  <dc:description/>
  <dc:language>en-US</dc:language>
  <cp:lastModifiedBy>Administrator</cp:lastModifiedBy>
  <dcterms:modified xsi:type="dcterms:W3CDTF">2003-11-19T11:50:34Z</dcterms:modified>
  <cp:revision>12</cp:revision>
  <dc:subject/>
  <dc:title>SARMATYZM</dc:title>
</cp:coreProperties>
</file>