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7F6-3547-4323-A5E8-214CB688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E40-C3FC-415E-84C1-6290D04D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FC8-A3F7-4844-9CE0-4CBAEC67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C27-8A2C-44F4-B293-3540A728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60B9-B08A-4788-9A0E-222D0793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66D7-557C-4625-BAB0-A8814452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F862-02E7-42C8-8D9E-772C77E0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F37F-0825-486D-B21B-5770DB05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9096-F489-4BC6-B9DB-5CC467A4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0B7D-737D-45B1-ABDF-806D86D6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8B18-2C26-46FF-868B-32211A45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3B6-DCDA-4844-8164-3154FCD9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E4DD-F52E-4095-A323-2D28EFB1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3B93-3ADD-47C4-A026-8D66F5FC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5764-E68C-420E-9F4C-60AEEE3B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936D-340A-4CBD-92FA-D840FFD4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D3E3-68B7-404C-AD08-3D7A04C4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AED-38D9-41AD-BBD1-809E5980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818-276C-4BD3-A423-7C09FBD6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227-3B98-4CE5-BF7E-450AE0B2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795-9C11-46FD-8FDF-9E406A3A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1E1-943A-4B3E-8C47-D5C16344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C77-F01A-417A-88B1-EEB27616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B41-D78A-47D8-AFBE-1E76A0F6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10FF-BCF8-4B8A-BA19-4C4C40C86B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A588-97B5-451A-B437-163C9C634B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praca.interia.pl/wynagrodzenia" TargetMode="External"/><Relationship Id="rId4" Type="http://schemas.openxmlformats.org/officeDocument/2006/relationships/hyperlink" Target="http://www.praca.interia.pl/wynagrodzenia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www.money.pl/podatki/informator/wynagrodzenia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ww.podatki.vis.pl/praca/wynagrodzenia.htm" TargetMode="Externa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WYNAGRODZEN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66"/>
                </a:solidFill>
                <a:latin typeface="Arial"/>
              </a:rPr>
              <a:t>OPRACOWAŁ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66"/>
                </a:solidFill>
                <a:latin typeface="Arial"/>
              </a:rPr>
              <a:t>Aneta Smalińs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122976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- akordowy -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według którego pracownik jest wynagradzany na podstawie wydajności pracy, mierzonej ilością wykonanych jednostek produktu, na podstawie obowiązujących u danego pracodawcy norm pracy (zakładowych, branżowych lub ogólnokrajowych). O zmianie normy pracy pracownik powinien zostać uprzedzony 2 tygodnie przed jej wprowadzeniem (art.83 § 4 kodeksu pracy);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ipe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- prowizyjny -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zakładający, że wynagrodzenie pracownika jest z góry określonym procentem bezpośredniego efektu ekonomicznego jego działalności, np. ilości zainkasowanych pieniędzy lub wartości dokonanych transakcji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2724120" cy="22021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ipe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Świadczenia należne pracownikowi z tytułu wykonywanej pra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42800" y="2394720"/>
            <a:ext cx="8379720" cy="3900960"/>
            <a:chOff x="442800" y="2394720"/>
            <a:chExt cx="8379720" cy="3900960"/>
          </a:xfrm>
        </p:grpSpPr>
        <p:cxnSp>
          <p:nvCxnSpPr>
            <p:cNvPr id="200" name="_s92188"/>
            <p:cNvCxnSpPr>
              <a:stCxn id="201" idx="0"/>
              <a:endCxn id="202" idx="2"/>
            </p:cNvCxnSpPr>
            <p:nvPr/>
          </p:nvCxnSpPr>
          <p:spPr>
            <a:xfrm flipV="1" rot="16200000">
              <a:off x="5972040" y="1759320"/>
              <a:ext cx="228960" cy="290808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3" name="_s92186"/>
            <p:cNvCxnSpPr>
              <a:stCxn id="204" idx="0"/>
              <a:endCxn id="205" idx="2"/>
            </p:cNvCxnSpPr>
            <p:nvPr/>
          </p:nvCxnSpPr>
          <p:spPr>
            <a:xfrm flipV="1" rot="16200000">
              <a:off x="5383440" y="3354840"/>
              <a:ext cx="227160" cy="1729440"/>
            </a:xfrm>
            <a:prstGeom prst="bentConnector3">
              <a:avLst>
                <a:gd name="adj1" fmla="val 4952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6" name="_s92176"/>
            <p:cNvCxnSpPr>
              <a:stCxn id="207" idx="0"/>
              <a:endCxn id="205" idx="2"/>
            </p:cNvCxnSpPr>
            <p:nvPr/>
          </p:nvCxnSpPr>
          <p:spPr>
            <a:xfrm flipH="1" flipV="1" rot="5400000">
              <a:off x="3655080" y="3355560"/>
              <a:ext cx="227160" cy="1728720"/>
            </a:xfrm>
            <a:prstGeom prst="bentConnector3">
              <a:avLst>
                <a:gd name="adj1" fmla="val 4952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8" name="_s92173"/>
            <p:cNvCxnSpPr>
              <a:stCxn id="205" idx="0"/>
              <a:endCxn id="202" idx="2"/>
            </p:cNvCxnSpPr>
            <p:nvPr/>
          </p:nvCxnSpPr>
          <p:spPr>
            <a:xfrm flipV="1">
              <a:off x="4632480" y="3099240"/>
              <a:ext cx="3240" cy="2289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9" name="_s92172"/>
            <p:cNvCxnSpPr>
              <a:stCxn id="210" idx="0"/>
              <a:endCxn id="202" idx="2"/>
            </p:cNvCxnSpPr>
            <p:nvPr/>
          </p:nvCxnSpPr>
          <p:spPr>
            <a:xfrm flipH="1" flipV="1" rot="5400000">
              <a:off x="3064680" y="1759680"/>
              <a:ext cx="228960" cy="29077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202" name="_s92168"/>
            <p:cNvSpPr/>
            <p:nvPr/>
          </p:nvSpPr>
          <p:spPr>
            <a:xfrm>
              <a:off x="3523320" y="2394720"/>
              <a:ext cx="2221200" cy="704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WYNAGRODZENI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_s92169"/>
            <p:cNvSpPr/>
            <p:nvPr/>
          </p:nvSpPr>
          <p:spPr>
            <a:xfrm>
              <a:off x="442800" y="3326400"/>
              <a:ext cx="2566080" cy="78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PODSTAWOW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_s92170"/>
            <p:cNvSpPr/>
            <p:nvPr/>
          </p:nvSpPr>
          <p:spPr>
            <a:xfrm>
              <a:off x="3350160" y="3326400"/>
              <a:ext cx="2565360" cy="78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DODATKI i ŚWIADCZENIA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OBLIGATORYJ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_s92175"/>
            <p:cNvSpPr/>
            <p:nvPr/>
          </p:nvSpPr>
          <p:spPr>
            <a:xfrm>
              <a:off x="1346040" y="4333680"/>
              <a:ext cx="3116160" cy="196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DODATK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-za warunki pracy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buClr>
                  <a:srgbClr val="00008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za czas pracy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buClr>
                  <a:srgbClr val="00008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za pełnienie określonych funkcji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_s92185"/>
            <p:cNvSpPr/>
            <p:nvPr/>
          </p:nvSpPr>
          <p:spPr>
            <a:xfrm>
              <a:off x="4803840" y="4333680"/>
              <a:ext cx="3115440" cy="196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ŚWIADCZEN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buClr>
                  <a:srgbClr val="00008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za czas niezdolności do pracy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buClr>
                  <a:srgbClr val="00008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odprawa rentowa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buClr>
                  <a:srgbClr val="00008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odprawa emerytalna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buClr>
                  <a:srgbClr val="00008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diety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buClr>
                  <a:srgbClr val="00008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wypłaty gwarancyjne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buClr>
                  <a:srgbClr val="00008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świadczenia odszkodowawcze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buClr>
                  <a:srgbClr val="00008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92187"/>
            <p:cNvSpPr/>
            <p:nvPr/>
          </p:nvSpPr>
          <p:spPr>
            <a:xfrm>
              <a:off x="6257160" y="3326400"/>
              <a:ext cx="2565360" cy="78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NAGRODY I WYRÓŻNIEN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15000">
    <p:wipe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cc00"/>
                </a:solidFill>
                <a:latin typeface="Arial"/>
              </a:rPr>
              <a:t>Przydatne liknki: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www.placa.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www.praca.interia.pl</a:t>
            </a:r>
            <a:r>
              <a:rPr b="0" lang="pl-PL" sz="32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/wynagrodz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www.money.pl/podatki/informator/wynagrodz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86d1ec"/>
                </a:solidFill>
                <a:uFillTx/>
                <a:latin typeface="Arial"/>
                <a:hlinkClick r:id="rId8"/>
              </a:rPr>
              <a:t>www.podatki.vis.pl/praca/wynagrodzenia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www.wynagrodzenia.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02720" y="2690640"/>
            <a:ext cx="596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"/>
              </a:rPr>
              <a:t>DZIĘKUJĘ ZA UWAGĘ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8360" y="3246480"/>
            <a:ext cx="799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Definicja wynagrodzen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ynagrodzenie to wypłaty pieniężne brutto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świadczenie w naturze należ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acownikom za wykonanie określonej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a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ynagrodzenie spełnia funkcj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chodową – jest podstawowym źródłem utrzymania zatrudnionyc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osztową – stanowi element kosztów dla firm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acownik ma prawo do godziwego wynagrodzenia za pracę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arunki realizacji tego prawa określają przepisy prawa pracy oraz polityka państwa w dziedzinie płac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407200" y="2421000"/>
            <a:ext cx="2892240" cy="33130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strumenty regulujące wynagrodzenia w Polsce t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rumenty praw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rumenty społecz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920880" y="2236680"/>
            <a:ext cx="3363840" cy="30290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STRUMENTY PRAWN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kodeks prac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układy zbiorowe prac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akładowe regulaminy wynagradzani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umowa o pracę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STRUMENTY SPOŁECZ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gulacje międzynarodowych organizacji na rzecz ochrony pracy i pracownika (np. Międzynarodowa Organizacja Pracy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gulacje międzynarodowych organizacji na rzecz praw człowieka, w tym godziwego wynagrodzenia (najważniejszym dokumentem jest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Europejska Karta Społeczn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uchwalona przez Radę Europy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ziałalność związków zawodowy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0360" y="1838160"/>
            <a:ext cx="8424000" cy="2143440"/>
            <a:chOff x="360360" y="1838160"/>
            <a:chExt cx="8424000" cy="2143440"/>
          </a:xfrm>
        </p:grpSpPr>
        <p:cxnSp>
          <p:nvCxnSpPr>
            <p:cNvPr id="181" name="_s74770"/>
            <p:cNvCxnSpPr>
              <a:stCxn id="182" idx="0"/>
              <a:endCxn id="183" idx="2"/>
            </p:cNvCxnSpPr>
            <p:nvPr/>
          </p:nvCxnSpPr>
          <p:spPr>
            <a:xfrm flipV="1" rot="16200000">
              <a:off x="5253840" y="3379680"/>
              <a:ext cx="22932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4" name="_s74768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1801440" y="3379680"/>
              <a:ext cx="22932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7" name="_s74766"/>
            <p:cNvCxnSpPr>
              <a:stCxn id="188" idx="0"/>
              <a:endCxn id="189" idx="2"/>
            </p:cNvCxnSpPr>
            <p:nvPr/>
          </p:nvCxnSpPr>
          <p:spPr>
            <a:xfrm flipV="1" rot="16200000">
              <a:off x="6050520" y="1001520"/>
              <a:ext cx="229320" cy="3186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0" name="_s74765"/>
            <p:cNvCxnSpPr>
              <a:stCxn id="183" idx="0"/>
              <a:endCxn id="189" idx="2"/>
            </p:cNvCxnSpPr>
            <p:nvPr/>
          </p:nvCxnSpPr>
          <p:spPr>
            <a:xfrm flipV="1" rot="16200000">
              <a:off x="4855320" y="2196720"/>
              <a:ext cx="229320" cy="796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1" name="_s74764"/>
            <p:cNvCxnSpPr>
              <a:stCxn id="186" idx="0"/>
              <a:endCxn id="189" idx="2"/>
            </p:cNvCxnSpPr>
            <p:nvPr/>
          </p:nvCxnSpPr>
          <p:spPr>
            <a:xfrm flipH="1" flipV="1" rot="5400000">
              <a:off x="3129120" y="1266480"/>
              <a:ext cx="229320" cy="2657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89" name="_s74760"/>
            <p:cNvSpPr/>
            <p:nvPr/>
          </p:nvSpPr>
          <p:spPr>
            <a:xfrm>
              <a:off x="1244880" y="1838160"/>
              <a:ext cx="6654960" cy="642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200" rIns="702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80"/>
                  </a:solidFill>
                  <a:latin typeface="Arial"/>
                </a:rPr>
                <a:t>SYSTEMY WYNAGRODZENIA W POLSCE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74761"/>
            <p:cNvSpPr/>
            <p:nvPr/>
          </p:nvSpPr>
          <p:spPr>
            <a:xfrm>
              <a:off x="889560" y="2709720"/>
              <a:ext cx="2051640" cy="557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200" rIns="702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80"/>
                  </a:solidFill>
                  <a:latin typeface="Arial"/>
                </a:rPr>
                <a:t>CZASOW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74762"/>
            <p:cNvSpPr/>
            <p:nvPr/>
          </p:nvSpPr>
          <p:spPr>
            <a:xfrm>
              <a:off x="4341600" y="2709720"/>
              <a:ext cx="2052360" cy="557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200" rIns="702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80"/>
                  </a:solidFill>
                  <a:latin typeface="Arial"/>
                </a:rPr>
                <a:t>AKORDOW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74763"/>
            <p:cNvSpPr/>
            <p:nvPr/>
          </p:nvSpPr>
          <p:spPr>
            <a:xfrm>
              <a:off x="6732720" y="2709720"/>
              <a:ext cx="2051640" cy="557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200" rIns="702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80"/>
                  </a:solidFill>
                  <a:latin typeface="Arial"/>
                </a:rPr>
                <a:t>PROWIZYJN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74767"/>
            <p:cNvSpPr/>
            <p:nvPr/>
          </p:nvSpPr>
          <p:spPr>
            <a:xfrm>
              <a:off x="360360" y="3495600"/>
              <a:ext cx="3112920" cy="48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200" rIns="702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80"/>
                  </a:solidFill>
                  <a:latin typeface="Arial"/>
                </a:rPr>
                <a:t>czasowo - premiow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74769"/>
            <p:cNvSpPr/>
            <p:nvPr/>
          </p:nvSpPr>
          <p:spPr>
            <a:xfrm>
              <a:off x="3812400" y="3495600"/>
              <a:ext cx="3112920" cy="48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200" rIns="702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80"/>
                  </a:solidFill>
                  <a:latin typeface="Arial"/>
                </a:rPr>
                <a:t>akordowo - premiow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50800" y="397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4360" y="1197000"/>
            <a:ext cx="78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- czasowy -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przewiduje określanie stawek płacy w odniesieniu do liczby jednostek czasu, który pracownik przepracował lub był w gotowości do wykonywania pracy; jednostkami tymi mogą być: godzina, dzień, tydzień, miesiąc. Jest to system wynagradzania stosowany przede wszystkim w sytuacjach, w których trudno jest wymierzyć ilościowo efektywność wykonywanej pracy;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ipe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0:15:58Z</dcterms:created>
  <dc:creator>Administrator</dc:creator>
  <dc:description/>
  <dc:language>en-US</dc:language>
  <cp:lastModifiedBy>Administrator</cp:lastModifiedBy>
  <dcterms:modified xsi:type="dcterms:W3CDTF">2003-11-19T10:30:57Z</dcterms:modified>
  <cp:revision>8</cp:revision>
  <dc:subject/>
  <dc:title>WYNAGRODZENIA</dc:title>
</cp:coreProperties>
</file>