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1.gif" ContentType="image/gif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0DB-18C4-4683-943D-E6D389ED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A0F-1B92-4AA5-B0B3-47E41007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BA0-EBCC-43EE-B9EE-3B066645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801-80A3-430F-B76E-36B43867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43A7-14A4-4C67-AF00-6C373E6A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FEC5-327B-4D6F-88C7-D16CF3A4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29A6-3103-438E-AD7B-B1B478E1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B34A-FBD4-4CF2-B94B-CB2B69E0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D5BA-FF06-4B96-AE97-D9F1600A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52CE-9689-4B37-AFA6-F9BC7669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0AEA-AD8F-43FD-9F3A-A2532157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E45-59D7-42BF-9D63-6FF5A2CC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B2FB-DD01-4334-A349-212A8368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77A1-2AD5-40FD-B10B-843D1531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658A-1085-47E2-A692-B7F57047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933F-AF32-489F-AC6D-3518DBB3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20D9-8779-4800-A87E-1CD99079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3A8-68A5-4A7C-AA6F-1083E796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478-BABB-483C-AC02-FDA04B12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F84-933B-4DDB-B32F-34148AF3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9E1-A0E3-49B8-BA75-668DA8CC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4318-5461-420B-9B79-1309F57A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186-E286-4252-82FA-8202EF61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1AB-0431-4B87-BC51-53F4714F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C9A9-DAD1-4AF1-BF90-F1A4ADEFCAD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EDE3-C9FE-43FB-946E-44D021661F9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iem.onet.pl/wiem/00cfa5.html" TargetMode="Externa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erli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nformacje o stolicy Niemiec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rzygotował: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MADEUSZ LIPCZAK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 advTm="11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66800" y="1237320"/>
            <a:ext cx="4202640" cy="459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BRAMA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BRANDENBURS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10000">
    <p:wheel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ne ciekawe miejsca w Berli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ATER – nie mylić z wiedeńskim – to najstarszy ogródek piwny Berli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0" y="2708280"/>
            <a:ext cx="3887640" cy="3025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50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dziękowa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26920" y="2491920"/>
            <a:ext cx="7561440" cy="37242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ct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Arial"/>
              </a:rPr>
              <a:t>Dziekuję uprzejm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 algn="ct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3300"/>
                </a:solidFill>
                <a:latin typeface="Arial"/>
              </a:rPr>
              <a:t>za obejrzenie prezentacji, zapraszam na kolejn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 algn="ct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Arial"/>
              </a:rPr>
              <a:t>tutaj znajdziesz więcej informacji: kliknij na flagę: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 algn="ct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0" algn="ct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3300"/>
                </a:solidFill>
                <a:latin typeface="Arial"/>
              </a:rPr>
              <a:t>Amadeusz Lipcza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292640"/>
            <a:ext cx="438120" cy="4381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wheel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5" dur="2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6,117,-15)"/>
                                      </p:to>
                                    </p:set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6,117,-15)"/>
                                      </p:to>
                                    </p:set>
                                    <p:set>
                                      <p:cBhvr>
                                        <p:cTn id="227" dur="2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1" dur="5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4" dur="5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7" dur="5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eść prezentacj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ogólne informacj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zamki w Berlin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muze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lovepara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uniwersyte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budynek Reichstag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mur berliński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Brama Brandenburs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inne ciekawe miejs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284720" y="2997360"/>
            <a:ext cx="4319640" cy="2879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886280" cy="372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jest stolicą Niemiec od 1871do 1945 oraz od 1991 r. Położony jest na Pojezierzu Brandenburskim w Pradolinie Warszawsko - Berlińskiej pomiędzy rzeką Sprewą a Hawelą. Jego powierzchnia to ok. 900 km2 a liczba mieszkańców ok. 3,5 mln. Miasto podzielone jest na 23 dzielnice (Bezirke). 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45240" y="3557520"/>
            <a:ext cx="1801800" cy="1333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2987640" y="692280"/>
            <a:ext cx="378144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atura MT Script Capitals"/>
              </a:rPr>
              <a:t>BERLIN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atura MT Script Capitals"/>
              <a:ea typeface="Matura MT Script Capitals"/>
            </a:endParaRPr>
          </a:p>
        </p:txBody>
      </p:sp>
    </p:spTree>
  </p:cSld>
  <p:transition spd="slow" advTm="16000">
    <p:wheel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2382840"/>
            <a:ext cx="3770280" cy="1743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ff3399"/>
                </a:solidFill>
                <a:uFillTx/>
                <a:latin typeface="Arial"/>
              </a:rPr>
              <a:t>Najsłynniejsze zamki w Berlinie:</a:t>
            </a:r>
            <a:br>
              <a:rPr sz="2400"/>
            </a:br>
            <a:r>
              <a:rPr b="0" lang="pl-PL" sz="2400" spc="-1" strike="noStrike">
                <a:solidFill>
                  <a:srgbClr val="ff3300"/>
                </a:solidFill>
                <a:latin typeface="Comic Sans MS"/>
              </a:rPr>
              <a:t>od lewej w górnym rzędzie: Charlottenburg, Schloss Cecilienhof, Schloss Koepenick, Altes Palai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454720" y="2492280"/>
            <a:ext cx="2381040" cy="1524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531800" y="4421160"/>
            <a:ext cx="2381400" cy="1542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454720" y="4397400"/>
            <a:ext cx="2381040" cy="1590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UZEA W BERLI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749920" cy="372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Aegyptisches Muse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Altes Muse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Bodemuse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Botanisches Muse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Historisches Muse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Luftwaffe Muse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Pergamon Muse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Neue Nationalgalerie, Alte Nationalgaler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oraz wiele inny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64360" y="2492280"/>
            <a:ext cx="952560" cy="1371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372360" y="4797360"/>
            <a:ext cx="1252440" cy="1785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740720" y="4437000"/>
            <a:ext cx="952560" cy="1371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940360" y="3141720"/>
            <a:ext cx="95256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716360" y="2565360"/>
            <a:ext cx="952560" cy="13716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4941720"/>
            <a:ext cx="76932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ff00"/>
                </a:solidFill>
                <a:latin typeface="Arial"/>
              </a:rPr>
              <a:t>największa impreza techno na świecie, już od wielu lat odbywa się w centrum Berlina w lipc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9520" y="2362320"/>
            <a:ext cx="2685960" cy="1785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03640" y="2362320"/>
            <a:ext cx="2988000" cy="1930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55640" y="476280"/>
            <a:ext cx="7238880" cy="1396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564000" y="3213000"/>
            <a:ext cx="22572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oveparad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 advTm="15000">
    <p:pull dir="l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Uniwersytety w Berlin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76628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Berlinie mieści się wiele uczelni jak np. Uniwersytet Humbolta założony w 1810 r., Technische Universität (1946), Freie Universität (1948), oraz inne szkoły wyższe m.in. ekonmiczne, sztuk pięknych, filmowe i TV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87280" y="3933720"/>
            <a:ext cx="2381400" cy="1590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rot="19638000">
            <a:off x="1529640" y="50994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Uniwersytet Humbold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7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6666"/>
                </a:solidFill>
                <a:latin typeface="Arial"/>
              </a:rPr>
              <a:t>Budynek Reichstag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567240" cy="2376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3743280" cy="2349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14920" y="328356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zed renowacj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342792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 renowacj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 advTm="10000">
    <p:wheel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84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87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90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UR BERLIŃSK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 sierpniu 1961 rząd NRD, na granicy państwowej między NRD a Berlinem Zachodnim, postawił tzw. mur berliński. Po zmianach w stosunkach Wschód - Zachód, w listopadzie 1989, dokonano demontażu muru. W październiku 1990 Berlin został stolicą zjednoczonych Niemie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4175280" cy="2737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0:09:53Z</dcterms:created>
  <dc:creator>Administrator</dc:creator>
  <dc:description/>
  <dc:language>en-US</dc:language>
  <cp:lastModifiedBy>Administrator</cp:lastModifiedBy>
  <dcterms:modified xsi:type="dcterms:W3CDTF">2003-11-19T09:42:39Z</dcterms:modified>
  <cp:revision>66</cp:revision>
  <dc:subject/>
  <dc:title>Berlin</dc:title>
</cp:coreProperties>
</file>