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37.png" ContentType="image/png"/>
  <Override PartName="/ppt/media/image12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EE65-0272-4BA2-A5A5-FF4E3B007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F974-B0D3-44CC-A02B-D1DED9B95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4A89-B9D3-4D44-A7E6-F8C778CC4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7B87-DAD6-476D-9443-A2BEF8BA0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99DF0-B2FD-41BD-B9CC-6A6AE4B38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69DA5-FF04-48CD-AA4E-02C725075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E0F71-5309-4084-BC26-6D1C91A94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38F86-A722-449C-8636-8A913FF14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3A003-E142-4346-B54A-669832F12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4DF26-71BF-49B4-B897-BFBD03867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57CC1-DEC2-42F1-BCA5-13A75A3F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744B-8A36-4158-8BF6-536A87E29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06340-72B9-43CE-8690-1DC1B957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B9426-BBE8-4956-BD14-0BE07387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48963-5700-4C1B-BF58-24B192A82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E0A72-0D20-4027-9928-329F6F04E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AD66A-11F7-4326-852A-9EC318A62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3C0A5-2C47-4C38-8EFF-6F3CF772F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632FE-ABCE-4F24-BAA8-1DEA03DB7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12903-92BA-43CE-B2B0-DE8F9C982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EF1E6-B735-43F6-BA9D-17D79E4DA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E0245-5133-445C-99F8-2E850175C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54FE-2F5B-414D-A66E-3AC3E3717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20AB9-2AC8-4A38-8F81-0C7D700D3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9CC1C-15CF-4ACC-8C39-61A70BF4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95749-29FB-419C-9E72-2883AD14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4AA26-2AF3-41F9-B187-FD97B47F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0BCC3-2EF8-4ADD-9FD3-21DF59CAC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5E3D1-4634-43F2-B56A-B72EA563D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12CBA-B1ED-42BC-905C-EE402FBDC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21EE1-590A-42E7-A041-D3845B2A8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8ECF8-3705-439C-BD92-149B6BFC5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94B01-31D0-41BD-BBAF-30D4C5077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E6E8-26B6-402E-942C-15ECAE4FD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CE358-55E2-4769-9B47-9232AE747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90407-9805-44D8-8360-CC1C60A15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5BEC6-FEE5-4671-B386-E5D8F4C82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5DE4F-5DFA-43D8-81EF-67D76C70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9F138-4AEB-416A-9599-53708A4E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B3C6C-4A9E-41A1-B4FD-1A1C37FE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1824C-E39C-4F7B-A4F7-AFD8C15F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D5059-FB13-4C1B-BE13-25F97B367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7D5E0-0B4E-47D5-A2E2-0F1EECA6E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E22A-7BEC-41D2-B8FD-63978A47E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78EC-D8A4-47C7-B7EA-EC5C69EDC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95B0-BAD1-45D4-8016-4C9C90BF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406A-E34F-4F9F-B458-877FC345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C105-49C7-4E95-94DD-EA49CC939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7FE5A-0C4B-4B1C-9ED9-15DACABD05E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C9094-172D-4A88-949C-6A6E527FEEF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15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16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19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22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25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29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33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36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39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42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45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7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48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51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3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54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57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60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66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72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75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78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84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90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2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grpSp>
              <p:nvGrpSpPr>
                <p:cNvPr id="194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5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8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25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7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63785-CEAF-47C4-9654-2BC519DE907D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291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92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295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96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97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9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300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301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3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304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6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307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9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10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1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2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313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5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16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7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8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19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0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1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22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3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4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25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6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7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28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0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31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2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3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34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6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37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8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9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40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2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43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4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5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46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8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49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0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1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52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4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355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6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7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58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0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61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63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65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366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7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8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369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1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72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4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75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7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78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9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0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81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3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84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98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399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400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7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08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409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6B1E8-5C1C-4C8A-9B0E-5B4B744F9168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www.fuw.edu.pl/~rosiek/photo/alpy2001/triglav/karabinek.html" TargetMode="External"/><Relationship Id="rId3" Type="http://schemas.openxmlformats.org/officeDocument/2006/relationships/image" Target="../media/image26.jpeg"/><Relationship Id="rId4" Type="http://schemas.openxmlformats.org/officeDocument/2006/relationships/hyperlink" Target="http://www.weltderberge.de/alpen/biberkop.htm" TargetMode="External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bayreuther-festspiele.de/Gross.asp?bild=Global/Logo3_Gross.jpg&amp;BackLink=&amp;bezeichnung=Zuschauerraum&amp;breite=" TargetMode="External"/><Relationship Id="rId2" Type="http://schemas.openxmlformats.org/officeDocument/2006/relationships/image" Target="../media/image38.jpeg"/><Relationship Id="rId3" Type="http://schemas.openxmlformats.org/officeDocument/2006/relationships/hyperlink" Target="http://www.bayreuther-festspiele.de/Gross.asp?bild=Global/logo1_Gross.jpg&amp;BackLink=&amp;bezeichnung=Festspielhaus&amp;breite=Au&#223;enansicht" TargetMode="External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hyperlink" Target="http://www.muenchen-tourist.de/deutsch/oktoberfest/muenchen-oktoberfest-plakat2003_m.htm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llegro BT"/>
              </a:rPr>
              <a:t>SERDECZNIE WITAMY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llegro BT"/>
              </a:rPr>
              <a:t>W </a:t>
            </a:r>
            <a:r>
              <a:rPr b="0" lang="en-US" sz="8800" spc="-1" strike="noStrike">
                <a:solidFill>
                  <a:srgbClr val="ffcc00"/>
                </a:solidFill>
                <a:latin typeface="Allegro BT"/>
              </a:rPr>
              <a:t>BAWARII</a:t>
            </a:r>
            <a:endParaRPr b="0" lang="en-US" sz="8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comic"/>
              </a:rPr>
              <a:t>RATYZBON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6481800" cy="432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80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UGSBUR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1"/>
          <a:stretch/>
        </p:blipFill>
        <p:spPr>
          <a:xfrm>
            <a:off x="971640" y="3429000"/>
            <a:ext cx="3457440" cy="2325600"/>
          </a:xfrm>
          <a:prstGeom prst="rect">
            <a:avLst/>
          </a:prstGeom>
          <a:ln w="0">
            <a:noFill/>
          </a:ln>
        </p:spPr>
      </p:pic>
      <p:pic>
        <p:nvPicPr>
          <p:cNvPr id="492" name="" descr=""/>
          <p:cNvPicPr/>
          <p:nvPr/>
        </p:nvPicPr>
        <p:blipFill>
          <a:blip r:embed="rId2"/>
          <a:stretch/>
        </p:blipFill>
        <p:spPr>
          <a:xfrm>
            <a:off x="5003640" y="1700280"/>
            <a:ext cx="3314880" cy="283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4000" y="277920"/>
            <a:ext cx="75452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3399"/>
                </a:solidFill>
                <a:latin typeface="Bookman Old Style"/>
              </a:rPr>
              <a:t>Passau nad Dunajem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94" name="" descr="Dreiflüssestadt&#13;&#10;      Passau"/>
          <p:cNvPicPr/>
          <p:nvPr/>
        </p:nvPicPr>
        <p:blipFill>
          <a:blip r:embed="rId1"/>
          <a:stretch/>
        </p:blipFill>
        <p:spPr>
          <a:xfrm>
            <a:off x="468360" y="4149720"/>
            <a:ext cx="4319640" cy="220968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Regina Danubia"/>
          <p:cNvPicPr/>
          <p:nvPr/>
        </p:nvPicPr>
        <p:blipFill>
          <a:blip r:embed="rId2"/>
          <a:stretch/>
        </p:blipFill>
        <p:spPr>
          <a:xfrm>
            <a:off x="5364000" y="1484280"/>
            <a:ext cx="3078360" cy="216864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Oberhaus"/>
          <p:cNvPicPr/>
          <p:nvPr/>
        </p:nvPicPr>
        <p:blipFill>
          <a:blip r:embed="rId3"/>
          <a:stretch/>
        </p:blipFill>
        <p:spPr>
          <a:xfrm>
            <a:off x="1042920" y="1484280"/>
            <a:ext cx="3240000" cy="217332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Fürstbischöfliches Opernhaus"/>
          <p:cNvPicPr/>
          <p:nvPr/>
        </p:nvPicPr>
        <p:blipFill>
          <a:blip r:embed="rId4"/>
          <a:stretch/>
        </p:blipFill>
        <p:spPr>
          <a:xfrm>
            <a:off x="5292720" y="4149720"/>
            <a:ext cx="3600360" cy="21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0033"/>
                </a:solidFill>
                <a:latin typeface="Arial"/>
              </a:rPr>
              <a:t>LINDAU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11280" y="1902600"/>
            <a:ext cx="79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eaeaea"/>
                </a:solidFill>
                <a:latin typeface="Arial Black"/>
              </a:rPr>
              <a:t>Lindau - miasto w południowych-zachodniej Bawarii nad Jeziorem Bodeńskim. Jest ośrodkiem turystyczno-wypoczynkowym. W Lindau znajduje się port śródlądowy. Atrakcją turystyczną są wycieczki statkiem wokół Jeziora Bodeńskiego lub do innych portów w Austrii lub Szwajcarii. W okolicy miasta są liczne uzdrowiska i kąpieliska z wodami mineralnymi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00" name="" descr="Lindauer Hafeneinfahrt"/>
          <p:cNvPicPr/>
          <p:nvPr/>
        </p:nvPicPr>
        <p:blipFill>
          <a:blip r:embed="rId1"/>
          <a:stretch/>
        </p:blipFill>
        <p:spPr>
          <a:xfrm>
            <a:off x="2268360" y="3789360"/>
            <a:ext cx="4104000" cy="281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Bookman Old Style"/>
              </a:rPr>
              <a:t>Tradycyjny strój bawarski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1"/>
          <a:stretch/>
        </p:blipFill>
        <p:spPr>
          <a:xfrm>
            <a:off x="1619280" y="1557360"/>
            <a:ext cx="6192720" cy="387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5435640" y="333360"/>
            <a:ext cx="3168720" cy="187164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2"/>
          <a:stretch/>
        </p:blipFill>
        <p:spPr>
          <a:xfrm>
            <a:off x="1042920" y="333360"/>
            <a:ext cx="2054160" cy="179064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3"/>
          <a:stretch/>
        </p:blipFill>
        <p:spPr>
          <a:xfrm>
            <a:off x="3348000" y="3357720"/>
            <a:ext cx="2133720" cy="2303280"/>
          </a:xfrm>
          <a:prstGeom prst="rect">
            <a:avLst/>
          </a:prstGeom>
          <a:ln w="0">
            <a:noFill/>
          </a:ln>
        </p:spPr>
      </p:pic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11280" y="2492280"/>
            <a:ext cx="77724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Krajobrazy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1332000" y="5661000"/>
            <a:ext cx="640080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Verdana"/>
              </a:rPr>
              <a:t>BAWARSKIE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2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6" dur="500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2" dur="500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comic"/>
              </a:rPr>
              <a:t>WĘdrówki po Alpach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09" name="" descr=""/>
          <p:cNvPicPr/>
          <p:nvPr/>
        </p:nvPicPr>
        <p:blipFill>
          <a:blip r:embed="rId1"/>
          <a:stretch/>
        </p:blipFill>
        <p:spPr>
          <a:xfrm>
            <a:off x="539640" y="4076640"/>
            <a:ext cx="4000680" cy="2000160"/>
          </a:xfrm>
          <a:prstGeom prst="rect">
            <a:avLst/>
          </a:prstGeom>
          <a:ln w="0">
            <a:noFill/>
          </a:ln>
        </p:spPr>
      </p:pic>
      <p:pic>
        <p:nvPicPr>
          <p:cNvPr id="510" name="" descr="Triglav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867280" y="1413000"/>
            <a:ext cx="2560680" cy="166212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Biberkopf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042920" y="1484280"/>
            <a:ext cx="3241800" cy="2117880"/>
          </a:xfrm>
          <a:prstGeom prst="rect">
            <a:avLst/>
          </a:prstGeom>
          <a:ln w="0">
            <a:noFill/>
          </a:ln>
        </p:spPr>
      </p:pic>
      <p:pic>
        <p:nvPicPr>
          <p:cNvPr id="512" name="" descr="Wisząca dolinka"/>
          <p:cNvPicPr/>
          <p:nvPr/>
        </p:nvPicPr>
        <p:blipFill>
          <a:blip r:embed="rId6"/>
          <a:stretch/>
        </p:blipFill>
        <p:spPr>
          <a:xfrm>
            <a:off x="5867280" y="4365720"/>
            <a:ext cx="270360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66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71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" descr="Kopuła szczytowa"/>
          <p:cNvPicPr/>
          <p:nvPr/>
        </p:nvPicPr>
        <p:blipFill>
          <a:blip r:embed="rId1"/>
          <a:stretch/>
        </p:blipFill>
        <p:spPr>
          <a:xfrm>
            <a:off x="4284720" y="260280"/>
            <a:ext cx="3025800" cy="195732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Ściana Triglava"/>
          <p:cNvPicPr/>
          <p:nvPr/>
        </p:nvPicPr>
        <p:blipFill>
          <a:blip r:embed="rId2"/>
          <a:stretch/>
        </p:blipFill>
        <p:spPr>
          <a:xfrm>
            <a:off x="5796000" y="2997360"/>
            <a:ext cx="2878200" cy="187308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Plecaki"/>
          <p:cNvPicPr/>
          <p:nvPr/>
        </p:nvPicPr>
        <p:blipFill>
          <a:blip r:embed="rId3"/>
          <a:stretch/>
        </p:blipFill>
        <p:spPr>
          <a:xfrm>
            <a:off x="250920" y="1682640"/>
            <a:ext cx="3105000" cy="201312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Świstak"/>
          <p:cNvPicPr/>
          <p:nvPr/>
        </p:nvPicPr>
        <p:blipFill>
          <a:blip r:embed="rId4"/>
          <a:stretch/>
        </p:blipFill>
        <p:spPr>
          <a:xfrm>
            <a:off x="1835280" y="4221000"/>
            <a:ext cx="3168360" cy="206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78" dur="2000" fill="hold"/>
                                        <p:tgtEl>
                                          <p:spTgt spid="5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82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86" dur="2000" fill="hold"/>
                                        <p:tgtEl>
                                          <p:spTgt spid="5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90" dur="2000" fill="hold"/>
                                        <p:tgtEl>
                                          <p:spTgt spid="5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324000" y="4867920"/>
            <a:ext cx="849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9900"/>
                </a:solidFill>
                <a:latin typeface="Arial Black"/>
              </a:rPr>
              <a:t>Zugspitze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eaeaea"/>
                </a:solidFill>
                <a:latin typeface="Arial Black"/>
              </a:rPr>
              <a:t>najwyższy szczyt Niemiec, 2623 m n.p.m. Ze szczytu widok na cztery kraje: Niemcy, Austrię, Szwajcarię i Włochy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2700360" y="1268280"/>
            <a:ext cx="3313080" cy="249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6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ZAMKI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, które warto zobaczyć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9933ff"/>
                </a:solidFill>
                <a:latin typeface="Verdana"/>
              </a:rPr>
              <a:t>Herrenchiemsee</a:t>
            </a:r>
            <a:br>
              <a:rPr sz="2800"/>
            </a:b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2268360" y="2276640"/>
            <a:ext cx="4753080" cy="40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395280" y="11250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66"/>
                </a:solidFill>
                <a:latin typeface="Verdana"/>
              </a:rPr>
              <a:t>Bawaria, Bayern, największy kraj związkowy w Niemczech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467" name="" descr="Links zu den Ministerien"/>
          <p:cNvPicPr/>
          <p:nvPr/>
        </p:nvPicPr>
        <p:blipFill>
          <a:blip r:embed="rId1"/>
          <a:stretch/>
        </p:blipFill>
        <p:spPr>
          <a:xfrm>
            <a:off x="826920" y="260280"/>
            <a:ext cx="7229520" cy="75240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/>
          <p:nvPr/>
        </p:nvSpPr>
        <p:spPr>
          <a:xfrm>
            <a:off x="684360" y="3174480"/>
            <a:ext cx="80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eaeaea"/>
                </a:solidFill>
                <a:latin typeface="Arial Black"/>
              </a:rPr>
              <a:t>Obejmuje dorzecze Dunaju poniżej miasta Ulm i górnego Menu, Alpy Bawarskie i Algawskie, Wyżynę Bawarską, Basen Frankoński, Jurę Frankońską, Las Frankoński, góry Spessart i wschodnie stoki gór Rhön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9" dur="10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" dur="10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600" spc="-1" strike="noStrike">
                <a:solidFill>
                  <a:srgbClr val="ffffcc"/>
                </a:solidFill>
                <a:latin typeface="Monotype Corsiva"/>
              </a:rPr>
              <a:t>Linderhof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755640" y="2208240"/>
            <a:ext cx="7620120" cy="360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6600"/>
                </a:solidFill>
                <a:latin typeface="AvantGarde Md BT"/>
              </a:rPr>
              <a:t>Neuschwanstei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1523880" y="1995480"/>
            <a:ext cx="6096240" cy="402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99"/>
                </a:solidFill>
                <a:latin typeface="Matura MT Script Capitals"/>
              </a:rPr>
              <a:t>Ryszard Wagner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3132000" y="2133720"/>
            <a:ext cx="2698920" cy="381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eec85e"/>
                </a:solidFill>
                <a:latin typeface="BernhardFashion BT"/>
              </a:rPr>
              <a:t>Festiwal Wagnerowski w Bayreuth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29" name="" descr="Festspielhaus Zuschauerrau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1625760"/>
            <a:ext cx="2520720" cy="178884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Festspielhaus Außenansich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92720" y="1557360"/>
            <a:ext cx="2584440" cy="183348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5"/>
          <a:stretch/>
        </p:blipFill>
        <p:spPr>
          <a:xfrm>
            <a:off x="1979640" y="4149720"/>
            <a:ext cx="2419200" cy="171468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6114960" y="602064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eaeaea"/>
                </a:solidFill>
                <a:latin typeface="Arial Black"/>
              </a:rPr>
              <a:t>Lohengrin, 1. Akt,</a:t>
            </a:r>
            <a:r>
              <a:rPr b="0" lang="pl-PL" sz="1800" spc="-1" strike="noStrike">
                <a:solidFill>
                  <a:srgbClr val="eaeaea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6"/>
          <a:stretch/>
        </p:blipFill>
        <p:spPr>
          <a:xfrm>
            <a:off x="6084720" y="4149720"/>
            <a:ext cx="2400480" cy="171468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1707840" y="6165000"/>
            <a:ext cx="308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eaeaea"/>
                </a:solidFill>
                <a:latin typeface="Arial Black"/>
              </a:rPr>
              <a:t>Tristan und Isolde, 3. Akt</a:t>
            </a:r>
            <a:r>
              <a:rPr b="0" lang="pl-PL" sz="1800" spc="-1" strike="noStrike">
                <a:solidFill>
                  <a:srgbClr val="eaeaea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4" dur="2000" fill="hold"/>
                                        <p:tgtEl>
                                          <p:spTgt spid="5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8" dur="2000" fill="hold"/>
                                        <p:tgtEl>
                                          <p:spTgt spid="5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Prezentację przygotowała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715760" y="2398320"/>
            <a:ext cx="54608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Bradley Hand ITC"/>
              </a:rPr>
              <a:t>MAŁGORZATA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Bradley Hand ITC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Bradley Hand ITC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Bradley Hand ITC"/>
              </a:rPr>
              <a:t>KUKUROWSKA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4" dur="50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0" dur="50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rezydentem tego landu jes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eaeaea"/>
                </a:solidFill>
                <a:latin typeface="Bradley Hand ITC"/>
              </a:rPr>
              <a:t>dr  Edmund Stoiber</a:t>
            </a:r>
            <a:br>
              <a:rPr sz="2800"/>
            </a:b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471" name="" descr="Bild: Ministerpräsident Stoiber"/>
          <p:cNvPicPr/>
          <p:nvPr/>
        </p:nvPicPr>
        <p:blipFill>
          <a:blip r:embed="rId1"/>
          <a:stretch/>
        </p:blipFill>
        <p:spPr>
          <a:xfrm>
            <a:off x="4932360" y="1484280"/>
            <a:ext cx="290520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9" dur="20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339640" y="475920"/>
            <a:ext cx="47530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Stolicą jes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1187280" y="4871520"/>
            <a:ext cx="6400800" cy="10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eaeaea"/>
                </a:solidFill>
                <a:latin typeface="Monotype Corsiva"/>
              </a:rPr>
              <a:t>MONACHIUM</a:t>
            </a: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2556000" y="1700280"/>
            <a:ext cx="4572000" cy="305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684360" y="3998160"/>
            <a:ext cx="734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ff3399"/>
                </a:solidFill>
                <a:uFillTx/>
                <a:latin typeface="Arial Black"/>
              </a:rPr>
              <a:t>Monachium</a:t>
            </a:r>
            <a:r>
              <a:rPr b="0" lang="pl-PL" sz="1800" spc="-1" strike="noStrike">
                <a:solidFill>
                  <a:srgbClr val="eaeaea"/>
                </a:solidFill>
                <a:latin typeface="Arial Black"/>
              </a:rPr>
              <a:t> - jest znanym miastem turystycznym. Turystów ściągają do miasta liczne zabytki. Zalicza się do nich m.in. wiele kościołów, zespół pałacowy Residenz, zespół pałacowo-ogrodowy Nymphenburg, bramy miejskie. Monachium to także miejsce światowej sławy święta piwa - Oktoberfest. Co roku ściągają tu piwosze z całego świata, by do woli delektować się bawarskim piwem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76" name="" descr="Monachium"/>
          <p:cNvPicPr/>
          <p:nvPr/>
        </p:nvPicPr>
        <p:blipFill>
          <a:blip r:embed="rId1"/>
          <a:stretch/>
        </p:blipFill>
        <p:spPr>
          <a:xfrm>
            <a:off x="2268360" y="404640"/>
            <a:ext cx="4286520" cy="319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" descr="{short description of image}"/>
          <p:cNvPicPr/>
          <p:nvPr/>
        </p:nvPicPr>
        <p:blipFill>
          <a:blip r:embed="rId1"/>
          <a:stretch/>
        </p:blipFill>
        <p:spPr>
          <a:xfrm>
            <a:off x="1835280" y="549360"/>
            <a:ext cx="5143320" cy="93492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{short description of image}"/>
          <p:cNvPicPr/>
          <p:nvPr/>
        </p:nvPicPr>
        <p:blipFill>
          <a:blip r:embed="rId2"/>
          <a:stretch/>
        </p:blipFill>
        <p:spPr>
          <a:xfrm>
            <a:off x="7093080" y="4657680"/>
            <a:ext cx="1501560" cy="146844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19280" y="2781360"/>
            <a:ext cx="2190600" cy="309240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5"/>
          <a:stretch/>
        </p:blipFill>
        <p:spPr>
          <a:xfrm rot="19902000">
            <a:off x="5148000" y="2349000"/>
            <a:ext cx="2160360" cy="135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" dur="500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2710800" y="1916280"/>
            <a:ext cx="3966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Black"/>
              </a:rPr>
              <a:t>Głównymi 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Black"/>
              </a:rPr>
              <a:t>miastami 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Black"/>
              </a:rPr>
              <a:t>regionu są :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0" dur="5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" dur="500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6" dur="500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684360" y="54900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Verdana"/>
              </a:rPr>
              <a:t>NORYMBERG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971640" y="1916280"/>
            <a:ext cx="2317680" cy="309528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2"/>
          <a:stretch/>
        </p:blipFill>
        <p:spPr>
          <a:xfrm>
            <a:off x="5292720" y="549360"/>
            <a:ext cx="2558880" cy="191916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3"/>
          <a:stretch/>
        </p:blipFill>
        <p:spPr>
          <a:xfrm>
            <a:off x="4427640" y="3645000"/>
            <a:ext cx="2404800" cy="28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684360" y="928800"/>
            <a:ext cx="78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eaeaea"/>
                </a:solidFill>
                <a:latin typeface="comic"/>
              </a:rPr>
              <a:t>Norymberga</a:t>
            </a:r>
            <a:r>
              <a:rPr b="0" lang="pl-PL" sz="1800" spc="-1" strike="noStrike">
                <a:solidFill>
                  <a:srgbClr val="eaeaea"/>
                </a:solidFill>
                <a:latin typeface="Arial Black"/>
              </a:rPr>
              <a:t> jest miastem w środkowo-wschodniej części Niemiec. Wśród atrakcji turystycznych dom Alberta Dürera, zamek z XIIw., zespół kościołów, muzeum zabawek. Po II wojnie światowej w siedzibie sądu w Norymberdze odbył się proces niemieckich zbrodniarzy wojennych oskarżonych o zbrodnie przeciw ludzkości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87" name="" descr="Norymberga"/>
          <p:cNvPicPr/>
          <p:nvPr/>
        </p:nvPicPr>
        <p:blipFill>
          <a:blip r:embed="rId1"/>
          <a:stretch/>
        </p:blipFill>
        <p:spPr>
          <a:xfrm>
            <a:off x="2916360" y="2708280"/>
            <a:ext cx="2949480" cy="3927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3T11:43:43Z</dcterms:created>
  <dc:creator>administrator</dc:creator>
  <dc:description/>
  <dc:language>en-US</dc:language>
  <cp:lastModifiedBy>administrator</cp:lastModifiedBy>
  <dcterms:modified xsi:type="dcterms:W3CDTF">2003-11-14T12:45:50Z</dcterms:modified>
  <cp:revision>17</cp:revision>
  <dc:subject/>
  <dc:title>Herzlich willkommen </dc:title>
</cp:coreProperties>
</file>