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0A2-1616-47F3-9973-361D0180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39E-FB46-40CF-BA96-CFFC030C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F06-C4F2-4C3A-8E56-C8716AEE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8CA-2E62-4CBD-9110-D1C957D6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D20-05DD-4367-A38C-A64DFE84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9EB2-48A7-404E-8380-E1085FB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B913-1057-4262-99CB-1FF98A2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872D-C318-4A63-9FE2-E68B40CE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16AE-4589-438B-B6A4-C3D0F427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7CC-13B4-4309-8695-2FB5933D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BB4C-95DA-4A93-8A49-E2297D9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C90-FE92-4C52-BE86-ABD7521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F37-9503-4027-ABD0-26EF522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0954-FE4A-49A3-806F-C2DB3EE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4357-1B77-4456-BD98-8A4D97D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FAA2-7D38-4BA4-910A-BA391513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2CE6-74AC-4FBC-8C54-39DCBFC8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45B-45B4-48E2-A50B-99314360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8D7-4D2E-4037-B7A3-1BEB0DF7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549-F646-41F7-B3CE-2F59F628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204-D9E8-4727-A4F4-E2AC71B8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20C-F209-4482-99FD-00AFD53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428-50CB-4B75-B70D-4CFB261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FDA-59A8-4C13-B783-E933A72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0F3-0D32-4F51-A8FE-55FE47008505}" type="slidenum">
              <a:rPr b="0" lang="pl-PL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93F-6864-49A6-8FAE-2CD601E28D2B}" type="slidenum">
              <a:rPr b="0" lang="pl-PL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Cięgna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Liny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Łańcuchy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6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Inne zakończe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403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Końce lin można  zamocować też za pomocą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zaciskó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akó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klinó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zalewanych końcówek stożk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itd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486400" y="1523880"/>
          <a:ext cx="253368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523880"/>
                    <a:ext cx="25336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Łańcuchy ogniwow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Łańcuchy stosuje się gdyż,mimo iż maja mniejszą wytrzymałość niż liny,potrafią przenosić napę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 łańcuchy ogniwowe stosuje się pręty zgrzewane najczęściej ze stali St1Z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 miejscu łączenia występuje efekt działania karb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str3-26-30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7467480" cy="1676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odział i zastosowanie łańcuchów ogniwowych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f89f7"/>
                </a:solidFill>
                <a:latin typeface="Tahoma"/>
              </a:rPr>
              <a:t>Podział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-o ogniwach krótkich kalibrowan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-o ogniwach krótkich niekalibrowan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-o ogniwach długich kalibrowan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-o ogniwach długi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iekalibrow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0240" y="16761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Zastosowani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łańcuchy napędow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zawies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łańcuchy na opo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we wciągark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w suwnicach i żurawi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w leśnictw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uśtawki i karuz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3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Łańcuchy sworzniow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Zalet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ą bardziej wytrzymałe od ogniw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przy zwykłych obciążeniach nie doznają znacznych odkształceń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mogą przenosić duże obciążen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Wad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ą cięższe i droższe od ogniw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przy niewielkim odchyleniu siły obciążającej w łańcuchu powstają niebezpieczne naprężenia zginają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2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Rodzaje,konserwacja i mocowanie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eriał stosowany na łańcuchy sworzniowe to najczęściej stal St45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Rodzaj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worzniow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ulejkow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rolkow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6765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towe łańcuchy zanurza się w smarze w celu zakonserwowania i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cąc przymocować łańcuch do jakiegoś stałego punktu należy zaopatrzyć go w specjalne ogniwo końcow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2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odział wg PN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PN dzielą łańcuchy sworzniowe n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A-łańcuchy napędowe(bez ogniw końcowych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B-łańcuchy noś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DGAB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691812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Dawid Ozimek IVA 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553080" y="5790960"/>
            <a:ext cx="1524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Copyright D.O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ięgna są elementami dźwignic,które przenoszą naprężenia rozciągające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09480" y="1523880"/>
          <a:ext cx="79250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9250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Liny włókien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eriały stosowane do produkcji lin włókiennych to włókn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manilow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sizalow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bawełnia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konop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Lanex-Polys" descr=""/>
          <p:cNvPicPr/>
          <p:nvPr/>
        </p:nvPicPr>
        <p:blipFill>
          <a:blip r:embed="rId1"/>
          <a:stretch/>
        </p:blipFill>
        <p:spPr>
          <a:xfrm>
            <a:off x="5299200" y="1905120"/>
            <a:ext cx="281304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Wytwarzanie i zastosowanie lin włókiennych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Wytwarzani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 kilku do kilkudziesięciu skręconych nitek tworzy splotkę.Kilka splotek,skręconych w przeciwnym kierunku niż nitki w splotce, tworzy lin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Zastosowani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ęczne wciągar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elokrąż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ązanie ładunkó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Ze względu na wytrzymałość ich zastosowanie jest ograniczon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2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Liny stalow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2590920"/>
            <a:ext cx="74678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9f7"/>
                </a:solidFill>
                <a:latin typeface="Tahoma"/>
              </a:rPr>
              <a:t>Wytwarzani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 kilku do kilkudziesięciu drutów skręca się w splotki.Kilka splotek skręca się,w tym samym kierunku co druty bądź w przeciwnym,wokół rdzenia tworząc lin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Rdzeń może być wykonany z drutu,włókna lub tworzywa sztuczneg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2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Charakterystyczne cechy budowy lin stalowych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9f7"/>
                </a:solidFill>
                <a:latin typeface="Tahoma"/>
              </a:rPr>
              <a:t>Rozróżnia się liny stalow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krągłosplotkow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rójkątnosplotkow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owalnosplotkow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9f7"/>
                </a:solidFill>
                <a:latin typeface="Tahoma"/>
              </a:rPr>
              <a:t>Rodzaj liny zależy od sposobu skręcania i kształtu rdzen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1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Klasyfikacja lin stalowy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Zgodnie z PN liny stalowe klasyfikuje się wg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kształtu poprzecznego l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liczby splote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liczby drutów w splot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materiału rdzenia i drutó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wielokrotności zwicia l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it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Cała klasyfikacja jest bardzo obszerna i zawarta w P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5" name="fghhjkl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5486400" y="1971720"/>
            <a:ext cx="3352680" cy="4352760"/>
          </a:xfrm>
          <a:prstGeom prst="rect">
            <a:avLst/>
          </a:prstGeom>
          <a:ln w="0">
            <a:noFill/>
          </a:ln>
        </p:spPr>
      </p:pic>
    </p:spTree>
  </p:cSld>
  <p:transition spd="slow" advTm="3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Zastosowanie lin stalowych oraz liny płaskie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y płaskie otrzymuje się najczęściej przez szycie ze sobą równolegle 6-8 obok siebie położonych l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Zastosowanie lin stalowych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najdują one szerokie zastosowanie w tran. bliskim.Są bardzo wytrzymałe więc mogą pracować w dość ciężkich warunkach i przenosić duże obciążen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 advTm="2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Zakończenia lin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dnym z częściej spotykanych sposobów zamocowania końca liny jest mocowanie za pośrednictwem sercówki(kauszy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Sercówki objęte są PN i dzielimy je na rodzaj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 - ku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B,C - odlewa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szystkie są wyżarza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3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4952880" y="2438280"/>
            <a:ext cx="373392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9:26:46Z</dcterms:created>
  <dc:creator>Dawid Ozimek</dc:creator>
  <dc:description/>
  <dc:language>en-US</dc:language>
  <cp:lastModifiedBy>Dawid Ozimek</cp:lastModifiedBy>
  <dcterms:modified xsi:type="dcterms:W3CDTF">2003-11-09T17:12:01Z</dcterms:modified>
  <cp:revision>8</cp:revision>
  <dc:subject/>
  <dc:title>Cięgna</dc:title>
</cp:coreProperties>
</file>