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7B5-91EB-45AE-8E1A-31D6F7CE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BEC-8068-479D-A3CF-8F49F50B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45C-8BB5-4D3A-8A89-B50153CC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7E7-4B59-41CE-8393-9DF99027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8D7-86D0-4992-876A-7D66590C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EBE-9EB4-4A52-A624-86AD18EF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342-ED4E-4290-B608-4DAEC46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F0C3-196B-42FC-97D9-2C79275C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B6E-CA0E-4839-8827-85EFC2DD8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406-FDCD-4FB9-A796-D9D6EE4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EA4-A88A-475E-A429-5D50611D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03B-B0AA-4F85-9654-13DA6C6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4E3C-3558-47C5-AAA7-E6E6FADF8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150012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comic"/>
              </a:rPr>
              <a:t>P r z e k s z t a l c e n i 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"/>
              </a:rPr>
              <a:t>w y k r e  s ó w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66"/>
                </a:solidFill>
                <a:latin typeface="comic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comic"/>
              </a:rPr>
              <a:t>f  u  n  k  c  j 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447920" y="990720"/>
          <a:ext cx="6367320" cy="50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90720"/>
                    <a:ext cx="63673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03640" y="836640"/>
                <a:ext cx="2305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18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6200" y="60228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562200" y="5878440"/>
                <a:ext cx="2305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4498920" y="5950080"/>
            <a:ext cx="1727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59256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49480" y="6310440"/>
                <a:ext cx="2305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619280" y="6310440"/>
            <a:ext cx="1727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986200" y="64800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szkicuj na jednym rysunku funkcje: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sign (x )     i        y’=sign (-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990720" y="1052640"/>
          <a:ext cx="6389640" cy="443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52640"/>
                    <a:ext cx="6389640" cy="44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380360" y="218772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80360" y="184464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56720" y="17305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=sign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51680" y="207324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’=sign(-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3159000"/>
            <a:ext cx="215640" cy="2160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3519360"/>
            <a:ext cx="215640" cy="216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38560" y="3517920"/>
            <a:ext cx="144360" cy="21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2800440"/>
            <a:ext cx="215640" cy="215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38560" y="2798640"/>
            <a:ext cx="144360" cy="21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78040" y="5545080"/>
            <a:ext cx="1938240" cy="87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,  gdy x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,  gdy x=0            -1,  gdy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794200"/>
            <a:ext cx="14907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ign x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5640" y="5300640"/>
            <a:ext cx="596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4343400" y="5334120"/>
            <a:ext cx="3505320" cy="1218960"/>
            <a:chOff x="4343400" y="5334120"/>
            <a:chExt cx="3505320" cy="1218960"/>
          </a:xfrm>
        </p:grpSpPr>
        <p:sp>
          <p:nvSpPr>
            <p:cNvPr id="174" name=""/>
            <p:cNvSpPr/>
            <p:nvPr/>
          </p:nvSpPr>
          <p:spPr>
            <a:xfrm>
              <a:off x="4343400" y="5777280"/>
              <a:ext cx="1728360" cy="4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sign (-x)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5760" y="5334120"/>
              <a:ext cx="5760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76000" y="5555520"/>
              <a:ext cx="1872720" cy="77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,  gdy 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-_</a:t>
              </a:r>
              <a:br>
                <a:rPr sz="1600"/>
              </a:b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,  gdy x=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-1,  gdy x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H="1">
            <a:off x="8001000" y="5791320"/>
            <a:ext cx="76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08640" y="3365640"/>
                <a:ext cx="125280" cy="1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7696080" y="4572000"/>
            <a:ext cx="4572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14760" y="3341520"/>
          <a:ext cx="114480" cy="17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41520"/>
                    <a:ext cx="114480" cy="1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 flipV="1">
            <a:off x="2133720" y="5410080"/>
            <a:ext cx="3808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549360"/>
            <a:ext cx="748800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eśli wykres funkcji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pl-PL" sz="3200" spc="-1" strike="noStrike">
                <a:solidFill>
                  <a:srgbClr val="ff3300"/>
                </a:solidFill>
                <a:latin typeface="Arial"/>
              </a:rPr>
              <a:t>y = f(x)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kształcimy symetrycz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ględem osi x, to otrzym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kres funkcji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y’= - f(x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 funkcje: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3x-1       i        y’= ­(3x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50920" y="981000"/>
          <a:ext cx="5400720" cy="467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981000"/>
                    <a:ext cx="5400720" cy="46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4670640" y="5805360"/>
            <a:ext cx="148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19640" y="591192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19640" y="636912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76840" y="6262560"/>
            <a:ext cx="10285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’=-(3x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76840" y="5805360"/>
            <a:ext cx="7999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3x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63280" y="-36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 funkcje: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   y’=-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148000" y="5734080"/>
            <a:ext cx="11523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63640" y="981000"/>
          <a:ext cx="598320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81000"/>
                    <a:ext cx="59832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348000" y="58006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48000" y="62578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25800" y="56610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22560" y="6143760"/>
            <a:ext cx="8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’= - x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0" y="1219320"/>
          <a:ext cx="516420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19320"/>
                    <a:ext cx="516420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763800" y="3567240"/>
                <a:ext cx="16200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3765600" y="369000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276720" y="765000"/>
                <a:ext cx="2519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m>
                      <m:mr>
                        <m:e/>
                        <m:e>
                          <m:r>
                            <m:t xml:space="preserve">i</m:t>
                          </m:r>
                          <m:m>
                            <m:mr>
                              <m:e/>
                              <m:e/>
                            </m:mr>
                          </m:m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x</m:t>
                              </m:r>
                            </m:e>
                          </m:ra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619280" y="332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funkcj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743200" y="5410080"/>
            <a:ext cx="3889440" cy="824400"/>
            <a:chOff x="2743200" y="5410080"/>
            <a:chExt cx="3889440" cy="824400"/>
          </a:xfrm>
        </p:grpSpPr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3032280" y="5913360"/>
                  <a:ext cx="1609560" cy="2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m>
                        <m:mr>
                          <m:e/>
                          <m:e>
                            <m:r>
                              <m:t xml:space="preserve">i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4113360" y="5481360"/>
                  <a:ext cx="160956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m>
                        <m:mr>
                          <m:e/>
                          <m:e>
                            <m:r>
                              <m:t xml:space="preserve">i</m:t>
                            </m:r>
                            <m:m>
                              <m:mr>
                                <m:e/>
                                <m:e/>
                              </m:mr>
                            </m:m>
                            <m:r>
                              <m:t xml:space="preserve">y</m:t>
                            </m:r>
                            <m:r>
                              <m:t xml:space="preserve">'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215" name=""/>
            <p:cNvSpPr/>
            <p:nvPr/>
          </p:nvSpPr>
          <p:spPr>
            <a:xfrm>
              <a:off x="4687920" y="5410080"/>
              <a:ext cx="12970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5254560" y="5495040"/>
              <a:ext cx="889920" cy="276480"/>
              <a:chOff x="5254560" y="5495040"/>
              <a:chExt cx="889920" cy="276480"/>
            </a:xfrm>
          </p:grpSpPr>
          <p:sp>
            <p:nvSpPr>
              <p:cNvPr id="217" name=""/>
              <p:cNvSpPr/>
              <p:nvPr/>
            </p:nvSpPr>
            <p:spPr>
              <a:xfrm>
                <a:off x="5254560" y="5495040"/>
                <a:ext cx="550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=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686200" y="5567400"/>
                    <a:ext cx="162000" cy="123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219" name=""/>
              <p:cNvSpPr/>
              <p:nvPr/>
            </p:nvSpPr>
            <p:spPr>
              <a:xfrm>
                <a:off x="5759640" y="5495040"/>
                <a:ext cx="384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{0}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5264280" y="58971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’=R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37000" y="56005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43200" y="5770440"/>
              <a:ext cx="129708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37000" y="6057720"/>
              <a:ext cx="457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7543800" y="4648320"/>
            <a:ext cx="914400" cy="152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259380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3       i        y’= 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23880" y="1066680"/>
          <a:ext cx="66294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66680"/>
                    <a:ext cx="6629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2971800" y="5791320"/>
            <a:ext cx="1600200" cy="685800"/>
            <a:chOff x="2971800" y="5791320"/>
            <a:chExt cx="1600200" cy="685800"/>
          </a:xfrm>
        </p:grpSpPr>
        <p:sp>
          <p:nvSpPr>
            <p:cNvPr id="231" name=""/>
            <p:cNvSpPr/>
            <p:nvPr/>
          </p:nvSpPr>
          <p:spPr>
            <a:xfrm>
              <a:off x="2971800" y="5905440"/>
              <a:ext cx="640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71800" y="6248520"/>
              <a:ext cx="640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72080" y="5791320"/>
              <a:ext cx="64008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=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72080" y="6134400"/>
              <a:ext cx="79992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’=-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051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4495680" y="19810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28800" y="2286000"/>
            <a:ext cx="6019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5791320"/>
            <a:ext cx="1752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’=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533520"/>
            <a:ext cx="792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ykres funkcj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’= |f (x)|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est sum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nogościową tej części wykresu funk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 = f (x 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która znajduje się nad osią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obrazu pozostałej części wykresu te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kcji w symetrii względem osi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4360" y="333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funkc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2000" y="836640"/>
                <a:ext cx="22320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76360" y="1341360"/>
          <a:ext cx="568944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41360"/>
                    <a:ext cx="568944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"/>
          <p:cNvGrpSpPr/>
          <p:nvPr/>
        </p:nvGrpSpPr>
        <p:grpSpPr>
          <a:xfrm>
            <a:off x="3124080" y="5867280"/>
            <a:ext cx="1257120" cy="990360"/>
            <a:chOff x="3124080" y="5867280"/>
            <a:chExt cx="1257120" cy="990360"/>
          </a:xfrm>
        </p:grpSpPr>
        <p:sp>
          <p:nvSpPr>
            <p:cNvPr id="247" name=""/>
            <p:cNvSpPr/>
            <p:nvPr/>
          </p:nvSpPr>
          <p:spPr>
            <a:xfrm>
              <a:off x="3124080" y="6455160"/>
              <a:ext cx="558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6062040"/>
              <a:ext cx="558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82800" y="5867280"/>
              <a:ext cx="698400" cy="45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82800" y="6324120"/>
              <a:ext cx="6984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y’=|x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572000" y="5878440"/>
            <a:ext cx="21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=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258920" y="332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funkcj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914560" y="765000"/>
                <a:ext cx="27370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547640" y="1197000"/>
          <a:ext cx="5761080" cy="443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57610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4671360" y="559548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590920" y="5622840"/>
            <a:ext cx="1569960" cy="685440"/>
            <a:chOff x="2590920" y="5622840"/>
            <a:chExt cx="1569960" cy="685440"/>
          </a:xfrm>
        </p:grpSpPr>
        <p:sp>
          <p:nvSpPr>
            <p:cNvPr id="261" name=""/>
            <p:cNvSpPr/>
            <p:nvPr/>
          </p:nvSpPr>
          <p:spPr>
            <a:xfrm>
              <a:off x="2590920" y="6080040"/>
              <a:ext cx="6976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90920" y="5736960"/>
              <a:ext cx="697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88600" y="5622840"/>
              <a:ext cx="8722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=x+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88600" y="5965560"/>
              <a:ext cx="872280" cy="34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’=|x+1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55640" y="476280"/>
            <a:ext cx="74898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eśli wykres funkcji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3300"/>
                </a:solidFill>
                <a:latin typeface="Arial"/>
              </a:rPr>
              <a:t>y = f(x)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suniemy o wektor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w = [p,q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trzymamy wykres funkcji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</a:rPr>
              <a:t>y’= f(x-p)+q</a:t>
            </a: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03280" y="332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funkcj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692360" y="1125360"/>
          <a:ext cx="5688000" cy="42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125360"/>
                    <a:ext cx="5688000" cy="42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16360" y="779040"/>
            <a:ext cx="31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i             y’=|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16360" y="54144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3060720" y="5479920"/>
            <a:ext cx="1219320" cy="685800"/>
            <a:chOff x="3060720" y="5479920"/>
            <a:chExt cx="1219320" cy="685800"/>
          </a:xfrm>
        </p:grpSpPr>
        <p:sp>
          <p:nvSpPr>
            <p:cNvPr id="273" name=""/>
            <p:cNvSpPr/>
            <p:nvPr/>
          </p:nvSpPr>
          <p:spPr>
            <a:xfrm>
              <a:off x="3060720" y="559404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060720" y="5937120"/>
              <a:ext cx="457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17920" y="5479920"/>
              <a:ext cx="7621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=x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517920" y="582300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’=|x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403280" y="33264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funkcj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11640" y="5589720"/>
            <a:ext cx="1415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556080" y="692280"/>
                <a:ext cx="1522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3853440" y="371556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960" y="76428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57564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’=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068800" y="692280"/>
                <a:ext cx="15264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141880" y="7642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2195640" y="1197000"/>
          <a:ext cx="4924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197000"/>
                    <a:ext cx="4924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4988520" y="5523840"/>
            <a:ext cx="13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-{0}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-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5229360"/>
            <a:ext cx="91296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3200400" y="5445000"/>
            <a:ext cx="1463760" cy="885960"/>
            <a:chOff x="3200400" y="5445000"/>
            <a:chExt cx="1463760" cy="885960"/>
          </a:xfrm>
        </p:grpSpPr>
        <p:sp>
          <p:nvSpPr>
            <p:cNvPr id="293" name=""/>
            <p:cNvSpPr/>
            <p:nvPr/>
          </p:nvSpPr>
          <p:spPr>
            <a:xfrm>
              <a:off x="3200400" y="6065640"/>
              <a:ext cx="4572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564336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3708360" y="5445000"/>
                  <a:ext cx="49536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995640" y="5940360"/>
                  <a:ext cx="15264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3635280" y="5954400"/>
              <a:ext cx="10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y’=|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sz="12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04920"/>
            <a:ext cx="64008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003-02-2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racował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Gabriela  Kalici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332000" y="861840"/>
          <a:ext cx="6769080" cy="51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861840"/>
                    <a:ext cx="6769080" cy="51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 na  jednym  rysunku  funkcje: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i            y’=(x-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83440" y="5959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584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= R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’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13240" y="5900760"/>
            <a:ext cx="8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=[1,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16360" y="591984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637704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73560" y="580536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x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73560" y="6262560"/>
            <a:ext cx="1257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’= (x-1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276720" y="1699920"/>
            <a:ext cx="558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35280" y="2492280"/>
            <a:ext cx="55872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94200" y="3284280"/>
            <a:ext cx="55872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11280" y="5851440"/>
                <a:ext cx="2087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1979640" y="5734080"/>
            <a:ext cx="158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79640" y="1155600"/>
          <a:ext cx="5400720" cy="41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155600"/>
                    <a:ext cx="5400720" cy="41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419640" y="692280"/>
                <a:ext cx="20872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485760" y="5529960"/>
            <a:ext cx="677520" cy="276480"/>
            <a:chOff x="6485760" y="5529960"/>
            <a:chExt cx="677520" cy="276480"/>
          </a:xfrm>
        </p:grpSpPr>
        <p:sp>
          <p:nvSpPr>
            <p:cNvPr id="69" name=""/>
            <p:cNvSpPr/>
            <p:nvPr/>
          </p:nvSpPr>
          <p:spPr>
            <a:xfrm>
              <a:off x="6485760" y="5529960"/>
              <a:ext cx="67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=[2,0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558120" y="55386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132000" y="5661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32000" y="61182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637080" y="5419800"/>
                <a:ext cx="2087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m>
                      <m:mr>
                        <m:e/>
                        <m:e/>
                      </m:mr>
                    </m:m>
                    <m:r>
                      <m:t xml:space="preserve">i</m:t>
                    </m:r>
                    <m:m>
                      <m:mr>
                        <m:e/>
                        <m:e>
                          <m:r>
                            <m:t xml:space="preserve">y</m:t>
                          </m:r>
                          <m:r>
                            <m:t xml:space="preserve">'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4356000" y="5300640"/>
            <a:ext cx="158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20000" y="5227920"/>
            <a:ext cx="889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=R-{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’=R-{2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25146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2997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828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892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3500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i    y’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+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76360" y="1197000"/>
          <a:ext cx="5688000" cy="437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5688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29440" y="57340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4240" y="5516280"/>
            <a:ext cx="12690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=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8770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63342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83200" y="5673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96160" y="6188040"/>
            <a:ext cx="88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x+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9840" y="5715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=[-3,-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850920" y="177336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563640" y="227664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3059280" y="2779560"/>
            <a:ext cx="158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979640" y="6053040"/>
            <a:ext cx="2592000" cy="471600"/>
            <a:chOff x="1979640" y="6053040"/>
            <a:chExt cx="2592000" cy="47160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268360" y="6070680"/>
                  <a:ext cx="230328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x</m:t>
                      </m:r>
                      <m:m>
                        <m:mr>
                          <m:e/>
                          <m:e>
                            <m:r>
                              <m:t xml:space="preserve">i</m:t>
                            </m:r>
                            <m:m>
                              <m:mr>
                                <m:e/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og</m:t>
                                      </m:r>
                                    </m:e>
                                    <m:sub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b>
                                  </m:sSub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1979640" y="6053040"/>
              <a:ext cx="115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763640" y="5877000"/>
            <a:ext cx="1656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50920" y="907920"/>
          <a:ext cx="518508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907920"/>
                    <a:ext cx="518508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4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6624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77800" y="5634720"/>
            <a:ext cx="67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=[0,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987640" y="603360"/>
            <a:ext cx="2592360" cy="471240"/>
            <a:chOff x="2987640" y="603360"/>
            <a:chExt cx="2592360" cy="4712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276720" y="620640"/>
                  <a:ext cx="230328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x</m:t>
                      </m:r>
                      <m:m>
                        <m:mr>
                          <m:e/>
                          <m:e>
                            <m:r>
                              <m:t xml:space="preserve">i</m:t>
                            </m:r>
                            <m:m>
                              <m:mr>
                                <m:e/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og</m:t>
                                      </m:r>
                                    </m:e>
                                    <m:sub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b>
                                  </m:sSub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2987640" y="60336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48000" y="5621400"/>
            <a:ext cx="2592360" cy="471600"/>
            <a:chOff x="3348000" y="5621400"/>
            <a:chExt cx="2592360" cy="47160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3637080" y="5638680"/>
                  <a:ext cx="230328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x</m:t>
                      </m:r>
                      <m:m>
                        <m:mr>
                          <m:e/>
                          <m:e>
                            <m:r>
                              <m:t xml:space="preserve">i</m:t>
                            </m:r>
                            <m:m>
                              <m:mr>
                                <m:e/>
                                <m:e>
                                  <m:r>
                                    <m:t xml:space="preserve">y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og</m:t>
                                      </m:r>
                                    </m:e>
                                    <m:sub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sub>
                                  </m:sSub>
                                  <m:r>
                                    <m:t xml:space="preserve">x</m:t>
                                  </m:r>
                                </m:e>
                              </m:mr>
                            </m:m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3348000" y="5621400"/>
              <a:ext cx="115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356000" y="5445000"/>
            <a:ext cx="1656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64000" y="5589360"/>
            <a:ext cx="874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=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’=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08360" y="5756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08360" y="62136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79680" y="5537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79680" y="6056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40360" y="2781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56000" y="3086280"/>
            <a:ext cx="0" cy="41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328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0"/>
            <a:ext cx="8064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eśli wykres funkcji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3300"/>
                </a:solidFill>
                <a:latin typeface="Arial"/>
              </a:rPr>
              <a:t>y = f(x)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kształcimy symetrycznie względ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si y to otrzymamy wykres funkcj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’=f(-x)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=2x   i  y’=2(-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38640" y="5627520"/>
            <a:ext cx="116208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8108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63640" y="1008000"/>
          <a:ext cx="5977080" cy="4665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008000"/>
                    <a:ext cx="597708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76720" y="58104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626760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48040" y="5695920"/>
            <a:ext cx="571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48040" y="6039000"/>
            <a:ext cx="800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’=2(-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979640" y="933480"/>
          <a:ext cx="5472000" cy="494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933480"/>
                    <a:ext cx="5472000" cy="49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zkicuj na jednym rysunku parę wykresów funkcj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i    y’=(-x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5805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R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=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38440" y="595008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38440" y="630864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74480" y="5823000"/>
            <a:ext cx="5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67280" y="6093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’=(-x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13:41:13Z</dcterms:created>
  <dc:creator>Administrator</dc:creator>
  <dc:description/>
  <dc:language>en-US</dc:language>
  <cp:lastModifiedBy>Teresa Jednoróg</cp:lastModifiedBy>
  <dcterms:modified xsi:type="dcterms:W3CDTF">2003-11-03T12:53:43Z</dcterms:modified>
  <cp:revision>28</cp:revision>
  <dc:subject/>
  <dc:title>Slajd 1</dc:title>
</cp:coreProperties>
</file>