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AA3-1330-4B61-996D-29686566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A75-0A10-49E0-959F-A7C51A6B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532-707F-491C-8D13-0ED180CD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7CF-3230-4E33-BE7F-F6070A7A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196-5AA8-4C2F-A72F-A34327E6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C6E-3BF7-4455-9D4D-D87C044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095-F263-43CD-9DA1-AAEF4832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465-CF84-4319-AC01-A166C562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898-783C-4233-83AD-CE79BA48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206-F6C2-405F-BEB8-E1465D9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218-44B3-44C4-8F4C-334B1DB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1C7-40C5-45E5-88A3-9B5CE0EA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B9ED-1CF4-4900-AC49-5D783AEF2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klep.cedex.com.pl/x_C_I__P_6610089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5335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</a:rPr>
              <a:t>Urządzen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0574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zewnętr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5146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i wewnętr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429000"/>
            <a:ext cx="6705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600" spc="-1" strike="noStrike">
                <a:solidFill>
                  <a:srgbClr val="ffffff"/>
                </a:solidFill>
                <a:latin typeface="Times New Roman"/>
              </a:rPr>
              <a:t>komputera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2133720"/>
            <a:ext cx="77724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DŹWIĘK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ożliwia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grywanie i odtwarzanie muzyki, mowy i innych dźwięk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 pomocą komputera. Dzięki niej możesz podłączyć do komputera urządzenia służące do podobnych celów, np.: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łośniki, słuchawki lub mikrofo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56360" y="404640"/>
            <a:ext cx="2736720" cy="2311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09480"/>
            <a:ext cx="8305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SIE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zwala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łączyć komputery w sieć komputerową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adaniem tego urządzenia j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mowanie informacji 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yłanie ich przez kabel łączący komputery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Karta sieciowa umożliwia również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uchomienie i wykorzystywanie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gramów zainstalowanych na dyskach innych komputerów, a także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zystanie z zasobów sprzętowych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nego komputera, np.: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drukarki czy jednego mod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685800"/>
            <a:ext cx="7848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AM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ile o człowieku można powiedzieć , że ma pamięć dobrą lub złą, o tyle o komputerze, że ma jej dużo lub mało. Pojemność pamięci, czyli ilość informacji przechowywanych w pamięci komputera, mierzy się w specjalnych jednostkach. Najmniejszą jednostką informacji j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kreślający zawartość pojedynczej komórki pamięci. Bity łączy się w układy komórek o stałej długości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bitów, nazywane BAJ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bajt [B] = 8 bitów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152388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puter gromadzi informacje w pamięci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wnętrznej i zewnętrzn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mięć wewnętrzn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pecjalne układy elektroniczne zamontowane na płycie głównej komput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liczyć do niej możemy :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mięć ROM i pamięć 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600200"/>
            <a:ext cx="8001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mięć RO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łuży tylko do odczytu. Znajdują się w niej programy, wpisane przez producenta, służące do uruchomienia komputera. Sprawdza ona, czy zestaw komputerowy jest przygotowany do pracy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mięć RO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e ginie po wyłączeniu komputera, gdyż jest potrzebna każdorazowo do jego uruchomi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35280" y="4221000"/>
            <a:ext cx="5832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990720"/>
            <a:ext cx="73915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mięć 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łuży do zapisywania i odczytu informacji. Jest to pamięć o swobodnym dostępie nazywana pamięcią operacyjną. To właśnie do pamięci operacyjnej komputer wczytuje programy i dane, z którymi w danej chwili pracuje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st pamięcią nietrwałą, co oznacza, że po wyłączeniu komputera jej zawartość bezpowrotnie gi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35280" y="3860640"/>
            <a:ext cx="5689440" cy="189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68580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mięć zewnętrzn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nośniki do zapisywania i przechowywania informacji, między innymi –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skietka, dysk twardy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łyta CD-RO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nieważ jej zawartość nie ginie w chwili wyłączenia komputera, dlatego też często mówi się, że jest to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mięć sta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7524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fffff"/>
                </a:solidFill>
                <a:latin typeface="Times New Roman"/>
              </a:rPr>
              <a:t>Nośniki informacj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838080"/>
            <a:ext cx="79250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YSKIE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to mały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ążek z tworzywa sztucznego pokryty substancją magnetyczną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a którym informacje są zapisywane w podobny sposób jak na taśmie magnetofonowej. Jest on umieszczony w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tikowej obudowie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apisywanie i odczytywanie danych  odbywa się w urządzeniu o nazwie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cja dyskietek [ FDD ]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ecnie używa się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skietek 3,5 cal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a których można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isać 1,44 MB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3480" y="2650680"/>
            <a:ext cx="25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125360"/>
            <a:ext cx="807732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YSK  TW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duje się we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nętrzu jednostki centraln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kłada się on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krążków ( tarcz ) przypominających dyskietkę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onanych z materiału o dużej sztywności, który pokrywa warstwa magnetyczn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a dysku są zapisywane i przechowywane wszystkie programy, dane i wyniki pracy komputera. Na dysku twardym znajduje się miejsce dla większości tworzonych przez nas samych prac. Zapis i odczytywanie dokonuje się w urządzeniu nazywanym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ędem dysku twardego [ HDD ]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tóre jest z nim połączone na stałe lub może znajdować się w tak zwanej kieszeni, z której możemy dysk ten wyjmować i przenosić do innego komputera. Pojemność dysku wynosi dziś kilka lub kilkanaście gigabajtów (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1; 3,2; 4,3; 6,4; 10 GB i więc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, a więc można na nim umieścić znacznie więcej informacji niż na dyskiet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Obudowa"/>
          <p:cNvPicPr/>
          <p:nvPr/>
        </p:nvPicPr>
        <p:blipFill>
          <a:blip r:embed="rId2"/>
          <a:stretch/>
        </p:blipFill>
        <p:spPr>
          <a:xfrm>
            <a:off x="6183360" y="0"/>
            <a:ext cx="2960640" cy="400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609480"/>
            <a:ext cx="8153280" cy="65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Urządzenia połączone z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jednostką centraln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zywamy 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ewnętrznym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lub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eryferyjnym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Dzielą się one na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</a:rPr>
              <a:t>wejś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( należą do nich – 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klawiatura, myszka, trackbo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mikrofon, skaner, modem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,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rzekazujemy za ich pomocą dane i polecenia do komputera. Polecenia te informują komputer, co ma zrobić z wprowadzonymi dany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Do urządzeń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</a:rPr>
              <a:t>wyjściowych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( należą – 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monitor, drukarka, głośnik, słuchawki,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ploter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komputer przekazuje nam za ich pomocą rezultaty swojej p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62120"/>
            <a:ext cx="8001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ŁYTA KOMPAKTOWA CD-R, CD-RW, D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przeciwieństwie do dysku twardego i dyskietki, można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czyta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i zapisać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e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w urządzeniu zwanym nagrywarką lub tylko odczytać w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pęd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zie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D-ROM.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cje zawarte na tym nośniku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isane są techniką laserową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Jego największą zaletą jest to, że pozwala przechowywać bardzo dużo informacj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p.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0 M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393372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676520"/>
            <a:ext cx="7086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l-PL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r>
              <a:rPr b="1" lang="pl-PL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CYJ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52280"/>
            <a:ext cx="8305920" cy="68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wszym programem instalowan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komputerze jest system operacyjny. W niektórych szkołach rozpowszechniony jest jeszcze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operacyjny DO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tomiast w szkołach , które posiadają pracownie wyposażone przez  Ministerstwo Edukacji Narodowej spotykamy się z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em operacyjnym WINDOW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 taki system jest wyposażona nasza pracownia. Aby ułatwić posługiwanie się komputerem, firma MICRSOFT stworzyła system operacyjny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cujący w przyjaznym użytkownikowi środowisku graficznym. W systemie Windows prawie wszystkie polecenia można wykonać za pomocą myszy, co jest oczywiście łatwiejsze niż używanie klawi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będziemy określać terminami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środowi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14400"/>
            <a:ext cx="8153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operacyjny to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ważniejszy zestaw instruk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komputerze. Jest to program odpowiadający za jego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uchomienie, skonfigurowanie i komunikacj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 użytkownikiem ( czyli za tak zwane zarządzanie zasoba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utera ). System operacyjny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uchamia się automatycznie wraz z uruchomieniem kompute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sam wykonuje wszelkie niezbędne czynności służące uruchomieniu systemu. Dopiero po ich zakończeniu możemy przystępować do pracy z komputerem. Kiedy system operacyjny ulegnie uszkodzeniu, to jesteśmy w kłopocie, gdyż komputer nie działa prawidło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8390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WAŻNIEJSZE CECHY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rządza komputerem umożliwiając łatwą komunikację z n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umożliwia obsługę urządzeń zewnętrznych podłączonych do komputera, np.: drukarki, ska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ułatwia uruchomienie i instalowanie innych progra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umożliwia wykonywanie wielu operacji na dokumentach, które tworzy się w programach komputerowych: ich nazywanie, zapisywanie, kopiowanie, druk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każdy uruchomiony program pojawia się w nowym, podobnie zbudowanym oknie, stąd nazwa „Window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w języku angielskim „okno”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ma rozbudowany system pomocy i podpowie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5880" y="4724280"/>
          <a:ext cx="2098800" cy="13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4724280"/>
                    <a:ext cx="20988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2854440" cy="18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08720" y="47628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68360" y="4365720"/>
            <a:ext cx="1674720" cy="18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132000" y="350028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995640" y="404640"/>
            <a:ext cx="1368360" cy="1249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49724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42920" y="1197000"/>
            <a:ext cx="3384720" cy="135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148360" y="4005360"/>
            <a:ext cx="244296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52480" y="533520"/>
          <a:ext cx="5851800" cy="53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33520"/>
                    <a:ext cx="585180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Plytad.gif (60437 bytes)"/>
          <p:cNvPicPr/>
          <p:nvPr/>
        </p:nvPicPr>
        <p:blipFill>
          <a:blip r:embed="rId2"/>
          <a:stretch/>
        </p:blipFill>
        <p:spPr>
          <a:xfrm>
            <a:off x="4643280" y="0"/>
            <a:ext cx="4286520" cy="30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844640"/>
            <a:ext cx="81532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ŁYTA  GŁÓW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to płyta z tworzywa sztucznego, na której znajdują się najważniejsze układy elektroniczne komputera, odpowiedzialne za jego właściwą pracę :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or, pamięci oraz karty rozszerzeń,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.: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graficzna, kart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źwiękowa, karta sieciowa czy karta telewizyjn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między wszystkimi układami biegną zatopione w płycie głównej cienkie metalowe połączenia, tzw. ścieżki przewodzą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838080"/>
            <a:ext cx="792504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C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to układ elektroniczny, będący najważniejszą częścią komputera, nazywany często jego mózgiem. Zarządza on pozostałymi elementami komputera, wykonuje wszystkie obliczenia i podejmuje najważniejsze decyz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urządzenia te nagrzewają się podczas pracy, każdy z nich jest wyposażony w wentylator. Aby procesor mógł pracować, musi mieć źródło, z którego pobiera polecenia i dane do obliczeń oraz miejsce, gdzie będzie umieszczał wyniki swojej pracy. Do tego procesor potrzebuje pamię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www.procesor.com"/>
          <p:cNvPicPr/>
          <p:nvPr/>
        </p:nvPicPr>
        <p:blipFill>
          <a:blip r:embed="rId2"/>
          <a:stretch/>
        </p:blipFill>
        <p:spPr>
          <a:xfrm>
            <a:off x="5003640" y="404640"/>
            <a:ext cx="3600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533520"/>
            <a:ext cx="76197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Y  ROZSZE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y rozszerzające to płytki z zamontowanymi układami elektronicznymi, zwiększają one możliwości komputera, pozwalają dodawać nowe urządzenia, które nie wchodzą w skład podstawowego zestawu komputerowego, oraz nadzorują ich pracę. Odpowiednie karty rozszerzeń, między innymi,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rawiają jakość obrazu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świetlanego na ekranie monitora, pozwalają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twarzać i nagrywać dźwięk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ak również umożliwiają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pracę kilku komputer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łącząc je w sie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84720" y="189000"/>
            <a:ext cx="4572000" cy="260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1836720"/>
            <a:ext cx="8001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GRAF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odpowiedzialna za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świetlanie obrazu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ekranie monitora. Od rodzaju karty graficznej i monitora zależą parametry wyświetlanego obrazu. Są 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dzielczość obra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zba jednocześnie wyświetlanych kol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ęstotliwość odświeżania obra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9:51:18Z</dcterms:created>
  <dc:creator>*</dc:creator>
  <dc:description/>
  <dc:language>en-US</dc:language>
  <cp:lastModifiedBy>Administrator</cp:lastModifiedBy>
  <dcterms:modified xsi:type="dcterms:W3CDTF">2003-05-16T09:46:58Z</dcterms:modified>
  <cp:revision>17</cp:revision>
  <dc:subject/>
  <dc:title>Prezentacja programu PowerPoint</dc:title>
</cp:coreProperties>
</file>