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gif" ContentType="image/gif"/>
  <Override PartName="/ppt/media/image8.wmf" ContentType="image/x-wmf"/>
  <Override PartName="/ppt/media/image13.png" ContentType="image/png"/>
  <Override PartName="/ppt/media/image11.png" ContentType="image/png"/>
  <Override PartName="/ppt/media/image19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AB9-5A9D-4E59-94D5-65AAA388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C27-E2E7-4FB2-909A-95C04F58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50E-8B8D-4A5D-88AF-0B9561FE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A17-FE89-497F-9ECF-E2764D8D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C9967-9F06-4CDA-9C68-F714B27C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CB8B2-8605-4779-BC8D-D589CBA0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C4080-7970-4D56-81DB-049CDAB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A08DE-4C27-473F-BEAE-4291C30E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5DBC6-FD6D-46FE-852C-7F0817FA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D47D0-ACAB-4F1D-A18A-C212894A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34771-7746-49FE-A9B8-2585436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DC9-46E1-4D55-B479-F235841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44CB7-0422-4570-8EE3-8228335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576CE-9A23-4A8D-AABE-18F16B2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CD665-AF46-46B6-AE5B-7FF0002B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F474-6105-45EB-AFA2-0F60B828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7068-FB35-4710-9852-FB9AB10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4B5-54B7-4696-AD87-94F5511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74E-0651-45CC-8973-E419808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F89-2C2D-4CE5-8418-373848E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617-F618-4A52-970C-7AE81B11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B36-E445-4524-80E0-FB2C17D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0F4-0CC6-4A38-9DBD-8AE82C4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F5C-5885-45BA-8448-0C3C7350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72FA-8291-41E9-B952-4F0850A20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5525-F4EF-4224-8138-5AFFACB5C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S POWER POIN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Pierwsze kroki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5589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00"/>
                </a:solidFill>
                <a:latin typeface="Tahoma"/>
              </a:rPr>
              <a:t>Regina Wasilewska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00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52)"/>
                                      </p:to>
                                    </p:set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52)"/>
                                      </p:to>
                                    </p:set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Dobierz animacj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Pokaz slajdów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Przejście slajdu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1916280"/>
          <a:ext cx="4038480" cy="38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16280"/>
                    <a:ext cx="403848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 flipV="1">
            <a:off x="3348000" y="3068280"/>
            <a:ext cx="1222560" cy="8650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48000" y="2060640"/>
            <a:ext cx="1150920" cy="7920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2205000"/>
            <a:ext cx="1150920" cy="432000"/>
          </a:xfrm>
          <a:prstGeom prst="ellipse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3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3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nimacja niestandardowa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4360" y="1905120"/>
          <a:ext cx="713556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05120"/>
                    <a:ext cx="713556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724360" y="2205000"/>
            <a:ext cx="2232360" cy="863640"/>
          </a:xfrm>
          <a:prstGeom prst="ellipse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Efekty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58920" y="2133720"/>
          <a:ext cx="67276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133720"/>
                    <a:ext cx="6727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39640" y="162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Wejści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Efekty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09560" y="2276640"/>
          <a:ext cx="6778800" cy="38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2276640"/>
                    <a:ext cx="67788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55640" y="17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Wyróżnieni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Efekty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Wyjści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1844640"/>
          <a:ext cx="73850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44640"/>
                    <a:ext cx="738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okaz możesz uruchomić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68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Klawiszem funkcyjnym F5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Pokaz slajdów                  </a:t>
            </a: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Wyświetl pokaz 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003640" y="1341360"/>
          <a:ext cx="357984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341360"/>
                    <a:ext cx="35798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32360" y="1341360"/>
            <a:ext cx="3816360" cy="1152720"/>
          </a:xfrm>
          <a:prstGeom prst="ellipse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469360" y="5805360"/>
            <a:ext cx="67464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468360" y="4076640"/>
          <a:ext cx="865080" cy="74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076640"/>
                    <a:ext cx="865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Uruchomienie programu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Start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Wszystkie programy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Microsoft                                         PowerPoint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56000" y="1484280"/>
          <a:ext cx="354492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484280"/>
                    <a:ext cx="35449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ozpoczynamy pracę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5238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64000" y="2492280"/>
            <a:ext cx="163512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40875"/>
              <a:gd name="adj5" fmla="val 103962"/>
              <a:gd name="adj6" fmla="val -77185"/>
            </a:avLst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Wpisz temat swojej prezentacji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4508640"/>
            <a:ext cx="163512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29416"/>
              <a:gd name="adj5" fmla="val -38675"/>
              <a:gd name="adj6" fmla="val -54273"/>
            </a:avLst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Tu możesz wpisać swoje imię i nazwisko</a:t>
            </a: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52)"/>
                                      </p:to>
                                    </p:set>
                                    <p:set>
                                      <p:cBhvr>
                                        <p:cTn id="96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52)"/>
                                      </p:to>
                                    </p:se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asz już slajd tytułowy?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pora wstawić nowy slajd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zastosuj odpowiedni układ slajdu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580000" y="1413000"/>
          <a:ext cx="2538360" cy="506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1413000"/>
                    <a:ext cx="25383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3276720" y="2205000"/>
            <a:ext cx="2520720" cy="1440000"/>
          </a:xfrm>
          <a:prstGeom prst="line">
            <a:avLst/>
          </a:prstGeom>
          <a:ln w="284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851280" y="1628280"/>
            <a:ext cx="2952720" cy="289080"/>
          </a:xfrm>
          <a:prstGeom prst="line">
            <a:avLst/>
          </a:prstGeom>
          <a:ln w="284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3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Wstaw kolejno slajdy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Tytuł i tekst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ahoma"/>
              </a:rPr>
              <a:t>Tytuł i zawartość</a:t>
            </a:r>
            <a:endParaRPr b="0" lang="en-US" sz="2800" spc="-1" strike="noStrike">
              <a:solidFill>
                <a:srgbClr val="3333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8920" y="1905120"/>
          <a:ext cx="25369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8920" y="1905120"/>
                    <a:ext cx="2536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46720" y="4038480"/>
          <a:ext cx="264168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46720" y="4038480"/>
                    <a:ext cx="26416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916360" y="1844640"/>
            <a:ext cx="2303280" cy="1800360"/>
          </a:xfrm>
          <a:prstGeom prst="cloudCallout">
            <a:avLst>
              <a:gd name="adj1" fmla="val -70814"/>
              <a:gd name="adj2" fmla="val -17458"/>
            </a:avLst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Hej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Wpisz je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Same się nie wpiszą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7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7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Zawartością slajdu może być :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905120"/>
          <a:ext cx="3754440" cy="1981080"/>
        </p:xfrm>
        <a:graphic>
          <a:graphicData uri="http://schemas.openxmlformats.org/drawingml/2006/table">
            <a:tbl>
              <a:tblPr/>
              <a:tblGrid>
                <a:gridCol w="514440"/>
                <a:gridCol w="1008000"/>
                <a:gridCol w="720720"/>
                <a:gridCol w="863640"/>
                <a:gridCol w="6476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Nr dz.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Nazwisko i imi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prawdzian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aca klasow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danie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Abacki Jan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Babacki Ada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2292120" cy="234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88000" y="2492280"/>
          <a:ext cx="4356000" cy="26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492280"/>
                    <a:ext cx="43560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3964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Tabela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198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Wykres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4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00"/>
                </a:solidFill>
                <a:latin typeface="Tahoma"/>
              </a:rPr>
              <a:t>ClipAr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Zawartością slajdu może być: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92240" y="1905120"/>
            <a:ext cx="297504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763640" y="4838040"/>
            <a:ext cx="4038480" cy="1181520"/>
            <a:chOff x="1763640" y="4838040"/>
            <a:chExt cx="4038480" cy="1181520"/>
          </a:xfrm>
        </p:grpSpPr>
        <p:cxnSp>
          <p:nvCxnSpPr>
            <p:cNvPr id="118" name="_s84000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4387680" y="4863600"/>
              <a:ext cx="229320" cy="143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00"/>
              </a:solidFill>
              <a:miter/>
            </a:ln>
          </p:spPr>
        </p:cxnSp>
        <p:cxnSp>
          <p:nvCxnSpPr>
            <p:cNvPr id="121" name="_s84001"/>
            <p:cNvCxnSpPr>
              <a:stCxn id="122" idx="0"/>
              <a:endCxn id="120" idx="2"/>
            </p:cNvCxnSpPr>
            <p:nvPr/>
          </p:nvCxnSpPr>
          <p:spPr>
            <a:xfrm flipV="1">
              <a:off x="3783240" y="5468400"/>
              <a:ext cx="1800" cy="229320"/>
            </a:xfrm>
            <a:prstGeom prst="bentConnector2">
              <a:avLst/>
            </a:prstGeom>
            <a:ln w="28440">
              <a:solidFill>
                <a:srgbClr val="333300"/>
              </a:solidFill>
              <a:miter/>
            </a:ln>
          </p:spPr>
        </p:cxnSp>
        <p:cxnSp>
          <p:nvCxnSpPr>
            <p:cNvPr id="123" name="_s84002"/>
            <p:cNvCxnSpPr>
              <a:stCxn id="124" idx="0"/>
              <a:endCxn id="120" idx="2"/>
            </p:cNvCxnSpPr>
            <p:nvPr/>
          </p:nvCxnSpPr>
          <p:spPr>
            <a:xfrm flipH="1" flipV="1" rot="5400000">
              <a:off x="2949120" y="4862880"/>
              <a:ext cx="229320" cy="144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00"/>
              </a:solidFill>
              <a:miter/>
            </a:ln>
          </p:spPr>
        </p:cxnSp>
        <p:sp>
          <p:nvSpPr>
            <p:cNvPr id="120" name="_s84003"/>
            <p:cNvSpPr/>
            <p:nvPr/>
          </p:nvSpPr>
          <p:spPr>
            <a:xfrm>
              <a:off x="2712960" y="4838040"/>
              <a:ext cx="2139840" cy="6310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Tahoma"/>
                </a:rPr>
                <a:t>Przewodniczący klasy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4" name="_s84004"/>
            <p:cNvSpPr/>
            <p:nvPr/>
          </p:nvSpPr>
          <p:spPr>
            <a:xfrm>
              <a:off x="1763640" y="5698080"/>
              <a:ext cx="1162080" cy="3214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Tahoma"/>
                </a:rPr>
                <a:t>Zastępca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2" name="_s84005"/>
            <p:cNvSpPr/>
            <p:nvPr/>
          </p:nvSpPr>
          <p:spPr>
            <a:xfrm>
              <a:off x="3201840" y="5698080"/>
              <a:ext cx="1162080" cy="3214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Tahoma"/>
                </a:rPr>
                <a:t>Sekretarz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9" name="_s84006"/>
            <p:cNvSpPr/>
            <p:nvPr/>
          </p:nvSpPr>
          <p:spPr>
            <a:xfrm>
              <a:off x="4640400" y="5698080"/>
              <a:ext cx="1161720" cy="3214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Tahoma"/>
                </a:rPr>
                <a:t>Skarbnik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96000" y="2133720"/>
            <a:ext cx="2879640" cy="2016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08720" y="155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Klip multimedialny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1484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Obraz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869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3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Diagram, schemat organizacyjny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ZADANI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ahoma"/>
              </a:rPr>
              <a:t>Wstaw po jednym slajdzie z omówionymi elementami</a:t>
            </a:r>
            <a:endParaRPr b="0" lang="en-US" sz="3200" spc="-1" strike="noStrike">
              <a:solidFill>
                <a:srgbClr val="3333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4941720"/>
            <a:ext cx="5327640" cy="191628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SUPER!!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Wybierz projekt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92720" y="404640"/>
          <a:ext cx="344016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04640"/>
                    <a:ext cx="344016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flipV="1">
            <a:off x="4140360" y="836280"/>
            <a:ext cx="1726920" cy="863640"/>
          </a:xfrm>
          <a:prstGeom prst="line">
            <a:avLst/>
          </a:prstGeom>
          <a:ln w="28440">
            <a:solidFill>
              <a:srgbClr val="33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573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Zastosuj szablon projektu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2349360"/>
            <a:ext cx="3384360" cy="432000"/>
          </a:xfrm>
          <a:prstGeom prst="ellipse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35280" y="2637000"/>
            <a:ext cx="1441440" cy="1008000"/>
          </a:xfrm>
          <a:prstGeom prst="line">
            <a:avLst/>
          </a:prstGeom>
          <a:ln w="28440">
            <a:solidFill>
              <a:srgbClr val="33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0:05:47Z</dcterms:created>
  <dc:creator>Administrator</dc:creator>
  <dc:description/>
  <dc:language>en-US</dc:language>
  <cp:lastModifiedBy>Administrator</cp:lastModifiedBy>
  <dcterms:modified xsi:type="dcterms:W3CDTF">2003-05-16T11:29:50Z</dcterms:modified>
  <cp:revision>19</cp:revision>
  <dc:subject/>
  <dc:title>MS POWER POINT</dc:title>
</cp:coreProperties>
</file>