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8494-8E20-43D4-A7C0-A96D480E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06F-F9EE-4F32-8A35-02F0EA75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3B7-AF3F-4E12-A4A1-07566608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37D-F2DA-4396-972D-0EC0A7A1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7580-67F3-4131-8824-607C3BF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EDB1-2D83-4514-A8F6-BBA15315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9ED-0039-431F-8FCC-BA73D47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6C07-2301-4043-AC01-07168719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1C4-9190-4765-A624-5225FC16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915A-089A-412A-A756-5CD856DA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F95-B8C2-48EF-AB78-38D6E4E2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E532-D156-4222-97BA-162E9B9A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067-D68F-4A10-A7CA-5A71DF850AD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330%20Grammar%20Present%20Simple%20or%20Present%20Continuous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fff"/>
            </a:gs>
            <a:gs pos="100000">
              <a:srgbClr val="58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7772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 PRESENT SIMPLE TEN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THE PRESENT CONTINUOUS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CZAS TERAŹNIEJSZY PROST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NTRA </a:t>
            </a: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CZAS TERAŹNIEJSZY CIĄGŁ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590920"/>
            <a:ext cx="640080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TIONS (KONSTRUKC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SPELLING RULES ( ZASADY PISOWNI KOŃCÓW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EXPRESSIONS (OKREŚLNIKI CZASOW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USE OF TIME EXPRESSIONS (PRAKTYCZNE ZASTOSOWANIE OKREŚLNIKÓW CZASOWY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(ZASTOSOWAN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SOURCES (ŹRÓDŁA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INTERNETOW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89BE-1880-48A9-8077-2B688B2F1B33}" type="slidenum">
              <a:t>1</a:t>
            </a:fld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dae4"/>
            </a:gs>
            <a:gs pos="50000">
              <a:srgbClr val="b6b1b9"/>
            </a:gs>
            <a:gs pos="100000">
              <a:srgbClr val="e1dae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7400" y="304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UCTIONS (KONSTRUKC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68580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FIRMATIVE (ZDANIE TWIERDZĄ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9528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PRESENT SIMPLE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2952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THE PRESENT CONTINUOUS 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676520"/>
            <a:ext cx="396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752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 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6765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m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286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s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057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19720" y="2590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r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1219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3048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400" y="3048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2767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ROGATIVE / QUESTION (PYTAN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657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2670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657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m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4114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 I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4648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r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133720" y="52578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5257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bae8b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2480" y="380880"/>
            <a:ext cx="5334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38088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ATIVE (ZDANIE PRZECZĄ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907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9907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4479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0574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es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371600"/>
            <a:ext cx="40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44792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no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8288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s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2286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re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914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67080" y="2209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057400" y="2743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743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04812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GATIVE INTERROGATIVE (ZDANIE PRZECZĄCO-PYTAJACE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8098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/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49568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Does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very 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3809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no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43434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sn’t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e/she/i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50292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ren’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u/we/the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get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up earl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38098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09520" y="4952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952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828440" y="5638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5638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2286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) THE SPELLING RULES (ZASADY PISOWNI KOŃCÓWEK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85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8580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71600"/>
            <a:ext cx="4724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o formy podstawowej czasownika dodajemy końcówkę </a:t>
            </a:r>
            <a:r>
              <a:rPr b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–s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gdy podmiotem zdania jest he/she/it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 work – he work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you learn –         she learn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s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we move – it move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r>
              <a:rPr b="1" i="1" lang="pl-PL" sz="1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2743200"/>
            <a:ext cx="472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  Do formy podstawowej czasownika  dodajemy końcówkę </a:t>
            </a:r>
            <a:r>
              <a:rPr b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–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, gdy przy powyższych podmiotach czasownik kończy się na: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s, sh, ch, x, s, o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 kiss – he ki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ss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they wash – she w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sh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            we watch – it wat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you box – he bo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          we go – she 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495680"/>
            <a:ext cx="44197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Gdy czasownik kończy się literą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która jest poprzedzona spółgłoską, to wtedy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zmieniamy na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dodając końcówkę </a:t>
            </a:r>
            <a:r>
              <a:rPr b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–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 car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he car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you cop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it cop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we c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she c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they try – he t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pl-PL" sz="1600" spc="-1" strike="noStrike" u="sng">
                <a:solidFill>
                  <a:srgbClr val="0000ff"/>
                </a:solidFill>
                <a:uFillTx/>
                <a:latin typeface="Times New Roman"/>
              </a:rPr>
              <a:t>e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44792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) Do podstawowej formy czasownika dodajemy końcówkę </a:t>
            </a:r>
            <a:r>
              <a:rPr b="1" lang="pl-PL" sz="1600" spc="-1" strike="noStrike" u="sng">
                <a:solidFill>
                  <a:srgbClr val="ff00ff"/>
                </a:solidFill>
                <a:uFillTx/>
                <a:latin typeface="Times New Roman"/>
              </a:rPr>
              <a:t>–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work - work</a:t>
            </a:r>
            <a:r>
              <a:rPr b="1" i="1" lang="pl-PL" sz="1600" spc="-1" strike="noStrike" u="sng">
                <a:solidFill>
                  <a:srgbClr val="ff00ff"/>
                </a:solidFill>
                <a:uFillTx/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          learn –learn</a:t>
            </a:r>
            <a:r>
              <a:rPr b="1" i="1" lang="pl-PL" sz="1600" spc="-1" strike="noStrike" u="sng">
                <a:solidFill>
                  <a:srgbClr val="ff00ff"/>
                </a:solidFill>
                <a:uFillTx/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do – do</a:t>
            </a:r>
            <a:r>
              <a:rPr b="1" i="1" lang="pl-PL" sz="1600" spc="-1" strike="noStrike" u="sng">
                <a:solidFill>
                  <a:srgbClr val="ff00ff"/>
                </a:solidFill>
                <a:uFillTx/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</a:t>
            </a:r>
            <a:r>
              <a:rPr b="1" i="1" lang="pl-PL" sz="1600" spc="-1" strike="noStrike" u="sng">
                <a:solidFill>
                  <a:srgbClr val="ff00ff"/>
                </a:solidFill>
                <a:uFillTx/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car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car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2743200"/>
            <a:ext cx="41148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Gdy czasownik kończy się na literę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to dodając końcówkę </a:t>
            </a:r>
            <a:r>
              <a:rPr b="1" lang="pl-PL" sz="1600" spc="-1" strike="noStrike">
                <a:solidFill>
                  <a:srgbClr val="ff00ff"/>
                </a:solidFill>
                <a:latin typeface="Times New Roman"/>
              </a:rPr>
              <a:t>– 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opuszczamy literę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argu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argu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hat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hat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            lov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- lov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yjątki od powyższej reguły to: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a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dy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dy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sin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sin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raz czasowniki zakończone na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ag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ag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s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- s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e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762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7621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5720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) THE SPELLING RULES (ZASADY PISOWNI KOŃCÓWE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914400"/>
            <a:ext cx="3962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8380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838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37160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4) Gdy czasownik kończy się na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które jest poprzedzone spółgłoską, to wtedy dodajemy do czasownika końcówkę </a:t>
            </a:r>
            <a:r>
              <a:rPr b="1" lang="pl-PL" sz="1600" spc="-1" strike="noStrike">
                <a:solidFill>
                  <a:srgbClr val="0000ff"/>
                </a:solidFill>
                <a:latin typeface="Times New Roman"/>
              </a:rPr>
              <a:t>– 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I obe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he obe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s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; you s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she s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pl-PL" sz="16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143000"/>
            <a:ext cx="4038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) Jeżeli czasownik jednosylabowy kończy się na spółgłoskę, która jest poprzedzona samogłoską, to dodając końcówkę </a:t>
            </a:r>
            <a:r>
              <a:rPr b="1" lang="pl-PL" sz="1600" spc="-1" strike="noStrike">
                <a:solidFill>
                  <a:srgbClr val="ff00ff"/>
                </a:solidFill>
                <a:latin typeface="Times New Roman"/>
              </a:rPr>
              <a:t>– 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spółgłoska ta ulega podwojeniu, np.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tt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r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unn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st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- st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opp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514600"/>
            <a:ext cx="41907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4) Jeżeli czasownik składa się z dwóch lub więcej sylab, z których ostatnia ma samogłoskę       i kończy się on na pojedynczą spółgłoskę,               to dodając końcówkę </a:t>
            </a:r>
            <a:r>
              <a:rPr b="1" lang="pl-PL" sz="1600" spc="-1" strike="noStrike">
                <a:solidFill>
                  <a:srgbClr val="ff00ff"/>
                </a:solidFill>
                <a:latin typeface="Times New Roman"/>
              </a:rPr>
              <a:t>– 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spółgłoska ta ulega podwojeniu, jeśli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akcen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poda na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ostatnią sylabę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czasownika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ad’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adm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tt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       be’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beg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nn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pre’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pref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err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yjatki: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bu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dget – budget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‘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ter – enter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ponieważ akcent nie pada na ostatnią sylabę.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5029200"/>
            <a:ext cx="4114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5) Gdy czasownik kończy się na literę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która jest poprzedzona samogłoską, przy dodaniu końcówki </a:t>
            </a:r>
            <a:r>
              <a:rPr b="1" lang="pl-PL" sz="1600" spc="-1" strike="noStrike">
                <a:solidFill>
                  <a:srgbClr val="ff00ff"/>
                </a:solidFill>
                <a:latin typeface="Times New Roman"/>
              </a:rPr>
              <a:t>– 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litera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l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ulega  podwojeniu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sign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– sign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;        trave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– trave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1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 ale w odmianie amerykańskiej piszemy: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signa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, trave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in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838080"/>
            <a:ext cx="0" cy="563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600200" y="228600"/>
            <a:ext cx="55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 EXPRESSIONS (OKREŚLNIKI CZASOW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53352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53352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762120"/>
            <a:ext cx="44956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zawsze                                     2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neve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nigdy                                          3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often/frequentl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często                          4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rarely/seldom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rzedko                       5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usually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– zwykle                                     6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sometime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czasami                             7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occasionall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od czasu do czasu          8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ever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– kiedykolwiek                               9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nowaday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w dzisiejszych czasach 10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from time to time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od czasu do czasu 11)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every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(morning, day, week, month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year,Tuesday, April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tc.) – każdego (ranka, dnia, tygodnia, miesiąca, roku, wtorku, kwietnia itd.)                                12)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on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( Mondays, Wednesday, Fridays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13)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once a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(day, week, month, year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jeden raz na (dzień, tydzień, miesiąc, rok) 14)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twice a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(day, week etc.)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dwa razy na dzień, tydzień itd.)                                15) 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three/four etc. </a:t>
            </a:r>
            <a:r>
              <a:rPr b="1" lang="pl-PL" sz="1800" spc="-1" strike="noStrike">
                <a:solidFill>
                  <a:srgbClr val="0000ff"/>
                </a:solidFill>
                <a:latin typeface="Times New Roman"/>
              </a:rPr>
              <a:t>times a</a:t>
            </a:r>
            <a:r>
              <a:rPr b="0" lang="pl-PL" sz="1800" spc="-1" strike="noStrike">
                <a:solidFill>
                  <a:srgbClr val="0000ff"/>
                </a:solidFill>
                <a:latin typeface="Times New Roman"/>
              </a:rPr>
              <a:t> day/week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tc. – trzy/cztery itd. razy na dzień/tydzień itd.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1143000"/>
            <a:ext cx="37339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now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teraz                                     2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t pres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obecnie                             3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t the (present) moment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w tej chwili, w chwili obecnej                          4)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 toda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dzisiaj                                   5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this (afternoon, week, month, year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etc.) – tego (popołudnia), w tym (tygodniu, miesiącu, roku itd.)                                      6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always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zawsze                                  7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repeatedl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częstokroć                     8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continuall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– ciągle                             9) </a:t>
            </a:r>
            <a:r>
              <a:rPr b="0" lang="pl-PL" sz="1800" spc="-1" strike="noStrike">
                <a:solidFill>
                  <a:srgbClr val="ff00ff"/>
                </a:solidFill>
                <a:latin typeface="Times New Roman"/>
              </a:rPr>
              <a:t>constantly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- st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0"/>
            <a:ext cx="662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THE USE OF TIME EXPRESSIONS                                                      ( PRAKTYCZNE ZASTOSOWANIE OKREŚLNIKÓW CZASOWYCH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7621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7621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066680"/>
            <a:ext cx="4191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) Określniki czasowe takie jak: </a:t>
            </a:r>
            <a:r>
              <a:rPr b="0" lang="pl-PL" sz="1600" spc="-1" strike="noStrike">
                <a:solidFill>
                  <a:srgbClr val="0000ff"/>
                </a:solidFill>
                <a:latin typeface="Times New Roman"/>
              </a:rPr>
              <a:t>always, usually, often, sometimes, occasionally, seldom/rarely, never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występują w zdaniu przed głównym czasownikiem (learn, read), ale po operatorze, czyli czasowniku ‘to be’, ‘to do’, ‘to have’ oraz po czasownikach modalnych (can, must), np.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) Susan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often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goes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skiing at the weekends.            2) Kim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sometime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rude to other people.     3)You </a:t>
            </a:r>
            <a:r>
              <a:rPr b="1" i="1" lang="pl-PL" sz="16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always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call me if you need help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581280"/>
            <a:ext cx="3886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Określniki takie jak: </a:t>
            </a:r>
            <a:r>
              <a:rPr b="0" lang="pl-PL" sz="1600" spc="-1" strike="noStrike">
                <a:solidFill>
                  <a:srgbClr val="0000ff"/>
                </a:solidFill>
                <a:latin typeface="Times New Roman"/>
              </a:rPr>
              <a:t>every day, once/twice a week/month, on Mondays,     from time to tim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występują zazwyczaj na początku lub na końcu zdania, np.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) We go on holiday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twice a year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.                   2)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Every day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I visit my grandm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334120"/>
            <a:ext cx="3657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257800"/>
            <a:ext cx="3504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) Określniki: </a:t>
            </a:r>
            <a:r>
              <a:rPr b="0" lang="pl-PL" sz="1600" spc="-1" strike="noStrike">
                <a:solidFill>
                  <a:srgbClr val="0000ff"/>
                </a:solidFill>
                <a:latin typeface="Times New Roman"/>
              </a:rPr>
              <a:t>never, seldom, rarel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mają negatywne znaczenie i są zawsze stosowane w zdaniach twierdzących, np.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) I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rarely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go to bed late.                           2) He </a:t>
            </a:r>
            <a:r>
              <a:rPr b="0" i="1" lang="pl-PL" sz="1600" spc="-1" strike="noStrike">
                <a:solidFill>
                  <a:srgbClr val="0000ff"/>
                </a:solidFill>
                <a:latin typeface="Times New Roman"/>
              </a:rPr>
              <a:t>never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smokes cigarettes.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295280"/>
            <a:ext cx="39621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) Określniki czasowe takie jak: </a:t>
            </a:r>
            <a:r>
              <a:rPr b="0" lang="pl-PL" sz="1600" spc="-1" strike="noStrike">
                <a:solidFill>
                  <a:srgbClr val="ff00ff"/>
                </a:solidFill>
                <a:latin typeface="Times New Roman"/>
              </a:rPr>
              <a:t>now,                at present, at the (present) moment, today, this morning, tomorrow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występują zazwyczaj na końcu lub na początku zdania, np.                    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) The American tourists are talking to your friend 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now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.                                          2) 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Tomorrow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I am leaving for Dubl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3657600"/>
            <a:ext cx="3886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Określniki czasowe takie jak: </a:t>
            </a:r>
            <a:r>
              <a:rPr b="0" lang="pl-PL" sz="1600" spc="-1" strike="noStrike">
                <a:solidFill>
                  <a:srgbClr val="ff00ff"/>
                </a:solidFill>
                <a:latin typeface="Times New Roman"/>
              </a:rPr>
              <a:t>always, repeatedly, continually, constantl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występują w zdaniu pomiędzy operatorem ‘to be’ a czasownikiem z końcówką </a:t>
            </a:r>
            <a:r>
              <a:rPr b="1" lang="pl-PL" sz="1600" spc="-1" strike="noStrike">
                <a:solidFill>
                  <a:srgbClr val="ff00ff"/>
                </a:solidFill>
                <a:latin typeface="Times New Roman"/>
              </a:rPr>
              <a:t>–ing,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np.                                                            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1) I can’t stand it any more.                            He is 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continually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 coming back home so drunk.                                                              2) Oh, no! I am </a:t>
            </a:r>
            <a:r>
              <a:rPr b="0" i="1" lang="pl-PL" sz="1600" spc="-1" strike="noStrike">
                <a:solidFill>
                  <a:srgbClr val="ff00ff"/>
                </a:solidFill>
                <a:latin typeface="Times New Roman"/>
              </a:rPr>
              <a:t>always </a:t>
            </a:r>
            <a:r>
              <a:rPr b="0" i="1" lang="pl-PL" sz="1600" spc="-1" strike="noStrike">
                <a:solidFill>
                  <a:srgbClr val="000000"/>
                </a:solidFill>
                <a:latin typeface="Times New Roman"/>
              </a:rPr>
              <a:t>making the same mista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114300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971800" y="3049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(ZASTOSOWAN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335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RESENT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60948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imes New Roman"/>
              </a:rPr>
              <a:t>PRESENT CONTINU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38080"/>
            <a:ext cx="4343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) Czas ten jest stosowany głównie dla określenia czynności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wyczajowych, powtarzających się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oraz takich czynności lub stanów, które są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tałe, charakterystyczne, typowe lub właściwe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dla podmiotu zdania, np.                                                     1) I never smoke cigarettes.                                            2) He usually goes to bed at 11 p.m.                        3) The sun sets in the west.                                         4) They play chess very well.                                       5) I love animals but hate people.                                6) Nowadays people smoke a lo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809880"/>
            <a:ext cx="4495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Czas ten można również zastosować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nagłówkach gazet, narracji, relacjach zdarzeń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oraz w przypadku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czynności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mających się odbyć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 przyszłości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z tym, że 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ą one objęte harmonogramem, programem, planem (np. imprez) lub wynikają z rozkładu jazdy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np.                                1) Key witness dies.                                                        2) John enters and shoots at her.                                   3) Małysz wins the world cup.                                           4) The match starts at 3 p.m.                                          5) I leave today at 2:30 a.m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990720"/>
            <a:ext cx="3886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1) Czas ten jest stosowany głównie dla określenia zdarzeń lub czynności, które mają 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miejsce (trwają) teraz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, lecz niekoniecznie w tej chwili, ale również w teraźniejszości obejmującej dłuższy okres czasu, np.                   1) She is listening to the radio now.                    2) It is raining heavily at present.                        3) You are working a lot this ye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00400"/>
            <a:ext cx="3886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2) Czas ten można również zastosować w przypadku czynności zamierzonych lub zaplanowanych (przez wykonawcę czynności), które mają się odbyć w przyszłości, np.                                                   1) I am going to London tomorrow.                2) He is giving a party tonigh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502920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3) Czas ten jest także stosowany do wyrażenia rozdrażnienia i zdenerwowania mówcy często (czasami zbyt często) powtarzającą się czynnością,   np. 1) He is always getting into trouble.                          2) You are constantly interrupting me when I am talking.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76212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057400" y="1600200"/>
            <a:ext cx="4876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Internet Sourc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 rot="19618800">
            <a:off x="252360" y="5497200"/>
            <a:ext cx="1863720" cy="744480"/>
          </a:xfrm>
          <a:custGeom>
            <a:avLst/>
            <a:gdLst>
              <a:gd name="textAreaLeft" fmla="*/ 326160 w 1863720"/>
              <a:gd name="textAreaRight" fmla="*/ 1351440 w 18637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54100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RACOWAŁA: JOANNA RYCZEK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9:10:42Z</dcterms:created>
  <dc:creator>-</dc:creator>
  <dc:description/>
  <dc:language>en-US</dc:language>
  <cp:lastModifiedBy>-</cp:lastModifiedBy>
  <dcterms:modified xsi:type="dcterms:W3CDTF">2003-04-23T21:07:32Z</dcterms:modified>
  <cp:revision>10</cp:revision>
  <dc:subject/>
  <dc:title>Prezentacja programu PowerPoint</dc:title>
</cp:coreProperties>
</file>