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F7BD-1541-42B6-BB82-48FE22BF2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9D0C-1054-4FC9-B936-C7FCB00B7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6BE-44C6-4352-9787-3D614283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CBB4-BA7C-440B-AE71-2D7B76BE1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A917-6155-48FB-8F73-12FE73C33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7E8B-8EBD-44F6-9A84-6DBF496E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1E363-71B3-4961-AD2D-266F2522A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502FB-9CE1-4AB6-8E70-5B8D29C3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C7174-B09A-4F5A-8282-D4CA9AD9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BB86B-3825-454A-97B7-EEE21CF15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3BB2-D415-4D58-A3C7-763F20E9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541-31D2-44E4-A8C1-E4A30997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0E39-C275-47A0-AB26-134D33B2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3BB0-8307-4F99-A4B8-9AC4D51C5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C544-2FB1-444E-8846-B6F0E85E6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95C19-F78D-4045-AF49-96B88DD1A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89C60-180E-44FE-8DE1-2467EF4C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974-BFE4-4D95-8FB4-91C76924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AC4B-1458-4642-86C9-1B22DD22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F93-8022-4046-A3FE-BC80BA14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87DC-4310-4E81-8A85-104DE21D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5FD-D4F9-466D-8D52-CAF90C3B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6752-9F68-4F9A-B614-DB897F1C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385-6D12-4B18-9F28-C484603F2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9EA9-7B87-4F31-BE9F-372586C0157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D7F5-1F20-4E14-A260-E5FB2765D67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Bolesław Prus – bystry obserwator stosunków społecznych XIX-wiecznej Polski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Bolesław Prus"/>
          <p:cNvPicPr/>
          <p:nvPr/>
        </p:nvPicPr>
        <p:blipFill>
          <a:blip r:embed="rId2"/>
          <a:stretch/>
        </p:blipFill>
        <p:spPr>
          <a:xfrm>
            <a:off x="2771640" y="2276640"/>
            <a:ext cx="2808360" cy="32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Kreacje literackie pisarza odbiciem jego obserwacji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Wskaż znane ci  postacie literackie tego pisarza  o cechach charakterystycznych dla epoki, a może znajdziesz je u  współczesnych Polakó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Oceń przydatność ich cech w dzisiejszym życiu / a może w swoim życiu /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b7e7ff"/>
                </a:solidFill>
                <a:latin typeface="Arial"/>
              </a:rPr>
              <a:t>Wokulski   bohater „Lalki”  - romantyk czy pozytywista 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Wskaż cechy typowe dla  romantyków i pozytywistów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Skorzystaj z utworów romantycznych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676160"/>
            <a:ext cx="4194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Skorzystaj z utworów pozytywistyczny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7e7ff"/>
                </a:solidFill>
                <a:latin typeface="Arial"/>
              </a:rPr>
              <a:t>Droga życiowa Stanisława Wokulskieg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Podziel ją na etapy i posługując się przykładami z jego życia wybierz  i określ te cechy  / czy są one romantyczne czy pozytywistyczne?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b7e7ff"/>
                </a:solidFill>
                <a:latin typeface="Arial"/>
              </a:rPr>
              <a:t>Przyjrzyj się współczesnym biznesmenom i poszukaj w nich cech Wokulskiego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1. Które dominują u nich / a może podobnych do Stanisława w ogóle nie mają?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2.Czy wszystkie te cechy oceniamy jako moralne? A u współczesnych Polaków „ludzi interesu” – jak z tym jest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Jakie cechy posiada współczesny  człowiek – czy obserwacje  autora „Lalki” dotyczą  także nas ?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1.Podaj przykłady takich zachowań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2.Czy Bolesława Prusa można nazwać bystrym obserwatorem społeczeństwa polskieg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Halina Gaj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0T11:37:27Z</dcterms:created>
  <dc:creator>Pracownia_101</dc:creator>
  <dc:description/>
  <dc:language>en-US</dc:language>
  <cp:lastModifiedBy>Pracownia_101</cp:lastModifiedBy>
  <dcterms:modified xsi:type="dcterms:W3CDTF">2002-10-11T09:43:20Z</dcterms:modified>
  <cp:revision>10</cp:revision>
  <dc:subject/>
  <dc:title>Slajd 1</dc:title>
</cp:coreProperties>
</file>