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EAA-8B35-429E-956F-3943166E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0B1-4610-4519-AC37-9C4BD78D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B52-A37B-45B3-BA6B-939866FB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F6C-71F0-4157-ADF8-CCF86E0C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BAC6B-E628-4A59-929B-78AF650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F89A-17A3-4038-9AD5-82769715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1666-FE42-4178-9B38-8D445F9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EEB7-AE34-4709-BD95-88C3F26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66481-5C51-4E46-833B-77BF2712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DDC0-3392-4EB6-B88C-06AE629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EA59-B1E3-40CA-AD32-9EE1D29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C62-72A8-404F-B9C1-06322AAD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33E2-8EB8-4596-9768-3310817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4199-0FFC-4F25-B1F1-1B891453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BF307-DC63-4B67-BAA7-6A79FCD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52212-EDB0-4A4A-B0B4-9ECBD488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A2DC9-05CE-47CB-8377-9B832911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5D8-A2F3-431A-8646-0C41F6A5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888-3DDB-47DA-9405-C6A601F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AC-7E4E-4D30-91AE-C1D0072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DD6-5D68-4D9E-A2DE-5315AA0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350-72C6-42C7-A436-684EE76B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5FC-E66A-45F2-BED2-30217AB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23A-9E57-405E-9171-35A58E3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BA2-E1C9-4C47-BC44-DAEE52A9A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AD6-497F-46A9-9512-E3BE6DDEE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KSEM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UKA O ZALEŻNOŚCIACH PRZESTRZEN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DZIE PROWADZĄCY SAMOCHODY,TRAKTUJĄ JE JAKO POWIĘKSZENIE PRZESTRZENI OSOBISTE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898640"/>
            <a:ext cx="5473800" cy="38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TEŚMY AKCEPTOWANI, GDY MAMY POSZANOWANIE DLA PRZESTRZENI OSOBISTEJ INNYCH LUD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29000" y="2205000"/>
            <a:ext cx="290196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RACOWAŁA: MARIA HOS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DWARD T.HA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ROPOL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ÓRCA PROKSEMI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EFY ZALEŻNOŚCI PRZESTRZENNY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YMNA   0-45 c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ISTA  45-120 c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ŁECZNA   1,2-3,6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ZNA   3,6-6,00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FERA INTYM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T TO SFERA DLA PARTNERÓW, BLISKICH PRZYJACIÓŁ, DZIECI PRZYTULAJĄCYCH SIĘ DO RODZICÓ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535480" cy="3219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FERA OSOB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T TO SFERA KOMFORTU PODCZAS ROZMÓ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1351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FERA SPOŁECZ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T TO SFERA ,W KTÓREJ ZAŁATWIAMY SPRAWY SŁUŻB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0240" y="1700280"/>
            <a:ext cx="41846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FERA PUBLICZ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T TO SFERA ZAREZERWOWANA DLA POLITYKÓW I WAŻNYCH OSOBISTOŚ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2205000"/>
            <a:ext cx="28432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AKRES SFER RÓŻNI SIĘ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 poszczególnych kultur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 zależności od wychow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104000" cy="3082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ELKOŚĆ PRZESTRZENI OSOBISTEJ ZALEŻY OD ZAGĘSZCZENIA POPULACJI W MIEJSCU GDZIE SIĘ WYCHOWALIŚ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2371680" cy="3457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3357720"/>
            <a:ext cx="30243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04:46Z</dcterms:created>
  <dc:creator>Pracownia_101</dc:creator>
  <dc:description/>
  <dc:language>en-US</dc:language>
  <cp:lastModifiedBy>Pracownia_101</cp:lastModifiedBy>
  <dcterms:modified xsi:type="dcterms:W3CDTF">2002-10-11T09:42:41Z</dcterms:modified>
  <cp:revision>6</cp:revision>
  <dc:subject/>
  <dc:title>PROKSEMIKA</dc:title>
</cp:coreProperties>
</file>