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FE3-BCCD-4690-BA36-F2246E6F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936-5CD6-4E83-A42E-F884A49A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B41-CF8C-4F52-B279-E5620230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D86-3B9A-4583-9576-7FA9F658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848F-8620-4C85-BA99-3B830C4E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1B28-E191-40B5-AF1F-890C24AB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C46B-0762-4681-AF77-0B55A81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F41A-CD0D-4683-8A4D-5C6644E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E200-F816-44FE-9D6D-C8780A8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97D7-80B2-4264-870C-3DBC5221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1AAC-91B3-421F-B34D-99635555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FC0-4F70-4703-B9D0-EABC6C73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9F3-7B94-49F9-9B4A-C310736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6FE8-C0DD-48E8-9D1C-FD6F67A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44E-233E-440D-AF91-17FE4235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78AE-20A6-498C-BCC9-828B77B0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FEFF-235E-4F35-B813-E7585A16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0C0-62C5-4C30-9F5C-780CFBD1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D5A-D9D7-42AC-8F0D-AC2ED4D5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6DA-0E43-472E-B189-1D90B8A0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541-1E53-4432-84F1-755B406E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A60-DE83-4609-8749-586702A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746-2F4B-48AB-A4DD-885136D5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4AB-C235-4707-8621-47839E6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6E93-E509-435B-93C2-FB8BE3C20B9D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16E8-A86F-4B16-AEA8-39206769D720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6481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3300"/>
                </a:solidFill>
                <a:latin typeface="Arial"/>
              </a:rPr>
              <a:t>ENERGIA</a:t>
            </a:r>
            <a:endParaRPr b="1" lang="en-US" sz="8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03280" y="5595840"/>
            <a:ext cx="36831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man Wątro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Dlaczego energia kinetyczna rośnie bardziej ze wzrostem prędkości niż masy?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ynika to z faktu, że praca związana z rozpędzaniem ciała o kolejny metr na sekundę jest większa dla ciał poruszających się szybko, niż dla tych wolnych. Tak musi być, bo praca, to siła razy droga, a przy szybkim ruchu i tej samej sile, droga ta będzie większa. Fakt ten łatwo jest „poczuć” kierując samochodem – gdy chcemy wyprzedzać przy dużej prędkości wtedy moc silnika nie wystarcza już na tak sprawne przyspieszanie, jak przy małych prędkościac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zy powyższy wzór na energię kinetyczną jest ścisły?</a:t>
            </a:r>
            <a:br>
              <a:rPr sz="35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8040" y="2238120"/>
            <a:ext cx="7943760" cy="36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wne odchylenia od powyższego wzoru mogą pojawić się dla ciał poruszających się z ogromnymi prędkościami (bliskimi prędkości światła). Efekt ten (nazywany efektem relatywistycznym) związany jest z teorią względności Einsteina. Na szczęście można przyjąć, że dla typowych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a nawet w zwykłym pojęciu dużych) prędkości wzór jest bardzo dokładny – np. dla rakiety poruszającej się z pierwszą prędkością kosmiczną poprawka relatywistyczna jest tak mała, że nie mieści się na moim kalkulatorze - jest poniżej jednej miliardow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Wyprowadzenie wzoru na energię kinetyczną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321300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413000"/>
            <a:ext cx="82087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zór                                    można wyprowadzić ze wzoru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acę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·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 tym celu zamiast siły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rzeba podstawić siłę związaną z popychaniem ciała podczas rozpędzania go, a zamiast drogi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drogę rozpędz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róbmy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·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śli zamiast przyspieszeni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zastosujemy jego definicj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siła przedstawi nam się w posta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87280" y="765000"/>
                <a:ext cx="1805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42920" y="3284640"/>
                <a:ext cx="1656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1128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4437000"/>
                <a:ext cx="1368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987640" y="5589720"/>
                <a:ext cx="2376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wheel spokes="1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Wyprowadzenie wzoru na energię kinetyczn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Teraz oba wzory (na drogę i na siłę umieścimy w definicji pracy)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kracamy czas i wobec iloczynu liczników stosujemy wzór skróconego mnożenia: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    (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a + b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) · (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a - b 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Jest do wzór na zmianę energii kinetycznej. Żeby dostać poszukiwaną przez nas postać zależności na samą energię kinetyczną musimy założyć, że początkowo ciało nie porusza się, czyli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p = 0; zmienimy też oznaczenia: 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k oznaczymy po prostu jako </a:t>
            </a:r>
            <a:r>
              <a:rPr b="0" i="1" lang="pl-P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. Wtedy otrzymamy wreszci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16000" y="2060640"/>
                <a:ext cx="1790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3357720"/>
                <a:ext cx="1871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79640" y="4797360"/>
                <a:ext cx="23032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wheel spokes="1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50076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Związek pracy z energi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700280"/>
            <a:ext cx="3241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, że pracę, a później energię, będziemy wyliczać mnożąc siłę razy przesunięcie, nie jest przypadkiem. Postaram się uzasadnić, że tego typu wielkość najlepiej łączy się z tym, co intuicyjnie rozumiemy przez energię - czyli wielkość odpowiadającą za wykonywanie zmian w otoczeni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276640"/>
            <a:ext cx="338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ergii też potrzeba, aby tę wodę na górę dostarczyć, a w wybranym przez nas czasie można tę energię odebrać (w oparciu o powyższą zasadę działają elektrownie szczytowo – pompow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astanówmy się teraz, jakie parametry wody wpływają na ilość zgromadzonej przez wodę energii. Myślę, że dość szybko dojdziemy do wniosku, że kluczowe są tu dwie podstawowe wielkoś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79640" y="191160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latego energia zgromadzona w masach wody jest iloczyn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ły ciężkości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ciężar ciała jest równy sile ciężkośc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ysokości spadku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ożąc te wielkości przez siebie otrzymujemy właśnie definicję pracy – siła razy przesunię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365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Arial"/>
              </a:rPr>
              <a:t>W</a:t>
            </a: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i="1" lang="en-US" sz="7200" spc="-1" strike="noStrike">
                <a:solidFill>
                  <a:srgbClr val="ff3300"/>
                </a:solidFill>
                <a:latin typeface="Arial"/>
              </a:rPr>
              <a:t>F · 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549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Związek pracy z energi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6920" y="1844640"/>
            <a:ext cx="43927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statecznie, po zaniedbaniu nieistotnych w tej chwili czynników, można przyjąć, że  praca włożona w wyniesienie wody jest równa pracy jaką można odzyskać dzięki uderzeniom wody o łopatki młyna. Dlatego mówimy, że woda zgromadzona na pewnej wysokości posiada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energię potencjalną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ęż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6000" y="3789360"/>
            <a:ext cx="273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jprostszą postać energii potencjalnej otrzymujemy dla energii potencjalnej ciężkości ciał znajdujących się przy powierzchni ziemi. Wtedy wyraża się ona wzor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549360"/>
            <a:ext cx="59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nergia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otencj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68360" y="1844640"/>
          <a:ext cx="8496360" cy="3960720"/>
        </p:xfrm>
        <a:graphic>
          <a:graphicData uri="http://schemas.openxmlformats.org/drawingml/2006/table">
            <a:tbl>
              <a:tblPr/>
              <a:tblGrid>
                <a:gridCol w="4721400"/>
                <a:gridCol w="3774960"/>
              </a:tblGrid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en-US" sz="35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pot_</a:t>
                      </a:r>
                      <a:r>
                        <a:rPr b="1" lang="en-US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i="1" lang="en-US" sz="3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· g · h 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taj: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-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a ciała,</a:t>
                      </a:r>
                      <a:br>
                        <a:rPr sz="17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przyspieszenie ziemskie,</a:t>
                      </a:r>
                      <a:r>
                        <a:rPr b="1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100"/>
                      </a:b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wysokość ponad poziom odniesienia na którym energia jest równa zer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285264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47640" y="476280"/>
            <a:ext cx="56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nergi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otencj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71640" y="1638000"/>
            <a:ext cx="54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łowo „potencjalna” oznacza tu, że jest on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związana z położeniem i oddziaływanie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zyli jest jakby energią statyczną – nie związaną z ruchem. Rodzajów energii potencjalnych jest kilka, a różnią się one typem oddziaływania, z którym są związane - oprócz energii potencjalnej ciężkości mamy jeszcze energię potencjalną sprężystości (związaną z oddziaływaniami sprężystymi) oraz energię potencjalną elektrostatyczną (m.in. działającą na cząstki naładowane poruszające się w polu elektrycznym). Ogólnie, cechą charakterystyczną energii potencjalnej jest to, że jest ona przypisana do położenia ciała – np. bliżej źródła oddziaływania może być więks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5280" y="62064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Energia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Potencj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ia kinetyczna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6200" y="2026800"/>
            <a:ext cx="338796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Inną, niezwykle ważną postacią energii jest </a:t>
            </a:r>
            <a:r>
              <a:rPr b="1" lang="pl-PL" sz="1900" spc="-1" strike="noStrike">
                <a:solidFill>
                  <a:srgbClr val="669999"/>
                </a:solidFill>
                <a:latin typeface="Arial"/>
              </a:rPr>
              <a:t>energia kinetyczna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. Jej nazwa pochodzi od greckiego terminu „kineo” (ruch) i słusznie sugeruje, że jest ona związana z ruchem ciała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1773360"/>
            <a:ext cx="4680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tość energii kinetycznej jest równa pracy, jaką trzeba włożyć, aby rozpędzić ciało. Po wykonaniu tej pracy rozpędzone ciało będzie posiadało energię ruchu - „zgromadzoną” pracę rozpędzania. Energię tę można z kolei wykorzystać na wykonanie zmian w otoczeniu – np. rozpędzona kula kamienna wystrzelona ze średniowiecznego działa może zburzyć mur, kula tocząca się po torze rozrzuca kręgle, rozpędzona woda porusza łopatki turbiny itp. W większości typowych przypadków odzyskanie, omawianej w poprzednim rozdziale, energii potencjalnej odbywa się za pośrednictwem energii kinetycz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42920" y="317160"/>
            <a:ext cx="698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ię kinetyczną obliczam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 wzo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63640" y="1197000"/>
                <a:ext cx="5473800" cy="30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971640" y="479736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naczenie symboli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prędkość ciał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masa cia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66"/>
                </a:solidFill>
                <a:latin typeface="Arial"/>
              </a:rPr>
              <a:t>Od czego zależy energia kinetyczna?</a:t>
            </a:r>
            <a:br>
              <a:rPr sz="3400"/>
            </a:b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czywiście od </a:t>
            </a: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prędkości i mas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iała. Jednak nie jest ona prostym iloczynem tych wielkości – prędkość „znaczy” tu więcej, bo jest podniesiona do kwadratu. 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0:08:31Z</dcterms:created>
  <dc:creator>Pracownia_101</dc:creator>
  <dc:description/>
  <dc:language>en-US</dc:language>
  <cp:lastModifiedBy>Roland</cp:lastModifiedBy>
  <dcterms:modified xsi:type="dcterms:W3CDTF">2002-10-15T06:12:31Z</dcterms:modified>
  <cp:revision>10</cp:revision>
  <dc:subject/>
  <dc:title>Slajd 1</dc:title>
</cp:coreProperties>
</file>