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media/applaus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64D-208A-44D8-835F-42B6724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C96-65E4-4F5F-8845-71CAC14E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FD7-826A-4826-9C1D-80664F66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8DB-A3FF-4421-B1EA-DCC563CF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AB6B-E16F-4ADE-8114-6CC74E32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043-C98E-4FC6-B4D3-94BE461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F759-5278-4AD3-827D-89863F5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98EB-E309-4D9C-985C-7B54A3D4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7F9B-B9C0-4E56-ADC5-ABD433B7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E59A-8AF7-4601-8838-14256D8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ED9F-A245-48C9-AB03-CB69167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27F-70B5-4C7E-B984-EFA4D9A8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D2F7-B861-488D-9EF2-4396365F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0E0-C08C-40B2-A106-895CDA95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8691-C065-420A-B73F-3B30D7EC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6276-34F2-420A-970E-5AB8F7FF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65A-C18F-48C4-85A7-F6600D3B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CFF-6A2A-4AE1-87AD-5A5E402C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96F-A86C-4F01-ACF9-1CA8F380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8C3-C8FB-4452-A39E-12C1479E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9DC-1974-4C6D-A4D7-B8B18325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F8E-1A9E-47D7-B0EC-E907EDEA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B42-DFF6-4798-A10F-5A923A3B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269-1126-43B3-A004-3F9FC3D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710E-19A0-498F-9617-BD05321002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5C8-E5D0-46D0-9FA4-D9AE47DE2A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ZIAŁANIA  NA  ZBIORA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5280" y="6165720"/>
            <a:ext cx="7448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WONA  STANKIEWICZ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3454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     </a:t>
            </a:r>
            <a:r>
              <a:rPr b="0" lang="pl-PL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Zbiór utworzony ze wszystkich elementów, któ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    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re należą do zbioru A i nie należą do zbioru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    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nazywamy </a:t>
            </a:r>
            <a:r>
              <a:rPr b="1" lang="pl-PL" sz="2000" spc="-1" strike="noStrike">
                <a:solidFill>
                  <a:srgbClr val="703dff"/>
                </a:solidFill>
                <a:latin typeface="Comic Sans MS"/>
              </a:rPr>
              <a:t>różnicą zbiorów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A i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1) Wyznacz B\A, jeśl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2) Narysuj koło </a:t>
            </a:r>
            <a:r>
              <a:rPr b="1" lang="pl-PL" sz="2000" spc="-1" strike="noStrike">
                <a:solidFill>
                  <a:srgbClr val="703dff"/>
                </a:solidFill>
                <a:latin typeface="Comic Sans MS"/>
              </a:rPr>
              <a:t>k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i trójkąt </a:t>
            </a:r>
            <a:r>
              <a:rPr b="1" lang="pl-PL" sz="2000" spc="-1" strike="noStrike">
                <a:solidFill>
                  <a:srgbClr val="703dff"/>
                </a:solidFill>
                <a:latin typeface="Comic Sans MS"/>
              </a:rPr>
              <a:t>t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wpisany w to koło. Zamalu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200"/>
                </a:solidFill>
                <a:latin typeface="Comic Sans MS"/>
              </a:rPr>
              <a:t>      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k\t, to znaczy różnicę koła k i trójkąta 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2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635280" y="2997360"/>
                <a:ext cx="203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19051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03dff"/>
                </a:solidFill>
                <a:latin typeface="Comic Sans MS"/>
              </a:rPr>
              <a:t>Zapisać symbolicznie figury(zbiory punktów) zazn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03dff"/>
                </a:solidFill>
                <a:latin typeface="Comic Sans MS"/>
              </a:rPr>
              <a:t>czone na rysunku poniżej kolorem; figura g jest jest kwadratem, k – koł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3429000"/>
          <a:ext cx="25909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29000"/>
                    <a:ext cx="2590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819520" y="3429000"/>
          <a:ext cx="259056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29000"/>
                    <a:ext cx="25905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105520" y="3200400"/>
          <a:ext cx="312408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200400"/>
                    <a:ext cx="31240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SUMA  ZBIOR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84360" y="5521320"/>
                <a:ext cx="5183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28600" y="1828800"/>
          <a:ext cx="4327560" cy="35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32756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495680" y="1981080"/>
          <a:ext cx="40388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40388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7775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pl-PL" sz="24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Zbiór utworzony ze wszystkich elementów, któ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    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re należą do zbioru A lub do zbioru B, nazywa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my </a:t>
            </a:r>
            <a:r>
              <a:rPr b="1" i="1" lang="pl-PL" sz="2000" spc="-1" strike="noStrike" u="sng">
                <a:solidFill>
                  <a:srgbClr val="703dff"/>
                </a:solidFill>
                <a:uFillTx/>
                <a:latin typeface="Comic Sans MS"/>
              </a:rPr>
              <a:t>sumą zbiorów</a:t>
            </a: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A i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2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24000" y="4221000"/>
                <a:ext cx="3144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dy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39640" y="3789360"/>
            <a:ext cx="626580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200"/>
                </a:solidFill>
                <a:latin typeface="Comic Sans MS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1) Wyzna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2) Zbiór A ma 5 elementów  elementów, zbiór B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3 elementy. Czy jest możliwe, aby A </a:t>
            </a:r>
            <a:r>
              <a:rPr b="1" lang="pl-PL" sz="1800" spc="-1" strike="noStrike">
                <a:solidFill>
                  <a:srgbClr val="703dff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 B miał 4 el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men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932040"/>
            <a:ext cx="7344000" cy="3504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81120" y="1828800"/>
            <a:ext cx="2629080" cy="1752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81080" y="5105520"/>
                <a:ext cx="5005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V="1">
            <a:off x="6705720" y="5346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5257800"/>
            <a:ext cx="838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933960" y="510552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LOCZYN  ZBIOR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90640" y="5516640"/>
                <a:ext cx="5486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1600200" y="1643040"/>
          <a:ext cx="5791320" cy="35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43040"/>
                    <a:ext cx="579132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440" y="333360"/>
            <a:ext cx="705492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EFINIC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Zbiór utworzony ze wszystkich elementów, któ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należą do zbioru A i należą do zbioru B, nazywamy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       </a:t>
            </a:r>
            <a:r>
              <a:rPr b="1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iloczynem (wspólną częścią) zbiorów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A i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) Wyznacz zbiór A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B, jeśl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2) Narysuj prostokąt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oraz koło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k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zawarte w tym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ostokącie. Zamaluj przekrój prostokąta i koł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788000" y="2924280"/>
                <a:ext cx="2236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2667240" y="-6858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WAG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784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Jeżeli iloczyn zbiorów jest zbiorem pustym, mówimy, że zbiory te są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rozłącz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Zadan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zy  zbiór liter słowa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logika i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zbiór liter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łowa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matematyka 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ą zbiorami rozłączny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Czy zbiór liczb dodatnich i zbiór liczb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ujemnych są zbiorami rozłącznym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RÓŻNICA  ZBIOR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3280" y="4005360"/>
                <a:ext cx="3772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0" name=""/>
          <p:cNvGraphicFramePr/>
          <p:nvPr/>
        </p:nvGraphicFramePr>
        <p:xfrm>
          <a:off x="228600" y="1828800"/>
          <a:ext cx="44197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284720" y="4653000"/>
                <a:ext cx="3771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228600" y="609480"/>
          <a:ext cx="48988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8988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0:08:39Z</dcterms:created>
  <dc:creator>Pracownia_106</dc:creator>
  <dc:description/>
  <dc:language>en-US</dc:language>
  <cp:lastModifiedBy>Pracownia_106</cp:lastModifiedBy>
  <dcterms:modified xsi:type="dcterms:W3CDTF">2002-09-27T09:55:10Z</dcterms:modified>
  <cp:revision>19</cp:revision>
  <dc:subject/>
  <dc:title>DZIAŁANIA  NA  ZBIORACH</dc:title>
</cp:coreProperties>
</file>