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D4A-4FC8-468C-9401-10375F16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170-0B0B-494B-926F-7B6A760A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38A-B03E-4E86-B4B7-F484BA5D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FED-B1F9-4FE8-8BAE-99A577F9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D868-7BC7-44B2-8128-598A25FC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FCBE-5FC6-49BE-8F6D-2A422AF5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7B37-EAD2-49A7-AF1B-0DEF3EE5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5212-08E4-493C-BEB6-7ED5821C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3A41-513D-4978-8AF3-F163282B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20E8-B75D-403B-A7A5-31256C52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F189-C190-44BB-BD98-30E3C06C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E3B-99BE-477A-A97C-F5304F5A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7E88-DF02-4363-8D66-B58FF2A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31FD-CF1F-48EB-83F9-8D1A0992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E634-BA33-4F31-9005-ADE827A5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B7ED-DA45-414D-BD7D-98DEF9D2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00FA-07EC-4E55-B3F9-6A9BEBA2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64B-A7FD-49BE-BBD9-D5B76D29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141-90BA-41DB-9C50-FC126818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002-8040-4DFD-B1BF-39B24462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669-ED7C-4E46-A3CD-71228568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A8F-E415-42D6-AAEB-5145C182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677-6DBA-4AD3-A695-EE2958CD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E41-E980-4D7F-BC50-3AC96E6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5B1E-1C69-4EE7-8296-0C8431CF64E8}" type="slidenum">
              <a:rPr b="0" lang="pl-PL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05BD-3D36-4EEA-876D-E1B25CDBE1AC}" type="slidenum">
              <a:rPr b="0" lang="pl-PL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72"/>
            </a:gs>
            <a:gs pos="100000">
              <a:srgbClr val="f8f8f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6699ff"/>
                </a:solidFill>
                <a:latin typeface="Tahoma"/>
              </a:rPr>
              <a:t>Baborów</a:t>
            </a:r>
            <a:br>
              <a:rPr sz="4000"/>
            </a:br>
            <a:r>
              <a:rPr b="0" lang="pl-PL" sz="4000" spc="-1" strike="noStrike">
                <a:solidFill>
                  <a:srgbClr val="6699ff"/>
                </a:solidFill>
                <a:latin typeface="Tahoma"/>
              </a:rPr>
              <a:t>miasto,  w którym pracuję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58128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99ff"/>
                </a:solidFill>
                <a:latin typeface="Tahoma"/>
              </a:rPr>
              <a:t>Alicja Szuba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933ff"/>
                </a:solidFill>
                <a:latin typeface="Tahoma"/>
              </a:rPr>
              <a:t>Informacje ogól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33ff"/>
                </a:solidFill>
                <a:latin typeface="Tahoma"/>
              </a:rPr>
              <a:t>Położeni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98108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    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4" name="mapa" descr="Mapa"/>
          <p:cNvPicPr/>
          <p:nvPr/>
        </p:nvPicPr>
        <p:blipFill>
          <a:blip r:embed="rId1"/>
          <a:stretch/>
        </p:blipFill>
        <p:spPr>
          <a:xfrm>
            <a:off x="3124080" y="1828800"/>
            <a:ext cx="465156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46400" y="1143000"/>
            <a:ext cx="6697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46400" y="1143000"/>
            <a:ext cx="6697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143000"/>
            <a:ext cx="6931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a Baborów zajmuje południową część województwa opolskiego i graniczy z gminami: Kietrz, Głubczyce, Polska Cerekiew i Pawłowiczki oraz z gminą Pietrowice Wielkie należącą do województwa śląskiego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     Teren gminy wynosi 118 km2 i jest zamieszkiwany przez 7430 osób, z tego w mieście 3286, a na wioskach 4144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     Od Opola, stolicy województwa, dzieli Baborów 75 km, zaś od najbliższego polsko-czeskiego przejścia granicznego 25 km.</a:t>
            </a:r>
            <a:br>
              <a:rPr sz="2000"/>
            </a:br>
            <a:br>
              <a:rPr sz="800"/>
            </a:b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Gmina Baborów jest regionem rolniczym.</a:t>
            </a:r>
            <a:br>
              <a:rPr sz="32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rajobra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Baborów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486400" cy="3338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190512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43200" y="182844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pl-PL" sz="2800" spc="-1" strike="noStrike">
                <a:solidFill>
                  <a:srgbClr val="000000"/>
                </a:solidFill>
                <a:latin typeface="Tahoma"/>
              </a:rPr>
              <a:t>Instytucje funkcjonujące w Baborowie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37160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Urząd Miasta i Gminy  Baborów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MG Ośrodek Pomocy Społecznej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Miejski Ośrodek Zdrow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Straż Pożarn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Posterunek Policj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Przedszkol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Publiczna Szkoła Podstawow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6699ff"/>
                </a:solidFill>
                <a:uFillTx/>
                <a:latin typeface="Times New Roman"/>
              </a:rPr>
              <a:t> </a:t>
            </a:r>
            <a:r>
              <a:rPr b="1" lang="pl-PL" sz="2400" spc="-1" strike="noStrike" u="sng">
                <a:solidFill>
                  <a:srgbClr val="6699ff"/>
                </a:solidFill>
                <a:uFillTx/>
                <a:latin typeface="Times New Roman"/>
              </a:rPr>
              <a:t>Publiczne Gimnazjum im.Papieża Jana Pawła I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6699ff"/>
                </a:solidFill>
                <a:latin typeface="Times New Roman"/>
              </a:rPr>
              <a:t>in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315200" y="5029200"/>
            <a:ext cx="137160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99"/>
                </a:solidFill>
                <a:latin typeface="Arial"/>
              </a:rPr>
              <a:t>1296 - pierwsze wzmianki </a:t>
            </a:r>
            <a:br>
              <a:rPr sz="2400"/>
            </a:br>
            <a:r>
              <a:rPr b="0" lang="pl-PL" sz="2400" spc="-1" strike="noStrike">
                <a:solidFill>
                  <a:srgbClr val="009999"/>
                </a:solidFill>
                <a:latin typeface="Arial"/>
              </a:rPr>
              <a:t>1340 - wymieniono Baborów jako miasto; później, aż do roku 1810, we władaniu klasztoru dominikanek </a:t>
            </a:r>
            <a:br>
              <a:rPr sz="2400"/>
            </a:br>
            <a:r>
              <a:rPr b="0" lang="pl-PL" sz="2400" spc="-1" strike="noStrike">
                <a:solidFill>
                  <a:srgbClr val="009999"/>
                </a:solidFill>
                <a:latin typeface="Arial"/>
              </a:rPr>
              <a:t>1742 - Prusy zagarnęły miasto </a:t>
            </a:r>
            <a:br>
              <a:rPr sz="2400"/>
            </a:br>
            <a:r>
              <a:rPr b="0" lang="pl-PL" sz="2400" spc="-1" strike="noStrike">
                <a:solidFill>
                  <a:srgbClr val="009999"/>
                </a:solidFill>
                <a:latin typeface="Arial"/>
              </a:rPr>
              <a:t>1702 - wybudowano kościół pod wezwaniem Świętego Józefa </a:t>
            </a:r>
            <a:br>
              <a:rPr sz="2400"/>
            </a:br>
            <a:r>
              <a:rPr b="0" lang="pl-PL" sz="2400" spc="-1" strike="noStrike">
                <a:solidFill>
                  <a:srgbClr val="009999"/>
                </a:solidFill>
                <a:latin typeface="Arial"/>
              </a:rPr>
              <a:t>przed 1939 - około 4000 mieszkańców, w tym część pochodzenia słowiańskiego </a:t>
            </a:r>
            <a:br>
              <a:rPr sz="2400"/>
            </a:br>
            <a:r>
              <a:rPr b="0" lang="pl-PL" sz="2400" spc="-1" strike="noStrike">
                <a:solidFill>
                  <a:srgbClr val="009999"/>
                </a:solidFill>
                <a:latin typeface="Arial"/>
              </a:rPr>
              <a:t>1945 - zniszczenie miejscowości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914400"/>
            <a:ext cx="23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9999"/>
                </a:solidFill>
                <a:latin typeface="Tahoma"/>
              </a:rPr>
              <a:t>Historia</a:t>
            </a: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9999"/>
                </a:solidFill>
                <a:latin typeface="comic"/>
              </a:rPr>
              <a:t>ZABYTKI</a:t>
            </a:r>
            <a:r>
              <a:rPr b="0" lang="pl-PL" sz="3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0" name="baborow_3600_01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000160" cy="2457720"/>
          </a:xfrm>
          <a:prstGeom prst="rect">
            <a:avLst/>
          </a:prstGeom>
          <a:ln w="0">
            <a:noFill/>
          </a:ln>
        </p:spPr>
      </p:pic>
      <p:pic>
        <p:nvPicPr>
          <p:cNvPr id="131" name="15" descr="Baborów - kościół cmentarny p.w. św. Józefa"/>
          <p:cNvPicPr/>
          <p:nvPr/>
        </p:nvPicPr>
        <p:blipFill>
          <a:blip r:embed="rId2"/>
          <a:stretch/>
        </p:blipFill>
        <p:spPr>
          <a:xfrm>
            <a:off x="3124080" y="3733920"/>
            <a:ext cx="2857680" cy="186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143160" y="2496960"/>
            <a:ext cx="669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3" name="14" descr="Baborów wejście boczne do kosciola parafialnego p.w. Narodzenia Najświętszej Marii Panny"/>
          <p:cNvPicPr/>
          <p:nvPr/>
        </p:nvPicPr>
        <p:blipFill>
          <a:blip r:embed="rId3"/>
          <a:stretch/>
        </p:blipFill>
        <p:spPr>
          <a:xfrm>
            <a:off x="6400800" y="914400"/>
            <a:ext cx="1989000" cy="2666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2120" y="3581280"/>
            <a:ext cx="194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99"/>
                </a:solidFill>
                <a:latin typeface="Arial Unicode MS"/>
              </a:rPr>
              <a:t>Kaplica neogotycka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5715000"/>
            <a:ext cx="18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99"/>
                </a:solidFill>
                <a:latin typeface="Arial Unicode MS"/>
              </a:rPr>
              <a:t>Kościół cmentarny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99"/>
                </a:solidFill>
                <a:latin typeface="Arial Unicode MS"/>
              </a:rPr>
              <a:t>drewniany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99"/>
                </a:solidFill>
                <a:latin typeface="Arial Unicode MS"/>
              </a:rPr>
              <a:t>z1702r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9999"/>
                </a:solidFill>
                <a:latin typeface="Arial Unicode MS"/>
              </a:rPr>
              <a:t>Kościół parafialny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13716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g01" descr="Baborów - Ratusz"/>
          <p:cNvPicPr/>
          <p:nvPr/>
        </p:nvPicPr>
        <p:blipFill>
          <a:blip r:embed="rId1"/>
          <a:stretch/>
        </p:blipFill>
        <p:spPr>
          <a:xfrm>
            <a:off x="609480" y="1295280"/>
            <a:ext cx="4000680" cy="2822760"/>
          </a:xfrm>
          <a:prstGeom prst="rect">
            <a:avLst/>
          </a:prstGeom>
          <a:ln w="0">
            <a:noFill/>
          </a:ln>
        </p:spPr>
      </p:pic>
      <p:pic>
        <p:nvPicPr>
          <p:cNvPr id="139" name="g06" descr="Baborów - Cesarski Urząd Pocztowy"/>
          <p:cNvPicPr/>
          <p:nvPr/>
        </p:nvPicPr>
        <p:blipFill>
          <a:blip r:embed="rId2"/>
          <a:stretch/>
        </p:blipFill>
        <p:spPr>
          <a:xfrm>
            <a:off x="4495680" y="2666880"/>
            <a:ext cx="4000680" cy="2822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4648320" y="5029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3434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4100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9999"/>
                </a:solidFill>
                <a:latin typeface="comic"/>
              </a:rPr>
              <a:t>Carski urząd pocztowy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4114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9999"/>
                </a:solidFill>
                <a:latin typeface="comic"/>
              </a:rPr>
              <a:t>rynek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99ff"/>
                </a:solidFill>
                <a:latin typeface="comic"/>
              </a:rPr>
              <a:t>Baborów w rysunkach w.graziowskieg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9907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03" descr="Baborów - Rynek"/>
          <p:cNvPicPr/>
          <p:nvPr/>
        </p:nvPicPr>
        <p:blipFill>
          <a:blip r:embed="rId1"/>
          <a:stretch/>
        </p:blipFill>
        <p:spPr>
          <a:xfrm>
            <a:off x="609480" y="609480"/>
            <a:ext cx="4000680" cy="2822760"/>
          </a:xfrm>
          <a:prstGeom prst="rect">
            <a:avLst/>
          </a:prstGeom>
          <a:ln w="0">
            <a:noFill/>
          </a:ln>
        </p:spPr>
      </p:pic>
      <p:pic>
        <p:nvPicPr>
          <p:cNvPr id="147" name="g05" descr="Baborów - Szkoła Podstawowa"/>
          <p:cNvPicPr/>
          <p:nvPr/>
        </p:nvPicPr>
        <p:blipFill>
          <a:blip r:embed="rId2"/>
          <a:stretch/>
        </p:blipFill>
        <p:spPr>
          <a:xfrm>
            <a:off x="4724280" y="457200"/>
            <a:ext cx="4000680" cy="2822400"/>
          </a:xfrm>
          <a:prstGeom prst="rect">
            <a:avLst/>
          </a:prstGeom>
          <a:ln w="0">
            <a:noFill/>
          </a:ln>
        </p:spPr>
      </p:pic>
      <p:pic>
        <p:nvPicPr>
          <p:cNvPr id="148" name="g04" descr="Baborów - Dworzec"/>
          <p:cNvPicPr/>
          <p:nvPr/>
        </p:nvPicPr>
        <p:blipFill>
          <a:blip r:embed="rId3"/>
          <a:stretch/>
        </p:blipFill>
        <p:spPr>
          <a:xfrm>
            <a:off x="2590920" y="3276720"/>
            <a:ext cx="4000320" cy="2822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66880" y="5791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57150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9999"/>
                </a:solidFill>
                <a:latin typeface="comic"/>
              </a:rPr>
              <a:t>dworzec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1240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9999"/>
                </a:solidFill>
                <a:latin typeface="comic"/>
              </a:rPr>
              <a:t>Rynek z kolumna maryjn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3048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9999"/>
                </a:solidFill>
                <a:latin typeface="comic"/>
              </a:rPr>
              <a:t>Stara szkoł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8:53:36Z</dcterms:created>
  <dc:creator>MEN</dc:creator>
  <dc:description/>
  <dc:language>en-US</dc:language>
  <cp:lastModifiedBy>MEN</cp:lastModifiedBy>
  <dcterms:modified xsi:type="dcterms:W3CDTF">2002-03-22T11:24:03Z</dcterms:modified>
  <cp:revision>14</cp:revision>
  <dc:subject/>
  <dc:title>METODT ROZWIĄZYWANIA KONFLIKTóW</dc:title>
</cp:coreProperties>
</file>