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788-F710-470D-8FD0-5E3DC71A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D12-3483-4E15-8CA5-AE86084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B07-C966-495D-BB2F-19FA6651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E8E-75B3-409A-9FC3-F4BEC9E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7A1-0787-495C-959A-D79F66F3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FEF4-54B2-4432-868B-817A8DC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5D7B-7C69-4787-8161-83A5088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4B8-6CBB-41A5-997E-B14AE1E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8EC-71D9-4249-A448-D196171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7115-91B0-4193-921B-154B262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A14D-8B4D-4691-91BD-42188BD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3E9-5738-43F6-A710-C592186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259-F314-4963-8C35-B267C4B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05A-5EA5-40A6-A20C-2953EE4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F4A-6B17-4964-86C7-BB6071FB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FFE-2593-49D4-AF20-41BC8FC1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885A-7BA8-483D-8DA8-EE38B597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7D9-78AD-48D8-9EDF-F460914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C2A-116A-4D77-833A-882DE5AD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D85-8B47-48EE-BA09-DD756A9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3CE-712E-46EA-9B9C-D394DC6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A0F-184D-4E0D-9FB7-2B67D17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FC9-EA5B-47A5-892C-1530D53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945-1604-4C3A-ADE8-3BDAAC0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F5F2-3E0D-4360-8985-1A4304DF9B1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62EC-E3C8-4F5D-93B2-44A3E9A8CD9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KORALOW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Rafy koralo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32495-2500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9246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2320" y="1793880"/>
            <a:ext cx="68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4568"/>
                </a:solidFill>
                <a:latin typeface="Times New Roman"/>
              </a:rPr>
              <a:t>OPRACOWAŁA:KATARZYNA ARCISZEW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GALERIA ZDJĘ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4568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koralowiec_jpg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GALERIA ZDJĘ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koral" descr="koral.JPG (211747 bytes)"/>
          <p:cNvPicPr/>
          <p:nvPr/>
        </p:nvPicPr>
        <p:blipFill>
          <a:blip r:embed="rId1"/>
          <a:stretch/>
        </p:blipFill>
        <p:spPr>
          <a:xfrm>
            <a:off x="609480" y="1523880"/>
            <a:ext cx="790920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GALERIA ZDJĘ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tapeta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533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GALERIA ZDJĘ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tapeta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SYSTEMATYK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4568"/>
                </a:solidFill>
                <a:latin typeface="Times New Roman"/>
              </a:rPr>
              <a:t>TYP:JAMOCHŁ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4568"/>
                </a:solidFill>
                <a:latin typeface="Times New Roman"/>
              </a:rPr>
              <a:t>PODTYP:PARZYDEŁKOW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4568"/>
                </a:solidFill>
                <a:latin typeface="Times New Roman"/>
              </a:rPr>
              <a:t>GROMADA:KORALOW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5229-418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9494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PODZIAŁ KORALOWCÓ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ÓŁCZESNE KORALOWCE DZIELĄ SIĘ W ZALEŻNOŚCI OD LICZBY I UKŁADU PRZEGRÓ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A.KORALOWCE SZEŚCIOPROMIENNE-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HEXACORAL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pl-PL" sz="1800" spc="-1" strike="noStrike">
                <a:solidFill>
                  <a:srgbClr val="ff4568"/>
                </a:solidFill>
                <a:latin typeface="Times New Roman"/>
              </a:rPr>
              <a:t>ukwiały,korale madreporow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B.KORALOWCE  OŚMIOPROMIENNE-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OCTOCORAL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pl-PL" sz="1800" spc="-1" strike="noStrike">
                <a:solidFill>
                  <a:srgbClr val="ff4568"/>
                </a:solidFill>
                <a:latin typeface="Times New Roman"/>
              </a:rPr>
              <a:t>piórówki,korkowiec,koral czerwo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UKWIAŁ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wiały(Actiniaria)-licznie zamieszkujące morza o pełnym zasoleniu.Nie wytwarzają szkieletów.Są zwierzętami osiadłym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gkor" descr="gkor(3kB)"/>
          <p:cNvPicPr/>
          <p:nvPr/>
        </p:nvPicPr>
        <p:blipFill>
          <a:blip r:embed="rId1"/>
          <a:stretch/>
        </p:blipFill>
        <p:spPr>
          <a:xfrm>
            <a:off x="3200400" y="34290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fkor" descr="fkor(5kB)"/>
          <p:cNvPicPr/>
          <p:nvPr/>
        </p:nvPicPr>
        <p:blipFill>
          <a:blip r:embed="rId2"/>
          <a:stretch/>
        </p:blipFill>
        <p:spPr>
          <a:xfrm>
            <a:off x="0" y="3429000"/>
            <a:ext cx="3352680" cy="303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hkor" descr="hkor(3kB)"/>
          <p:cNvPicPr/>
          <p:nvPr/>
        </p:nvPicPr>
        <p:blipFill>
          <a:blip r:embed="rId3"/>
          <a:stretch/>
        </p:blipFill>
        <p:spPr>
          <a:xfrm>
            <a:off x="6324480" y="3429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0" y="64911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1.Anemonia suicata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649116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2.Sagartia parasi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4160" y="649116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3.Metridium dianth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KORALE MADREPOROW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rale madreporowe inaczej rafotwórcze to rząd koralowców obejmujący kilkaset gatunków.Występują w postaci  polipów pojedyńczo i w koloniach. Zamieszkują morza ciepł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jkor" descr="jkor(2kB)"/>
          <p:cNvPicPr/>
          <p:nvPr/>
        </p:nvPicPr>
        <p:blipFill>
          <a:blip r:embed="rId1"/>
          <a:stretch/>
        </p:blipFill>
        <p:spPr>
          <a:xfrm>
            <a:off x="1143000" y="289548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115" name="kkor" descr="kkor(2kB)"/>
          <p:cNvPicPr/>
          <p:nvPr/>
        </p:nvPicPr>
        <p:blipFill>
          <a:blip r:embed="rId2"/>
          <a:stretch/>
        </p:blipFill>
        <p:spPr>
          <a:xfrm>
            <a:off x="4572000" y="2819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mkor" descr="mkor(4kB)"/>
          <p:cNvPicPr/>
          <p:nvPr/>
        </p:nvPicPr>
        <p:blipFill>
          <a:blip r:embed="rId3"/>
          <a:stretch/>
        </p:blipFill>
        <p:spPr>
          <a:xfrm>
            <a:off x="4572000" y="5181480"/>
            <a:ext cx="1676520" cy="1131840"/>
          </a:xfrm>
          <a:prstGeom prst="rect">
            <a:avLst/>
          </a:prstGeom>
          <a:ln w="0">
            <a:noFill/>
          </a:ln>
        </p:spPr>
      </p:pic>
      <p:pic>
        <p:nvPicPr>
          <p:cNvPr id="117" name="nkor" descr="nkor(5kB)"/>
          <p:cNvPicPr/>
          <p:nvPr/>
        </p:nvPicPr>
        <p:blipFill>
          <a:blip r:embed="rId4"/>
          <a:stretch/>
        </p:blipFill>
        <p:spPr>
          <a:xfrm>
            <a:off x="1143000" y="5181480"/>
            <a:ext cx="1523880" cy="106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44956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800" y="43434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1. Fungia fung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840" y="43434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2. Cariophyllia sinuos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1080" y="63244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3. Madrep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9680" y="63244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4. Diploria celebriform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POWSTAWANIE RAFY</a:t>
            </a: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atol" descr="atol(20kB)"/>
          <p:cNvPicPr/>
          <p:nvPr/>
        </p:nvPicPr>
        <p:blipFill>
          <a:blip r:embed="rId1"/>
          <a:stretch/>
        </p:blipFill>
        <p:spPr>
          <a:xfrm>
            <a:off x="1066680" y="1189080"/>
            <a:ext cx="708660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RAFY KORALOWE</a:t>
            </a:r>
            <a:br>
              <a:rPr sz="4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satelitarne raf Seringgaptam i Scott w Austral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117709-7669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9644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ALBUM-zwierzęta i rośliny ra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ryb1" descr="ryb1(6kB)"/>
          <p:cNvPicPr/>
          <p:nvPr/>
        </p:nvPicPr>
        <p:blipFill>
          <a:blip r:embed="rId1"/>
          <a:stretch/>
        </p:blipFill>
        <p:spPr>
          <a:xfrm>
            <a:off x="1447920" y="1523880"/>
            <a:ext cx="148572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ryb2" descr="ryb2(6kB)"/>
          <p:cNvPicPr/>
          <p:nvPr/>
        </p:nvPicPr>
        <p:blipFill>
          <a:blip r:embed="rId2"/>
          <a:stretch/>
        </p:blipFill>
        <p:spPr>
          <a:xfrm>
            <a:off x="2895480" y="1523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ryb3" descr="ryb3(6kB)"/>
          <p:cNvPicPr/>
          <p:nvPr/>
        </p:nvPicPr>
        <p:blipFill>
          <a:blip r:embed="rId3"/>
          <a:stretch/>
        </p:blipFill>
        <p:spPr>
          <a:xfrm>
            <a:off x="4343400" y="1523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ryb4" descr="ryb4(6kB)"/>
          <p:cNvPicPr/>
          <p:nvPr/>
        </p:nvPicPr>
        <p:blipFill>
          <a:blip r:embed="rId4"/>
          <a:stretch/>
        </p:blipFill>
        <p:spPr>
          <a:xfrm>
            <a:off x="5791320" y="1523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czerryba" descr="czerryba(11kB)"/>
          <p:cNvPicPr/>
          <p:nvPr/>
        </p:nvPicPr>
        <p:blipFill>
          <a:blip r:embed="rId5"/>
          <a:stretch/>
        </p:blipFill>
        <p:spPr>
          <a:xfrm>
            <a:off x="1447920" y="2666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rybycz" descr="rybycz(25kB)"/>
          <p:cNvPicPr/>
          <p:nvPr/>
        </p:nvPicPr>
        <p:blipFill>
          <a:blip r:embed="rId6"/>
          <a:stretch/>
        </p:blipFill>
        <p:spPr>
          <a:xfrm>
            <a:off x="2895480" y="2666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cla" descr="cl(8kB)"/>
          <p:cNvPicPr/>
          <p:nvPr/>
        </p:nvPicPr>
        <p:blipFill>
          <a:blip r:embed="rId7"/>
          <a:stretch/>
        </p:blipFill>
        <p:spPr>
          <a:xfrm>
            <a:off x="4343400" y="2666880"/>
            <a:ext cx="148608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le2" descr="ple2(9kB)"/>
          <p:cNvPicPr/>
          <p:nvPr/>
        </p:nvPicPr>
        <p:blipFill>
          <a:blip r:embed="rId8"/>
          <a:stretch/>
        </p:blipFill>
        <p:spPr>
          <a:xfrm>
            <a:off x="5791320" y="2666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fa" descr="fa(7kB)"/>
          <p:cNvPicPr/>
          <p:nvPr/>
        </p:nvPicPr>
        <p:blipFill>
          <a:blip r:embed="rId9"/>
          <a:stretch/>
        </p:blipFill>
        <p:spPr>
          <a:xfrm>
            <a:off x="1447920" y="3809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jezow" descr="jezow(10kB)"/>
          <p:cNvPicPr/>
          <p:nvPr/>
        </p:nvPicPr>
        <p:blipFill>
          <a:blip r:embed="rId10"/>
          <a:stretch/>
        </p:blipFill>
        <p:spPr>
          <a:xfrm>
            <a:off x="4343400" y="3809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cmax" descr="cmax(9kB)"/>
          <p:cNvPicPr/>
          <p:nvPr/>
        </p:nvPicPr>
        <p:blipFill>
          <a:blip r:embed="rId11"/>
          <a:stretch/>
        </p:blipFill>
        <p:spPr>
          <a:xfrm>
            <a:off x="5791320" y="3809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zerw" descr="czerw(7kB)"/>
          <p:cNvPicPr/>
          <p:nvPr/>
        </p:nvPicPr>
        <p:blipFill>
          <a:blip r:embed="rId12"/>
          <a:stretch/>
        </p:blipFill>
        <p:spPr>
          <a:xfrm>
            <a:off x="2895480" y="3809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kor1" descr="kor1(8kB)"/>
          <p:cNvPicPr/>
          <p:nvPr/>
        </p:nvPicPr>
        <p:blipFill>
          <a:blip r:embed="rId13"/>
          <a:stretch/>
        </p:blipFill>
        <p:spPr>
          <a:xfrm>
            <a:off x="1447920" y="4952880"/>
            <a:ext cx="14857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kor3" descr="kor3(9kB)"/>
          <p:cNvPicPr/>
          <p:nvPr/>
        </p:nvPicPr>
        <p:blipFill>
          <a:blip r:embed="rId14"/>
          <a:stretch/>
        </p:blipFill>
        <p:spPr>
          <a:xfrm>
            <a:off x="2895480" y="4952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kor4" descr="kor4(12kB)"/>
          <p:cNvPicPr/>
          <p:nvPr/>
        </p:nvPicPr>
        <p:blipFill>
          <a:blip r:embed="rId15"/>
          <a:stretch/>
        </p:blipFill>
        <p:spPr>
          <a:xfrm>
            <a:off x="4343400" y="4952880"/>
            <a:ext cx="148608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czerryba" descr="czerryba(11kB)"/>
          <p:cNvPicPr/>
          <p:nvPr/>
        </p:nvPicPr>
        <p:blipFill>
          <a:blip r:embed="rId16"/>
          <a:stretch/>
        </p:blipFill>
        <p:spPr>
          <a:xfrm>
            <a:off x="5791320" y="4952880"/>
            <a:ext cx="148572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GALERIA ZDJĘ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4568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koralowce_jpg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8:27:26Z</dcterms:created>
  <dc:creator>Administrator</dc:creator>
  <dc:description/>
  <dc:language>en-US</dc:language>
  <cp:lastModifiedBy>Administrator</cp:lastModifiedBy>
  <dcterms:modified xsi:type="dcterms:W3CDTF">2002-02-15T10:42:34Z</dcterms:modified>
  <cp:revision>8</cp:revision>
  <dc:subject/>
  <dc:title>KORALOWCE</dc:title>
</cp:coreProperties>
</file>