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3ED0-AFDF-4300-929A-441EC30316C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99"/>
                </a:solidFill>
                <a:latin typeface="Times New Roman"/>
              </a:rPr>
              <a:t>Być może wynalezienie sposobu otrzymywania piwa było dziełem przypadku – zauważono po prostu, że okruchy chleba fermentują w wodzie.Na terenie Polski piwo i miód były w powszechnym użyciu już przed wprowadzeniem chrześcijaństwa.Niedługo potem, wraz z obrządkami kościelnymi, pojawiło się win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C6A0-A6C6-4253-B33F-CE080450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C8B-39AB-452B-92CD-2322C281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DF25-3B64-4176-9476-298A4EB5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F8AB-E6D6-439E-8671-97CC4C58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1262-647C-4EA2-B656-BFA34B70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5A26-FC9A-4752-8EF5-B59DC16E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75E0-ED62-4175-A6EA-E2211BC3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1D4B-4C60-4E7C-8584-6BF8E2A2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A249-C817-43F8-9892-8D30FDC1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7291-2F32-478C-B37B-F5F11DE6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77D4-9AA3-4A7C-9FD7-4BCA1457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B846-2843-4D86-A837-4A3F2009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2F8B-4970-49C6-B8BF-F9F26C6D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4908-9CE4-43D4-902F-B63CA72B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934F-227C-41B9-99B1-12BA49FF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A3BE-C66B-4B9F-A359-C11FBC5B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1237-0B62-46D2-99C4-222D049A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611-5614-4098-88B0-8D1BA1CA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2753-9B89-494A-8257-6F8CC0B6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84C-7339-4050-A7B2-7B4A1745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6FC5-F6A6-49E9-A2D7-C3C311A5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F2C-C5EF-43A9-9D97-B541FFC8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EE46-D2B9-4431-A4E4-512091EF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5051-58A0-475E-9E0C-40994F1C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44E9-CE59-4310-B03B-899C0C2C2934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0648-EE60-4600-A518-5F699F9D8F5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46840"/>
            <a:ext cx="8183520" cy="916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e1e1b7"/>
                </a:solidFill>
                <a:latin typeface="Showcard Gothic"/>
              </a:rPr>
              <a:t>                   </a:t>
            </a:r>
            <a:r>
              <a:rPr b="0" lang="pl-PL" sz="5400" spc="-1" strike="noStrike">
                <a:solidFill>
                  <a:srgbClr val="e1e1b7"/>
                </a:solidFill>
                <a:latin typeface="Showcard Gothic"/>
              </a:rPr>
              <a:t>etanol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1e1b7"/>
                </a:solidFill>
                <a:latin typeface="Showcard Gothic"/>
              </a:rPr>
              <a:t>                    </a:t>
            </a:r>
            <a:r>
              <a:rPr b="0" lang="pl-PL" sz="2800" spc="-1" strike="noStrike">
                <a:solidFill>
                  <a:srgbClr val="e1e1b7"/>
                </a:solidFill>
                <a:latin typeface="Showcard Gothic"/>
              </a:rPr>
              <a:t>CHEMIA ETANOLU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1e1b7"/>
                </a:solidFill>
                <a:latin typeface="Showcard Gothic"/>
              </a:rPr>
              <a:t>                      </a:t>
            </a:r>
            <a:r>
              <a:rPr b="0" lang="pl-PL" sz="2800" spc="-1" strike="noStrike">
                <a:solidFill>
                  <a:srgbClr val="e1e1b7"/>
                </a:solidFill>
                <a:latin typeface="Showcard Gothic"/>
              </a:rPr>
              <a:t>W   ORGANIZ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1e1b7"/>
                </a:solidFill>
                <a:latin typeface="Showcard Gothic"/>
              </a:rPr>
              <a:t>                              </a:t>
            </a:r>
            <a:r>
              <a:rPr b="0" lang="pl-PL" sz="2800" spc="-1" strike="noStrike">
                <a:solidFill>
                  <a:srgbClr val="e1e1b7"/>
                </a:solidFill>
                <a:latin typeface="Showcard Gothic"/>
              </a:rPr>
              <a:t>LUDZK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1600200"/>
            <a:ext cx="30798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  Czy wolisz pić w samotności niż w towarzystwie?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590920"/>
            <a:ext cx="300348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7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  Czy zaczynasz dostawać coraz gorsze stopnie w szkole? Czy zaniedbujesz swoje obowiązki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003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2743200" cy="2286000"/>
          </a:xfrm>
          <a:prstGeom prst="rect">
            <a:avLst/>
          </a:prstGeom>
          <a:ln w="0">
            <a:noFill/>
          </a:ln>
        </p:spPr>
      </p:pic>
      <p:pic>
        <p:nvPicPr>
          <p:cNvPr id="173" name="004" descr=""/>
          <p:cNvPicPr/>
          <p:nvPr/>
        </p:nvPicPr>
        <p:blipFill>
          <a:blip r:embed="rId2"/>
          <a:stretch/>
        </p:blipFill>
        <p:spPr>
          <a:xfrm>
            <a:off x="5791320" y="1600200"/>
            <a:ext cx="2685960" cy="22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-103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-1066680"/>
            <a:ext cx="3155760" cy="47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7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  Czy zdarzyło się, że próbowałeś przestać pić albo pić mniej i nic z tego nie wyszło?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2743200"/>
            <a:ext cx="31561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  Czy zaczynasz pić rano, przed pójściem do szkoły czy prac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005" descr=""/>
          <p:cNvPicPr/>
          <p:nvPr/>
        </p:nvPicPr>
        <p:blipFill>
          <a:blip r:embed="rId1"/>
          <a:stretch/>
        </p:blipFill>
        <p:spPr>
          <a:xfrm>
            <a:off x="5105520" y="380880"/>
            <a:ext cx="2868480" cy="2133720"/>
          </a:xfrm>
          <a:prstGeom prst="rect">
            <a:avLst/>
          </a:prstGeom>
          <a:ln w="0">
            <a:noFill/>
          </a:ln>
        </p:spPr>
      </p:pic>
      <p:pic>
        <p:nvPicPr>
          <p:cNvPr id="178" name="006" descr=""/>
          <p:cNvPicPr/>
          <p:nvPr/>
        </p:nvPicPr>
        <p:blipFill>
          <a:blip r:embed="rId2"/>
          <a:stretch/>
        </p:blipFill>
        <p:spPr>
          <a:xfrm>
            <a:off x="1752480" y="3429000"/>
            <a:ext cx="288000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7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1600200"/>
            <a:ext cx="3003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7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  Czy wypijasz drinki jednym haustem?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59080" y="3549600"/>
            <a:ext cx="31557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  Czy miewasz luki w pamięci spowodowane piciem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007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2708280" cy="2362320"/>
          </a:xfrm>
          <a:prstGeom prst="rect">
            <a:avLst/>
          </a:prstGeom>
          <a:ln w="0">
            <a:noFill/>
          </a:ln>
        </p:spPr>
      </p:pic>
      <p:pic>
        <p:nvPicPr>
          <p:cNvPr id="183" name="008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846160" cy="23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73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1752480"/>
            <a:ext cx="315612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  Czy kłamiesz, gdy mówisz o swoim piciu?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971800"/>
            <a:ext cx="300348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7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  Czy zdarza ci się, że gdy pijesz, wpadasz w kłopoty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009" descr=""/>
          <p:cNvPicPr/>
          <p:nvPr/>
        </p:nvPicPr>
        <p:blipFill>
          <a:blip r:embed="rId1"/>
          <a:stretch/>
        </p:blipFill>
        <p:spPr>
          <a:xfrm>
            <a:off x="5486400" y="533520"/>
            <a:ext cx="2816280" cy="2514600"/>
          </a:xfrm>
          <a:prstGeom prst="rect">
            <a:avLst/>
          </a:prstGeom>
          <a:ln w="0">
            <a:noFill/>
          </a:ln>
        </p:spPr>
      </p:pic>
      <p:pic>
        <p:nvPicPr>
          <p:cNvPr id="188" name="010" descr=""/>
          <p:cNvPicPr/>
          <p:nvPr/>
        </p:nvPicPr>
        <p:blipFill>
          <a:blip r:embed="rId2"/>
          <a:stretch/>
        </p:blipFill>
        <p:spPr>
          <a:xfrm>
            <a:off x="1523880" y="2057400"/>
            <a:ext cx="286092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-277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1676520"/>
            <a:ext cx="3156120" cy="46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5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  Czy pijąc zawsze upijasz się - nawet wtedy, gdy tego nie chcesz?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3645000"/>
            <a:ext cx="31557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5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  Czy uważasz, że jest w dobrym stylu mieć mocną głowę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011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289584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012" descr=""/>
          <p:cNvPicPr/>
          <p:nvPr/>
        </p:nvPicPr>
        <p:blipFill>
          <a:blip r:embed="rId2"/>
          <a:stretch/>
        </p:blipFill>
        <p:spPr>
          <a:xfrm>
            <a:off x="1219320" y="2286000"/>
            <a:ext cx="3124080" cy="26668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917240" y="590868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pracowała: Julita Stebnic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99"/>
                </a:solidFill>
                <a:latin typeface="Showcard Gothic"/>
              </a:rPr>
              <a:t>                       </a:t>
            </a:r>
            <a:r>
              <a:rPr b="0" lang="pl-PL" sz="2800" spc="-1" strike="noStrike">
                <a:solidFill>
                  <a:srgbClr val="000099"/>
                </a:solidFill>
                <a:latin typeface="Showcard Gothic"/>
              </a:rPr>
              <a:t>Ukryta   moc   alkohol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Showcard Gothic"/>
              </a:rPr>
              <a:t>WPROWADZ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Showcard Gothic"/>
              </a:rPr>
              <a:t>METABOLIZM ALKOHO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Showcard Gothic"/>
              </a:rPr>
              <a:t>WPŁYW ALKOHOLU NA FUNKCJONOWANIE WYBRANYCH NARZAD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Showcard Gothic"/>
              </a:rPr>
              <a:t>SPOZYCIE  ALKOHOLU NA  SWIE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Showcard Gothic"/>
              </a:rPr>
              <a:t>SKUTKI  SPOŁE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SY00992A" descr=""/>
          <p:cNvPicPr/>
          <p:nvPr/>
        </p:nvPicPr>
        <p:blipFill>
          <a:blip r:embed="rId1"/>
          <a:stretch/>
        </p:blipFill>
        <p:spPr>
          <a:xfrm>
            <a:off x="5867280" y="4307040"/>
            <a:ext cx="1981440" cy="19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19320" y="185760"/>
            <a:ext cx="739116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99"/>
                </a:solidFill>
                <a:latin typeface="Times New Roman"/>
              </a:rPr>
              <a:t>Skoro tylko człowiek zapoznał się z działaniem sfermentowanych owoców i zbóż, a więc już w   neolicie, alkohol stał się jego ulubioną używką.Nie zachowało się imię odkrywcy tego kamienia milowego naszej obyczajowości.Według przypowieści rabinackiej , pierwszą winorośl zasadził Noe, po czym Szatan zakopał pod jej korzeniami lwa, owcę i wieprza. Dlatego człowiek, który pije wino, czerpie z niego dzikość, łagodność oraz skłonność do tarzania się w bło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99"/>
                </a:solidFill>
                <a:latin typeface="Showcard Gothic"/>
              </a:rPr>
              <a:t>        </a:t>
            </a:r>
            <a:r>
              <a:rPr b="0" lang="pl-PL" sz="3600" spc="-1" strike="noStrike">
                <a:solidFill>
                  <a:srgbClr val="000099"/>
                </a:solidFill>
                <a:latin typeface="Showcard Gothic"/>
              </a:rPr>
              <a:t>METABOLIZM        ALKOHOLU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322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Drogi%20przemiany%20etanolu%20w%20wątrobie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5715000" cy="2840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667160" y="5638680"/>
            <a:ext cx="63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99"/>
                </a:solidFill>
                <a:latin typeface="Showcard Gothic"/>
              </a:rPr>
              <a:t>DROGI PRZEMIANY ETANOLU W WATROB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99"/>
                </a:solidFill>
                <a:latin typeface="Showcard Gothic"/>
              </a:rPr>
              <a:t>   </a:t>
            </a:r>
            <a:r>
              <a:rPr b="0" lang="pl-PL" sz="2800" spc="-1" strike="noStrike">
                <a:solidFill>
                  <a:srgbClr val="000099"/>
                </a:solidFill>
                <a:latin typeface="Showcard Gothic"/>
              </a:rPr>
              <a:t>JAK ALKOHOL DZIAŁA NA NASZ ORGANIZ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6" name="człowiek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3470400" cy="4114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523880" y="137160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1.wątro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73392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3.przewó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okarm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480060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4.ocz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24680" y="160020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6.płu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2920" y="251460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7..ner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358128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8..móz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472428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ończy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94360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5.u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266688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.trzust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5943600"/>
            <a:ext cx="106704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10.skó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129528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11.se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617220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oten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000099"/>
                </a:solidFill>
                <a:latin typeface="Showcard Gothic"/>
              </a:rPr>
              <a:t>            </a:t>
            </a:r>
            <a:r>
              <a:rPr b="0" lang="pl-PL" sz="2400" spc="-1" strike="noStrike">
                <a:solidFill>
                  <a:srgbClr val="000099"/>
                </a:solidFill>
                <a:latin typeface="Showcard Gothic"/>
              </a:rPr>
              <a:t>Wpływ alkoholu na funkcjonowanie    </a:t>
            </a:r>
            <a:br>
              <a:rPr sz="2400"/>
            </a:br>
            <a:r>
              <a:rPr b="0" lang="pl-PL" sz="2400" spc="-1" strike="noStrike">
                <a:solidFill>
                  <a:srgbClr val="000099"/>
                </a:solidFill>
                <a:latin typeface="Showcard Gothic"/>
              </a:rPr>
              <a:t>                              wybranych narzadów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219320" y="1066680"/>
          <a:ext cx="7619760" cy="5086440"/>
        </p:xfrm>
        <a:graphic>
          <a:graphicData uri="http://schemas.openxmlformats.org/drawingml/2006/table">
            <a:tbl>
              <a:tblPr/>
              <a:tblGrid>
                <a:gridCol w="2590560"/>
                <a:gridCol w="2438640"/>
                <a:gridCol w="259056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Powiększa się,             powstają stany zapalne,marskoś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Tkanka jest podrażniona, stany zapalne, zakłócenia w produkcji insulin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Upośledzone wchłanianie witamin i pokarmów, pośrednio nowotwory przełyku i żołądk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.podwójne widzenie , alkohol zmienia funkcjonowanie neuronów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.Zakłócenia zmysłu  równowag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.Uszkodzenie tkanek, zapalenie płuc, podatność na grużlicę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.Niedostateczne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suwanie toksyn, podtruwanie organizm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.Rozregulowane funkcjonowanie systemu nerwowego, otępienie, ból głow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.Drż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.Przesuszanie,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łuszczenie, infekcj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.Nadciśnienie, ryzyko zawał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2.zaburzenia zachowań seksualnych, stępienie dozna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66cc"/>
                </a:solidFill>
                <a:latin typeface="Showcard Gothic"/>
              </a:rPr>
              <a:t>  </a:t>
            </a:r>
            <a:r>
              <a:rPr b="0" lang="pl-PL" sz="3600" spc="-1" strike="noStrike">
                <a:solidFill>
                  <a:srgbClr val="3366cc"/>
                </a:solidFill>
                <a:latin typeface="Showcard Gothic"/>
              </a:rPr>
              <a:t>SPOZYCIE ALKOHOLU NA SWIECI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tabela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88620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99"/>
                </a:solidFill>
                <a:latin typeface="Showcard Gothic"/>
              </a:rPr>
              <a:t>                  </a:t>
            </a:r>
            <a:r>
              <a:rPr b="0" lang="pl-PL" sz="3600" spc="-1" strike="noStrike">
                <a:solidFill>
                  <a:srgbClr val="000099"/>
                </a:solidFill>
                <a:latin typeface="Showcard Gothic"/>
              </a:rPr>
              <a:t>OBYCZAJE   PICI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biesiada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99"/>
                </a:solidFill>
                <a:latin typeface="Showcard Gothic"/>
              </a:rPr>
              <a:t>     </a:t>
            </a:r>
            <a:r>
              <a:rPr b="0" lang="pl-PL" sz="3600" spc="-1" strike="noStrike">
                <a:solidFill>
                  <a:srgbClr val="000099"/>
                </a:solidFill>
                <a:latin typeface="Showcard Gothic"/>
              </a:rPr>
              <a:t>Przesłanie    dla    młodych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0"/>
            <a:ext cx="300384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  Czy pijesz dlatego, że masz problemy? Aby się odprężyć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3429000"/>
            <a:ext cx="359280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  Czy pijesz wtedy, gdy złoszczą cię inni ludzie, przyjaciele lub rodzic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001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2732040" cy="2438640"/>
          </a:xfrm>
          <a:prstGeom prst="rect">
            <a:avLst/>
          </a:prstGeom>
          <a:ln w="0">
            <a:noFill/>
          </a:ln>
        </p:spPr>
      </p:pic>
      <p:pic>
        <p:nvPicPr>
          <p:cNvPr id="169" name="002" descr=""/>
          <p:cNvPicPr/>
          <p:nvPr/>
        </p:nvPicPr>
        <p:blipFill>
          <a:blip r:embed="rId2"/>
          <a:stretch/>
        </p:blipFill>
        <p:spPr>
          <a:xfrm>
            <a:off x="5410080" y="3581280"/>
            <a:ext cx="28465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08:58:36Z</dcterms:created>
  <dc:creator>MEN</dc:creator>
  <dc:description/>
  <dc:language>en-US</dc:language>
  <cp:lastModifiedBy>MEN</cp:lastModifiedBy>
  <dcterms:modified xsi:type="dcterms:W3CDTF">2002-01-31T07:40:36Z</dcterms:modified>
  <cp:revision>7</cp:revision>
  <dc:subject/>
  <dc:title>                        etanol</dc:title>
</cp:coreProperties>
</file>