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gif" ContentType="image/gif"/>
  <Override PartName="/ppt/media/image12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1.png" ContentType="image/png"/>
  <Override PartName="/ppt/media/image3.gif" ContentType="image/gif"/>
  <Override PartName="/ppt/media/image6.jpeg" ContentType="image/jpeg"/>
  <Override PartName="/ppt/media/image13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482D-EEEA-4D03-A803-57D4C73978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43F-D6D0-429E-B3F8-7AC7138F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63A-5B04-41A5-9874-E4B2977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E7F-0A72-43BA-9906-F45D855F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4DA-BBB6-432C-8601-A0CA4220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46AE-4C94-48DB-92D6-80BEE1D2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C72D-E33C-4598-B7A4-E5C8444B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2906-84B7-423A-8757-BB36AEC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08BC-72E5-41BE-90EA-622883B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09D-7D2D-4712-9A2E-3ADC603C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F6A4-8993-44BF-BE89-EB3F8B9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C50F-A2B7-4D06-AA6F-2F80487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1CD-3AED-4C21-8C78-9E5E6636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00AC-36B8-46BB-A429-D72AB00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1712-E97E-4FA2-81AE-E56C7C4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297-44C0-4C7D-9DCD-DC49B7F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A68-D000-4018-8E16-954FACE7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3452-0B98-4B22-8A79-E5FB65BC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B89-9233-4632-A29C-83ECD3CB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6BF-4A97-43F3-824E-DD1858E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074-4F90-41C7-B36A-FEE23DE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85E-70B1-4135-B808-EE577454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E74-C3DD-49C8-AE4B-4528974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45F-EEE4-40BC-9C87-0A9545E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421-B84A-4F6A-A3C4-F025333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9894-51AA-448C-91FC-EF9DE3C48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A93-D714-4F81-AA0A-A953978C8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em.onet.pl/wiem/003e64.html" TargetMode="External"/><Relationship Id="rId2" Type="http://schemas.openxmlformats.org/officeDocument/2006/relationships/hyperlink" Target="http://wiem.onet.pl/wiem/003e64.html" TargetMode="External"/><Relationship Id="rId3" Type="http://schemas.openxmlformats.org/officeDocument/2006/relationships/hyperlink" Target="http://wiem.onet.pl/wiem/003e64.html" TargetMode="External"/><Relationship Id="rId4" Type="http://schemas.openxmlformats.org/officeDocument/2006/relationships/hyperlink" Target="http://wiem.onet.pl/wiem/0045d9.html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iem.onet.pl/wiem/00c808.html" TargetMode="External"/><Relationship Id="rId2" Type="http://schemas.openxmlformats.org/officeDocument/2006/relationships/hyperlink" Target="http://wiem.onet.pl/wiem/0045d9.html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079640"/>
            <a:ext cx="74674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ATOM</a:t>
            </a:r>
            <a:br>
              <a:rPr sz="6600"/>
            </a:b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AG00564_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438280" cy="2103480"/>
          </a:xfrm>
          <a:prstGeom prst="rect">
            <a:avLst/>
          </a:prstGeom>
          <a:ln w="0">
            <a:noFill/>
          </a:ln>
        </p:spPr>
      </p:pic>
      <p:pic>
        <p:nvPicPr>
          <p:cNvPr id="94" name="BD19575_" descr=""/>
          <p:cNvPicPr/>
          <p:nvPr/>
        </p:nvPicPr>
        <p:blipFill>
          <a:blip r:embed="rId3"/>
          <a:stretch/>
        </p:blipFill>
        <p:spPr>
          <a:xfrm>
            <a:off x="1295280" y="3200400"/>
            <a:ext cx="3505320" cy="2347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Cząstki elementar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protony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ząstki podstawowe, składniki jądra atomowego o masie równej 1u i o ładunku dodatn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neutrony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ząstki podstawowe, składniki jądra atomowego o masie równej 1u i nie mające ładunku elektryczn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ktrony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ząstki podstawowe poruszające się wokół jądra atomowego, posiadające ładunek ujemny i o masę równą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u.                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18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5410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53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429000" cy="1973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s5" descr=""/>
          <p:cNvPicPr/>
          <p:nvPr/>
        </p:nvPicPr>
        <p:blipFill>
          <a:blip r:embed="rId3"/>
          <a:stretch/>
        </p:blipFill>
        <p:spPr>
          <a:xfrm>
            <a:off x="1523880" y="5335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BD19588_" descr=""/>
          <p:cNvPicPr/>
          <p:nvPr/>
        </p:nvPicPr>
        <p:blipFill>
          <a:blip r:embed="rId4"/>
          <a:stretch/>
        </p:blipFill>
        <p:spPr>
          <a:xfrm>
            <a:off x="762120" y="3757680"/>
            <a:ext cx="3581280" cy="2398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029200" y="5486400"/>
            <a:ext cx="3343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Harrington"/>
              </a:rPr>
              <a:t>autor: Dorota Gajewska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med"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ahoma"/>
              </a:rPr>
              <a:t>TROCHĘ HISTORI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Joseph John Thom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Ernest Ruthef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Niels Boh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James Chadwi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BD10894_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19317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5e75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JOSEPH JOHN THOMS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752480"/>
            <a:ext cx="4419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sir (1856-1940), ojciec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Verdana"/>
                <a:hlinkClick r:id="rId1"/>
              </a:rPr>
              <a:t>Sir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 G.P.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Verdana"/>
                <a:hlinkClick r:id="rId3"/>
              </a:rPr>
              <a:t> Thomson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, fizyk brytyjski, profesor uniwersytetu w Cambridge. Dyrektor Cavendish Laboratory (1883-1918), członek Royal Society (od 1884) i wielu Akademii Nauk (m.in. od 1921 </a:t>
            </a:r>
            <a:r>
              <a:rPr b="0" lang="pl-PL" sz="2400" spc="-1" strike="noStrike" u="sng">
                <a:solidFill>
                  <a:srgbClr val="99ccff"/>
                </a:solidFill>
                <a:uFillTx/>
                <a:latin typeface="Verdana"/>
                <a:hlinkClick r:id="rId4"/>
              </a:rPr>
              <a:t>Polskiej Akademii Umiejętności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thomson" descr=""/>
          <p:cNvPicPr/>
          <p:nvPr/>
        </p:nvPicPr>
        <p:blipFill>
          <a:blip r:embed="rId5"/>
          <a:stretch/>
        </p:blipFill>
        <p:spPr>
          <a:xfrm>
            <a:off x="684360" y="1828800"/>
            <a:ext cx="2955600" cy="4419720"/>
          </a:xfrm>
          <a:prstGeom prst="rect">
            <a:avLst/>
          </a:prstGeom>
          <a:ln w="0">
            <a:noFill/>
          </a:ln>
        </p:spPr>
      </p:pic>
      <p:pic>
        <p:nvPicPr>
          <p:cNvPr id="101" name="AG00302_" descr=""/>
          <p:cNvPicPr/>
          <p:nvPr/>
        </p:nvPicPr>
        <p:blipFill>
          <a:blip r:embed="rId6"/>
          <a:stretch/>
        </p:blipFill>
        <p:spPr>
          <a:xfrm>
            <a:off x="7848720" y="304920"/>
            <a:ext cx="799920" cy="1108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ahoma"/>
              </a:rPr>
              <a:t>ERNEST RUTHEFORD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4647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baron Rutherford of Nelson (1871-1937), brytyjski fizyk urodzony w Nowej Zelandii, prezydent British Association for Advancement of Science oraz członek 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Verdana"/>
                <a:hlinkClick r:id="rId1"/>
              </a:rPr>
              <a:t>Royal Society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(od 1922). Od 1925 członek </a:t>
            </a:r>
            <a:r>
              <a:rPr b="0" lang="pl-PL" sz="28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PAU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rutherford1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288936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AG00303_" descr=""/>
          <p:cNvPicPr/>
          <p:nvPr/>
        </p:nvPicPr>
        <p:blipFill>
          <a:blip r:embed="rId4"/>
          <a:stretch/>
        </p:blipFill>
        <p:spPr>
          <a:xfrm>
            <a:off x="7391520" y="533520"/>
            <a:ext cx="909360" cy="12603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67652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(1885-1962), fizyk duński, jeden z najwybitniejszych fizyków XX wieku, uczeń J.J. Thomsona i E. Rutherforda. Od 1916 prof. uniwersytetu w Kopenhadze, założyciel i pierwszy dyrektor (1920-62) Instytutu Fizyki Teoretycznej w Kopenhadze (obecnie jego imienia). Jeden z twórców mechaniki kwantowej, 1913 opracował pierwszy kwantowy, uproszczony model budowy atomu (Bohra model atomu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bohr" descr="Niels Bohr"/>
          <p:cNvPicPr/>
          <p:nvPr/>
        </p:nvPicPr>
        <p:blipFill>
          <a:blip r:embed="rId1"/>
          <a:stretch/>
        </p:blipFill>
        <p:spPr>
          <a:xfrm>
            <a:off x="5181480" y="3908520"/>
            <a:ext cx="3048120" cy="2917800"/>
          </a:xfrm>
          <a:prstGeom prst="rect">
            <a:avLst/>
          </a:prstGeom>
          <a:ln w="0">
            <a:noFill/>
          </a:ln>
        </p:spPr>
      </p:pic>
      <p:pic>
        <p:nvPicPr>
          <p:cNvPr id="109" name="AG00303_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1265400" cy="1752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JAMES CHADWI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(1891-1974), angielski fizyk jądrowy, członek Royal Society (1927) i licznych AN, w latach 1923-35 zastępca dyrektora Cavendish Laboratory w Cambridge, w 1935-48 profesor uniwersytetów w Liverpoolu, w 1948-57 zwierzchnik Gonville and Caius College w Cambridge, w 1957-62 członek United Kingdom Atomic Energy Authority. Uczeń i współpracownik E. Rutherforda i H. Geig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chadwick" descr=""/>
          <p:cNvPicPr/>
          <p:nvPr/>
        </p:nvPicPr>
        <p:blipFill>
          <a:blip r:embed="rId1"/>
          <a:stretch/>
        </p:blipFill>
        <p:spPr>
          <a:xfrm>
            <a:off x="5892840" y="3808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AG00301_" descr=""/>
          <p:cNvPicPr/>
          <p:nvPr/>
        </p:nvPicPr>
        <p:blipFill>
          <a:blip r:embed="rId2"/>
          <a:stretch/>
        </p:blipFill>
        <p:spPr>
          <a:xfrm>
            <a:off x="1274760" y="1905120"/>
            <a:ext cx="1430280" cy="1981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18960" y="312408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Atom składa się z bardzo małego, naładowanego dodatnio jądra i ujemnie naładowanych elektronów, krążących po torach otaczających jądro i tworzących powłoki elektronow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52480" y="990720"/>
            <a:ext cx="4838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UDOWA ATOMU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ądro atomowe i elektron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atom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34351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oton" descr=""/>
          <p:cNvPicPr/>
          <p:nvPr/>
        </p:nvPicPr>
        <p:blipFill>
          <a:blip r:embed="rId2"/>
          <a:stretch/>
        </p:blipFill>
        <p:spPr>
          <a:xfrm>
            <a:off x="762120" y="1519200"/>
            <a:ext cx="7696080" cy="4456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8:58:39Z</dcterms:created>
  <dc:creator>MEN</dc:creator>
  <dc:description/>
  <dc:language>en-US</dc:language>
  <cp:lastModifiedBy>MEN</cp:lastModifiedBy>
  <dcterms:modified xsi:type="dcterms:W3CDTF">2002-01-25T10:29:25Z</dcterms:modified>
  <cp:revision>6</cp:revision>
  <dc:subject/>
  <dc:title>ATOM </dc:title>
</cp:coreProperties>
</file>