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5.jpeg" ContentType="image/jpeg"/>
  <Override PartName="/ppt/media/image12.wmf" ContentType="image/x-wmf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6ED-1611-4097-A244-6D0A8D61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FB2-08D0-48FF-95DB-1B86BD7D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CA4-215D-40B8-9F5D-FD2DB4C2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C1A-C47D-4F27-BC31-0A8D8730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CFDA-8C78-47A9-95FB-BDBDDE09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B74E-10D3-4A8E-8413-4FB3CCED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1F3C-8FDE-4886-AC80-D555112D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F16E-5082-41D2-9C05-26DC5B74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3896-EDE8-4310-A1A9-08B8F8D6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8E37-0A04-49D7-9813-0F9BAECD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4418-3053-464B-B3ED-FECF4B7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461-91AC-4BEF-B1DB-3A8CCFBC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7D1C-D75B-46C7-B2CE-FA0DAD42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BB3A-CBFA-4E6E-B091-22FC154A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5A63-A153-4F7F-930A-49E1FA05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9A25-B561-405B-8BF5-1B8DC3F0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5536-9A8A-47DD-9FC8-75575DF1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673-CC5C-4004-B112-D4B485AC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7D6-454E-45C1-B901-62D1B951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F5C-79DC-4EBD-A1FC-CBD0F2EB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B3B-BD1D-4924-B942-8CBBA827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87B-789F-4E94-81AE-CAA0822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D49-8D2D-4551-BFAF-3666FADB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590-F9AD-47A2-A71E-2E7E9DDE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BE42-7FD3-484F-ABBC-0D0974428117}" type="slidenum">
              <a:rPr b="0" lang="pl-PL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94B8-E659-42F3-BB9D-617AFDD900BF}" type="slidenum"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                 </a:t>
            </a: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Impresjonizm</a:t>
            </a:r>
            <a:br>
              <a:rPr sz="4400"/>
            </a:b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 realizacje malarskie i literack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blank36" descr=""/>
          <p:cNvPicPr/>
          <p:nvPr/>
        </p:nvPicPr>
        <p:blipFill>
          <a:blip r:embed="rId1"/>
          <a:stretch/>
        </p:blipFill>
        <p:spPr>
          <a:xfrm>
            <a:off x="3714840" y="2771640"/>
            <a:ext cx="1714320" cy="1314720"/>
          </a:xfrm>
          <a:prstGeom prst="rect">
            <a:avLst/>
          </a:prstGeom>
          <a:ln w="0">
            <a:noFill/>
          </a:ln>
        </p:spPr>
      </p:pic>
      <p:pic>
        <p:nvPicPr>
          <p:cNvPr id="92" name="wschod" descr=""/>
          <p:cNvPicPr/>
          <p:nvPr/>
        </p:nvPicPr>
        <p:blipFill>
          <a:blip r:embed="rId2"/>
          <a:stretch/>
        </p:blipFill>
        <p:spPr>
          <a:xfrm>
            <a:off x="2133720" y="2819520"/>
            <a:ext cx="5486400" cy="322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09680" y="6060960"/>
            <a:ext cx="83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Claude Monet „Impresja. Wschód słońca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5145"/>
                </a:moveTo>
                <a:lnTo>
                  <a:pt x="17806" y="12152"/>
                </a:lnTo>
                <a:lnTo>
                  <a:pt x="3794" y="19158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Jean-Arthur Rimbaud</a:t>
            </a:r>
            <a:br>
              <a:rPr sz="4400"/>
            </a:b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                   „Samogłoski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3920" y="2043000"/>
            <a:ext cx="49903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A czerń, E biel, I czerwień, U zieleń, O błękity,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Tajony wasz rodowód któregoś dnia ustalę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A, czarny i włochaty gorset lśniących wspanial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Much, co brzęczą w odorze, cień w zatokę zaszyty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E blask pary, namiotów, lance w lodowatej skale,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Biali królowie, dreszcz pod baldaszkami ukryty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I, purpura, krwi stuga z ust, pięknych warg rozkwity,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Kiedy śmieją się w gniewie lub pokutniczym szale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U, cykle,opalowa gra mórz, spokój pastwisk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Usiany zwierzętami, spokój, który odcisk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W skórze Uczonych czół bruzda alchemii głęboka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O, trąba niebiańska, co dziwne świsty kołysze,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Obszary, gdzie Anioły i Światy prują ciszę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- Omego, fioletowy promieniu Jego oka!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2480" y="5638680"/>
            <a:ext cx="57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5b5249"/>
                </a:solidFill>
                <a:uFillTx/>
                <a:latin typeface="Times New Roman"/>
              </a:rPr>
              <a:t>Skomentuj luźne skojarzenia synestezyjn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5b5249"/>
                </a:solidFill>
                <a:uFillTx/>
                <a:latin typeface="Times New Roman"/>
              </a:rPr>
              <a:t>w zaprezentowanym soneci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857600" cy="35812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1066680"/>
            <a:ext cx="868680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5b5249"/>
                </a:solidFill>
                <a:latin typeface="Times New Roman"/>
              </a:rPr>
              <a:t>Józef Pankiewicz(1866-1940)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Przeniósł na grunt polski zdobycze impresjonizmu. Pod wpływem P. Cezann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stworzył serię martwych natur zaliczanych do arcydzieł malarstwa polskieg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XX w.(Budda i lewkonie”, Martwa natura z ceramiką”, „Anemony”, „Wazon perski”)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Pank_Jo8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4191120" cy="2743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" y="5791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i="1" lang="pl-PL" sz="2400" spc="-1" strike="noStrike">
                <a:solidFill>
                  <a:srgbClr val="5b5249"/>
                </a:solidFill>
                <a:latin typeface="Times New Roman"/>
              </a:rPr>
              <a:t>Targ na kwiaty przed kościołem  św. Magdaleny w Paryżu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839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Władysław Podkowiński(1866-1895)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Uważnie obejrzyj obraz                       pt. </a:t>
            </a:r>
            <a:r>
              <a:rPr b="1" lang="pl-PL" sz="2000" spc="-1" strike="noStrike">
                <a:solidFill>
                  <a:srgbClr val="5b5249"/>
                </a:solidFill>
                <a:latin typeface="Times New Roman"/>
              </a:rPr>
              <a:t>„Szał uniesień”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                            i opisz wrażenia ,                        jakie na Tobie zrobił?                             (wypowiedź dziesięciozdaniowa 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3" name="szal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3879720" cy="480060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5335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Aleksander Gierymski(1850-1901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87120" y="1981080"/>
            <a:ext cx="2707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b5249"/>
                </a:solidFill>
                <a:latin typeface="Times New Roman"/>
              </a:rPr>
              <a:t>Autor obrazów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Ogrody w Tivioli”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Wieczór nad sekwaną”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Park włoski”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Trumna chłopska”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Gier_Al3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276360" cy="3048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564160" y="54864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W Altani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45720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520" y="110808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b5249"/>
                </a:solidFill>
                <a:latin typeface="Times New Roman"/>
              </a:rPr>
              <a:t>Kazimierz Przerwa-Tetmaje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b5249"/>
                </a:solidFill>
                <a:latin typeface="Times New Roman"/>
              </a:rPr>
              <a:t>                                          </a:t>
            </a:r>
            <a:r>
              <a:rPr b="1" lang="pl-PL" sz="3600" spc="-1" strike="noStrike">
                <a:solidFill>
                  <a:srgbClr val="5b5249"/>
                </a:solidFill>
                <a:latin typeface="Times New Roman"/>
              </a:rPr>
              <a:t>(1865-1940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Poeta, nowelista, powieściopisarz, zwany „lirykiem pokolenia”. Autor licznych utworów o tematyce dekadenckiej, miłosnej, tatrzańskiej i impresjonistycznej.W latach1891-1924 wydał osiem serii „Poezji”, ponadto ukazał się zbiór opowiadań „Na skalnym Podhalu”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3" name="U_Wrot_Chalubinskiego_s" descr=""/>
          <p:cNvPicPr/>
          <p:nvPr/>
        </p:nvPicPr>
        <p:blipFill>
          <a:blip r:embed="rId1"/>
          <a:stretch/>
        </p:blipFill>
        <p:spPr>
          <a:xfrm>
            <a:off x="4343400" y="380988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715000"/>
            <a:ext cx="375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1" lang="pl-PL" sz="1600" spc="-1" strike="noStrike">
                <a:solidFill>
                  <a:srgbClr val="5b5249"/>
                </a:solidFill>
                <a:latin typeface="Times New Roman"/>
              </a:rPr>
              <a:t>U Wrót Chałubińskiego”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1" lang="pl-PL" sz="1600" spc="-1" strike="noStrike">
                <a:solidFill>
                  <a:srgbClr val="5b5249"/>
                </a:solidFill>
                <a:latin typeface="Times New Roman"/>
              </a:rPr>
              <a:t>L. Wyczółkowski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5335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„</a:t>
            </a: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Melodia mgieł nocnych”</a:t>
            </a:r>
            <a:br>
              <a:rPr sz="4400"/>
            </a:b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  </a:t>
            </a:r>
            <a:r>
              <a:rPr b="1" lang="pl-PL" sz="2400" spc="-1" strike="noStrike">
                <a:solidFill>
                  <a:srgbClr val="2a3d7a"/>
                </a:solidFill>
                <a:latin typeface="Times New Roman"/>
              </a:rPr>
              <a:t>(Nad Czarnym Stawem Gąsienicowym)”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09680"/>
            <a:ext cx="44197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Cicho, cicho,nie budźmy śpiącej wody w kotlinie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lekko z wiatrem pląsajmy po przestworów głębinie..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Okręcajmy się wstęgą naokoło księżyca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co nam ciała przezrocze tęczą blasków nasyca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i wchłaniajmy potoków szmer co toną w jeziorze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i limb szumy powiewne, i w smrekowym  szept borze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pijmy kwiatów woń rzeźwą, co na zboczach gór kwitną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dźwięczne, barwne i wonne, w głąb zlatujmy błękitną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Cicho, cicho, nie budźmy śpiącej wody w kotlinie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lekko z wiatrem pląsajmy po przestworów głębinie..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Oto gwiazdę, co spada, lećmy chwycić w ramiona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lećmy, lećmy ją żegnać, zanim spadnie i skona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puchem mlecza się bawmy i ćmy błoną przezroczą,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i sów pierzem puszystym, co w powietrzu krąg toczą,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nietoperza ścigajmy, co po cichu tak leci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jak my same, i w nikłe oplatajmy go sieci,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z szczytu na szczyt przerzućmy się jak mosty wiszące,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gwiazd promienie przybiją do skał  mostów tych końce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a wiatr na nich na chwilę uciszony odpocznie,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nim je zerwie i w pląsy pogoni  nas skocznie..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46880" y="2809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27600" y="2895480"/>
            <a:ext cx="4316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b5249"/>
                </a:solidFill>
                <a:latin typeface="Times New Roman"/>
              </a:rPr>
              <a:t>Przeczytaj tekst i przygotuj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b5249"/>
                </a:solidFill>
                <a:latin typeface="Times New Roman"/>
              </a:rPr>
              <a:t>odpowiedzi na pytania 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-  Kto z kim i o czym rozmawia?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-  Na czym polega niezwykłość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   </a:t>
            </a: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owej rozmowy?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-  Z jakimi wrażeniami spotykamy się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   </a:t>
            </a: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w wierszu?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-  Jakie środki stylistyczne oddają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    </a:t>
            </a: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ich istotę?(sporządź ich listę i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    </a:t>
            </a: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i potwierdź  przykładami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-   W oparciu o zgromadzony materia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     </a:t>
            </a:r>
            <a:r>
              <a:rPr b="0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wyjaśnij </a:t>
            </a:r>
            <a:r>
              <a:rPr b="1" lang="pl-PL" sz="2000" spc="-1" strike="noStrike" u="sng">
                <a:solidFill>
                  <a:srgbClr val="5b5249"/>
                </a:solidFill>
                <a:uFillTx/>
                <a:latin typeface="Times New Roman"/>
              </a:rPr>
              <a:t>zjawisko synestezji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43800" y="685800"/>
            <a:ext cx="1295280" cy="2743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70080" y="1967040"/>
            <a:ext cx="21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pl-PL" sz="1600" spc="-1" strike="noStrike">
                <a:solidFill>
                  <a:srgbClr val="5b5249"/>
                </a:solidFill>
                <a:latin typeface="Times New Roman"/>
              </a:rPr>
              <a:t>K. Przerwa-Tetmaje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457200" y="6400800"/>
            <a:ext cx="228600" cy="4572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457200"/>
              <a:gd name="textAreaBottom" fmla="*/ 442440 h 457200"/>
            </a:gdLst>
            <a:ahLst/>
            <a:rect l="textAreaLeft" t="textAreaTop" r="textAreaRight" b="textAreaBottom"/>
            <a:pathLst>
              <a:path w="21600" h="43166">
                <a:moveTo>
                  <a:pt x="0" y="0"/>
                </a:moveTo>
                <a:lnTo>
                  <a:pt x="21600" y="0"/>
                </a:lnTo>
                <a:lnTo>
                  <a:pt x="21600" y="43166"/>
                </a:lnTo>
                <a:lnTo>
                  <a:pt x="0" y="43166"/>
                </a:lnTo>
                <a:close/>
              </a:path>
              <a:path fill="lightenLess" w="21600" h="431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166">
                <a:moveTo>
                  <a:pt x="21600" y="0"/>
                </a:moveTo>
                <a:lnTo>
                  <a:pt x="21600" y="43166"/>
                </a:lnTo>
                <a:lnTo>
                  <a:pt x="20200" y="41766"/>
                </a:lnTo>
                <a:lnTo>
                  <a:pt x="20200" y="1400"/>
                </a:lnTo>
                <a:close/>
              </a:path>
              <a:path fill="darkenLess" w="21600" h="43166">
                <a:moveTo>
                  <a:pt x="21600" y="43166"/>
                </a:moveTo>
                <a:lnTo>
                  <a:pt x="0" y="43166"/>
                </a:lnTo>
                <a:lnTo>
                  <a:pt x="1400" y="41766"/>
                </a:lnTo>
                <a:lnTo>
                  <a:pt x="20200" y="41766"/>
                </a:lnTo>
                <a:close/>
              </a:path>
              <a:path fill="lighten" w="21600" h="43166">
                <a:moveTo>
                  <a:pt x="0" y="43166"/>
                </a:moveTo>
                <a:lnTo>
                  <a:pt x="0" y="0"/>
                </a:lnTo>
                <a:lnTo>
                  <a:pt x="1400" y="1400"/>
                </a:lnTo>
                <a:lnTo>
                  <a:pt x="1400" y="41766"/>
                </a:lnTo>
                <a:close/>
              </a:path>
              <a:path fill="darken" w="21600" h="43166">
                <a:moveTo>
                  <a:pt x="3794" y="21583"/>
                </a:moveTo>
                <a:lnTo>
                  <a:pt x="17806" y="14577"/>
                </a:lnTo>
                <a:lnTo>
                  <a:pt x="17806" y="2859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915400" y="6400800"/>
            <a:ext cx="228600" cy="4572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457200"/>
              <a:gd name="textAreaBottom" fmla="*/ 442440 h 457200"/>
            </a:gdLst>
            <a:ahLst/>
            <a:rect l="textAreaLeft" t="textAreaTop" r="textAreaRight" b="textAreaBottom"/>
            <a:pathLst>
              <a:path w="21600" h="43166">
                <a:moveTo>
                  <a:pt x="0" y="0"/>
                </a:moveTo>
                <a:lnTo>
                  <a:pt x="21600" y="0"/>
                </a:lnTo>
                <a:lnTo>
                  <a:pt x="21600" y="43166"/>
                </a:lnTo>
                <a:lnTo>
                  <a:pt x="0" y="43166"/>
                </a:lnTo>
                <a:close/>
              </a:path>
              <a:path fill="lightenLess" w="21600" h="431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166">
                <a:moveTo>
                  <a:pt x="21600" y="0"/>
                </a:moveTo>
                <a:lnTo>
                  <a:pt x="21600" y="43166"/>
                </a:lnTo>
                <a:lnTo>
                  <a:pt x="20200" y="41766"/>
                </a:lnTo>
                <a:lnTo>
                  <a:pt x="20200" y="1400"/>
                </a:lnTo>
                <a:close/>
              </a:path>
              <a:path fill="darkenLess" w="21600" h="43166">
                <a:moveTo>
                  <a:pt x="21600" y="43166"/>
                </a:moveTo>
                <a:lnTo>
                  <a:pt x="0" y="43166"/>
                </a:lnTo>
                <a:lnTo>
                  <a:pt x="1400" y="41766"/>
                </a:lnTo>
                <a:lnTo>
                  <a:pt x="20200" y="41766"/>
                </a:lnTo>
                <a:close/>
              </a:path>
              <a:path fill="lighten" w="21600" h="43166">
                <a:moveTo>
                  <a:pt x="0" y="43166"/>
                </a:moveTo>
                <a:lnTo>
                  <a:pt x="0" y="0"/>
                </a:lnTo>
                <a:lnTo>
                  <a:pt x="1400" y="1400"/>
                </a:lnTo>
                <a:lnTo>
                  <a:pt x="1400" y="41766"/>
                </a:lnTo>
                <a:close/>
              </a:path>
              <a:path fill="darken" w="21600" h="43166">
                <a:moveTo>
                  <a:pt x="3794" y="14577"/>
                </a:moveTo>
                <a:lnTo>
                  <a:pt x="17806" y="21583"/>
                </a:lnTo>
                <a:lnTo>
                  <a:pt x="3794" y="2859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Leon Wyczółkowski(1852-1936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9360" y="2147760"/>
            <a:ext cx="752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Zapisał się w polskiej kulturze jako twórca serii obrazów poświęconyc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Rybakom,Kopaniu buraków, Orce,Łowieniu raków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7" name="Rybacy_brodzacy_s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5715000" cy="3276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658680" y="609588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Rybacy brodzący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3808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Czego dowiedziałeś się podczas prezentacji o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Times New Roman"/>
              </a:rPr>
              <a:t>impresjonizmie jako kierunku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Times New Roman"/>
              </a:rPr>
              <a:t>twórcach obrazów i utworów literackich?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Times New Roman"/>
              </a:rPr>
              <a:t>tematyce prezentowanych dzieł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Times New Roman"/>
              </a:rPr>
              <a:t>zjawisku synestezji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Times New Roman"/>
              </a:rPr>
              <a:t>cechach łączących oglądane i analizowane prac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66680" y="990720"/>
            <a:ext cx="752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Prezentacja  do wykorzystania na dwóch godzinac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                                </a:t>
            </a: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lekcyjnyc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5154840" cy="3929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9480" y="5410080"/>
            <a:ext cx="50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Opracowan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Małgorzata Dobranowska-Kuch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45720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                 </a:t>
            </a: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Impresj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59092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5b524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Przelotne wrażenie, subiektywne odczucie,przeżyci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Utwór artystyczny o charakterze nastrojowo-subiektywnym; także fragment opisu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Dawniej- wywieranie wrażeni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&lt;niem.Impression, fr. impression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z łac. Impressio ‘wgniecenie’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                                             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Słownik wyrazów obcych” wyd. PW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53352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Impresjoniz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Ruch artystyczny rozwijający się we Francji w latach 60-tych XIX w. Wyniknął z dążenia do stworzenia sztuki wiernie odzwierciedlającej naturę, ale równocześnie odnotowującej przelotne i subiektywne wrażenia twórcy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Impresjoniści nie akceptowali dominującej wówczas sztuki akademickiej.Postulowali studiowanie natury w plenerze  i wyrażanie poprzez środki malarskie wszelkich zmienności, jakie dostrzegali wokół siebie.Najczęściej tworzyli pejzaże pozwalające wyrażać niestałość natury, jej ruch i dynamikę.Posługiwali się gamą jasnych barw,które rozbijali na składniki widma słonecznego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Pomysł utrwalania chwilowych wrażeń wykorzystany został również w literaturze. Słowo stało się narzędziem wyrażania barw, smaków, zapachów, dźwięków  (synestezja)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Przedstawiciele impresjonizmu                                            francuskieg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516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5b5249"/>
                </a:solidFill>
                <a:latin typeface="Times New Roman"/>
              </a:rPr>
              <a:t>Malarze:</a:t>
            </a: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F. Bazille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P. Cezanne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C. Monet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C. Pissarro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A. Sisley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P.A. Renoir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E. Degas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E.  Manet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7640" y="50292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5b5249"/>
                </a:solidFill>
                <a:latin typeface="Times New Roman"/>
              </a:rPr>
              <a:t>Poeci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J.A. Rimbaud</a:t>
            </a:r>
            <a:r>
              <a:rPr b="1" lang="pl-PL" sz="2000" spc="-1" strike="noStrike">
                <a:solidFill>
                  <a:srgbClr val="5b5249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P. Verleine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renoir03a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3124440" cy="3962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33000" y="609588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5b5249"/>
                </a:solidFill>
                <a:latin typeface="Times New Roman"/>
              </a:rPr>
              <a:t>”</a:t>
            </a:r>
            <a:r>
              <a:rPr b="1" lang="pl-PL" sz="1400" spc="-1" strike="noStrike">
                <a:solidFill>
                  <a:srgbClr val="5b5249"/>
                </a:solidFill>
                <a:latin typeface="Times New Roman"/>
              </a:rPr>
              <a:t>Loża” A. Renoir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4572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Przedstawiciele impresjonizmu</a:t>
            </a:r>
            <a:br>
              <a:rPr sz="4400"/>
            </a:b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                    polskieg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810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5b5249"/>
                </a:solidFill>
                <a:latin typeface="Times New Roman"/>
              </a:rPr>
              <a:t>Malarze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W. Podkowiński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L. Wyczółkowski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J. Pankiewicz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A. Gierymski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2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5b5249"/>
                </a:solidFill>
                <a:latin typeface="Times New Roman"/>
              </a:rPr>
              <a:t>Pisarze i poeci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K. Przerwa-Tetmajer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J. Kasprowicz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T. Miciński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S. Żeromski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W. Reymont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t_woz" descr=""/>
          <p:cNvPicPr/>
          <p:nvPr/>
        </p:nvPicPr>
        <p:blipFill>
          <a:blip r:embed="rId1"/>
          <a:stretch/>
        </p:blipFill>
        <p:spPr>
          <a:xfrm>
            <a:off x="3886200" y="2514600"/>
            <a:ext cx="4419720" cy="3505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650760" y="6119640"/>
            <a:ext cx="44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Krajobraz z wozem siana” J. Pankiewic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380880" y="63244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Claude Monet (1840-1926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5000" y="5714640"/>
            <a:ext cx="3124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9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9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9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91440" indent="-914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Lilie wodn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9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9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9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9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lilie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4496040" cy="3394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715000" y="6019920"/>
            <a:ext cx="19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Lilie wodne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440" y="1981080"/>
            <a:ext cx="361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b5249"/>
                </a:solidFill>
                <a:latin typeface="Times New Roman"/>
              </a:rPr>
              <a:t>Autor prac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Impresja. Wschód słońca’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Camill”- „Zielona suknia”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Stogi”- cykl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Topole”- cykl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Nenufary”- cykl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Wenecja”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Monet to tylko oko...ale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dobry Boże co za oko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1" lang="pl-PL" sz="24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pl-PL" sz="2400" spc="-1" strike="noStrike" u="sng">
                <a:solidFill>
                  <a:srgbClr val="5b5249"/>
                </a:solidFill>
                <a:uFillTx/>
                <a:latin typeface="Times New Roman"/>
              </a:rPr>
              <a:t>P. Cezan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Edouard Manet (1832-1883)</a:t>
            </a:r>
            <a:br>
              <a:rPr sz="4400"/>
            </a:br>
            <a:r>
              <a:rPr b="0" lang="pl-PL" sz="2000" spc="-1" strike="noStrike">
                <a:solidFill>
                  <a:srgbClr val="2a3d7a"/>
                </a:solidFill>
                <a:latin typeface="Times New Roman"/>
              </a:rPr>
              <a:t>Autor prac „Olimpia”, „Śniadanie na trawie”(poniżej) </a:t>
            </a:r>
            <a:br>
              <a:rPr sz="2000"/>
            </a:br>
            <a:r>
              <a:rPr b="0" lang="pl-PL" sz="2000" spc="-1" strike="noStrike">
                <a:solidFill>
                  <a:srgbClr val="2a3d7a"/>
                </a:solidFill>
                <a:latin typeface="Times New Roman"/>
              </a:rPr>
              <a:t>                                                                uznanych za skandaliczne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5" name="Sniadanie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933960" cy="434340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   </a:t>
            </a: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Alfred Sisley(1839-1899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376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Saint-Mammes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Sisley" descr=""/>
          <p:cNvPicPr/>
          <p:nvPr/>
        </p:nvPicPr>
        <p:blipFill>
          <a:blip r:embed="rId1"/>
          <a:stretch/>
        </p:blipFill>
        <p:spPr>
          <a:xfrm>
            <a:off x="5029200" y="2549520"/>
            <a:ext cx="3809880" cy="3219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23274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Malarz niedoceniony za życia, po śmierci zyskał sławę jednego z najwybitniejszych impresjonistów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b5249"/>
                </a:solidFill>
                <a:latin typeface="Times New Roman"/>
              </a:rPr>
              <a:t>Autor prac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”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Łódź podczas powodzi”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Śnieg w Louveciennes”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3808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Edgar Degas(1834-1917)</a:t>
            </a:r>
            <a:br>
              <a:rPr sz="4400"/>
            </a:b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5" name="tancerka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327672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648320" y="1717560"/>
            <a:ext cx="4682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Malarz,grafik,rzeźbiarz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Jego ulubione tematy to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postać ludzka,przedstawion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najczęściej w ruchu(motyw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tancerek i scen z teatru)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wielkomiejskie życie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akty kobiece, uchwycone w trakc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kąpieli lub toalety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29960" y="59850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Tancerka na scenie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0:35:32Z</dcterms:created>
  <dc:creator>MEN</dc:creator>
  <dc:description/>
  <dc:language>en-US</dc:language>
  <cp:lastModifiedBy>MEN</cp:lastModifiedBy>
  <dcterms:modified xsi:type="dcterms:W3CDTF">2002-01-11T11:23:52Z</dcterms:modified>
  <cp:revision>60</cp:revision>
  <dc:subject/>
  <dc:title>                 Impresjonizm  realizacje malarskie i literackie</dc:title>
</cp:coreProperties>
</file>