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3.wmf" ContentType="image/x-wmf"/>
  <Override PartName="/ppt/media/image21.jpeg" ContentType="image/jpeg"/>
  <Override PartName="/ppt/media/image19.png" ContentType="image/png"/>
  <Override PartName="/ppt/media/image17.wmf" ContentType="image/x-wmf"/>
  <Override PartName="/ppt/media/image16.wmf" ContentType="image/x-wmf"/>
  <Override PartName="/ppt/media/image8.png" ContentType="image/png"/>
  <Override PartName="/ppt/media/image10.wmf" ContentType="image/x-wmf"/>
  <Override PartName="/ppt/media/image25.png" ContentType="image/png"/>
  <Override PartName="/ppt/media/image7.jpeg" ContentType="image/jpeg"/>
  <Override PartName="/ppt/media/image2.png" ContentType="image/png"/>
  <Override PartName="/ppt/media/image32.png" ContentType="image/png"/>
  <Override PartName="/ppt/media/image15.wmf" ContentType="image/x-wmf"/>
  <Override PartName="/ppt/media/image22.jpeg" ContentType="image/jpeg"/>
  <Override PartName="/ppt/media/image3.png" ContentType="image/png"/>
  <Override PartName="/ppt/media/image13.wmf" ContentType="image/x-wmf"/>
  <Override PartName="/ppt/media/image33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6.jpeg" ContentType="image/jpeg"/>
  <Override PartName="/ppt/media/image30.png" ContentType="image/png"/>
  <Override PartName="/ppt/media/image37.jpeg" ContentType="image/jpeg"/>
  <Override PartName="/ppt/media/image28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4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3DF-E66D-4CBC-9B59-18E0F84F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CF5-A7E3-4A04-ACA5-02FAB0F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0AD-9415-4DDF-B14D-48AC0440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20C-B1D9-417C-9742-A0E11D47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B5AD-284C-4C57-A583-AA3118AD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6CB9-2FB0-4842-942D-5DD8D0A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1359-3AEB-4FEF-92EC-B28C650F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A201-9D8E-4D46-966B-4C7C065C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E65-62C6-4C07-BC8F-595F2A1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0D1A-E13B-4636-ACD4-E80B7454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3DD8-4E06-446C-A971-14AA8C0C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685-58F7-43DD-AAC3-2DA1A8DD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AF25-DECC-4AD9-91E5-BAF14BE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1036-5B3B-4562-BD33-A939D19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3461-3303-4528-B53D-8885432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291A-1471-4A56-8559-21701B69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9777-EE86-49C9-A821-CC825D2D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32B-3892-42EA-A4D2-E0121C5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80B-D64F-4D82-951F-BB388244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32D-8B45-4CBE-9941-8F76D4E8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B6B-0E34-4953-B6C2-62F0C5E6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987-B80B-4D28-B44F-85A2CE4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ABD-D6BD-4332-A60F-DE8F34D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9F7-CCCA-48B3-9A8E-4E6E7B35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07B7-1C9C-4E43-A0E8-17E99D27C6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468A-42FA-4079-979E-6BA998F596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12.wmf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38080" y="685800"/>
            <a:ext cx="80773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Impact"/>
              </a:rPr>
              <a:t>DZIEŃ   PATRON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00200" y="4038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Times New Roman"/>
              </a:rPr>
              <a:t>SZKOŁ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" name="PE01753_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3880" y="1752480"/>
            <a:ext cx="60962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iermasz wyrobów cukierniczych połączony z konkursem na najlepszy kramik (uczniowie klas I, wychowawcy i rodzi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- rejestrowanie wydarzeń kamerą video, aparatem fotograficznym, sporządzenie na komputerze dyplomów dla najładniejszych kramik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880"/>
            <a:ext cx="304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781680" y="4572000"/>
          <a:ext cx="174960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4572000"/>
                    <a:ext cx="1749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H02784J" descr=""/>
          <p:cNvPicPr/>
          <p:nvPr/>
        </p:nvPicPr>
        <p:blipFill>
          <a:blip r:embed="rId4"/>
          <a:stretch/>
        </p:blipFill>
        <p:spPr>
          <a:xfrm>
            <a:off x="1143000" y="411480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H02802J" descr=""/>
          <p:cNvPicPr/>
          <p:nvPr/>
        </p:nvPicPr>
        <p:blipFill>
          <a:blip r:embed="rId5"/>
          <a:stretch/>
        </p:blipFill>
        <p:spPr>
          <a:xfrm>
            <a:off x="6705720" y="228600"/>
            <a:ext cx="2133360" cy="1905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457200"/>
            <a:ext cx="57150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Rejestracja wszystkich wydarzeń za pomocą środków audiowizualnych i techn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ronika szkolna (zespół redagujący  kronik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rony www szkoły (kółko informatycz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asa lokalna (Samorząd Szkoln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cja film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80880"/>
            <a:ext cx="304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447920" y="5029200"/>
          <a:ext cx="207468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029200"/>
                    <a:ext cx="2074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gazeta" descr=""/>
          <p:cNvPicPr/>
          <p:nvPr/>
        </p:nvPicPr>
        <p:blipFill>
          <a:blip r:embed="rId4"/>
          <a:stretch/>
        </p:blipFill>
        <p:spPr>
          <a:xfrm>
            <a:off x="6172200" y="3657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ksiazki2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1295280" cy="1185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90920" y="914400"/>
            <a:ext cx="53337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INAŁ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43400" y="1841400"/>
            <a:ext cx="2255760" cy="317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zień wolny od zajęć dydaktycznych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1219320"/>
            <a:ext cx="533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8000"/>
                </a:solidFill>
                <a:latin typeface="Times New Roman"/>
              </a:rPr>
              <a:t>według scenariusza zespołu kordynująceg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59092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egustacja  i sprzedaż wyrobów cukiernicz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głoszenie wyników konkursów, rozdanie nagró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zgrywki sportowe uczniowie kontra nauczycie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kazy: filmu wideo, strony www szkoły, zdjęć, kronik, gazetki szkol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yskoteka dla młodzież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bawa dla dorosłych (grono pedagogicz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dzice, zaproszeni gośc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487600" cy="2933640"/>
          </a:xfrm>
          <a:prstGeom prst="rect">
            <a:avLst/>
          </a:prstGeom>
          <a:ln w="0">
            <a:noFill/>
          </a:ln>
        </p:spPr>
      </p:pic>
      <p:pic>
        <p:nvPicPr>
          <p:cNvPr id="151" name="BD05507_" descr=""/>
          <p:cNvPicPr/>
          <p:nvPr/>
        </p:nvPicPr>
        <p:blipFill>
          <a:blip r:embed="rId3"/>
          <a:stretch/>
        </p:blipFill>
        <p:spPr>
          <a:xfrm>
            <a:off x="7238880" y="4724280"/>
            <a:ext cx="1600200" cy="1900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448000" y="1219320"/>
            <a:ext cx="66960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EZENTACJA EFEKTÓW PRACY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1143000"/>
            <a:ext cx="525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ŻNA PRZEZNACZYĆ NA POTRZE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733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ZK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57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ŚRODOWI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43828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2209680" y="685800"/>
            <a:ext cx="4419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CHÓD Z IMPREZY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124080" y="1371600"/>
            <a:ext cx="4419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rogramowanie użytk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a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era w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ow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arat fotograficzny (cyfrow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serokopiar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zut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środki nagłaśniają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0440" y="26938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505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komputer1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kaseta" descr=""/>
          <p:cNvPicPr/>
          <p:nvPr/>
        </p:nvPicPr>
        <p:blipFill>
          <a:blip r:embed="rId3"/>
          <a:stretch/>
        </p:blipFill>
        <p:spPr>
          <a:xfrm>
            <a:off x="228600" y="297180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64" name="plyta2" descr=""/>
          <p:cNvPicPr/>
          <p:nvPr/>
        </p:nvPicPr>
        <p:blipFill>
          <a:blip r:embed="rId4"/>
          <a:stretch/>
        </p:blipFill>
        <p:spPr>
          <a:xfrm>
            <a:off x="5562720" y="2438280"/>
            <a:ext cx="102852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BS00136_" descr=""/>
          <p:cNvPicPr/>
          <p:nvPr/>
        </p:nvPicPr>
        <p:blipFill>
          <a:blip r:embed="rId5"/>
          <a:stretch/>
        </p:blipFill>
        <p:spPr>
          <a:xfrm>
            <a:off x="7467480" y="914400"/>
            <a:ext cx="997200" cy="1125360"/>
          </a:xfrm>
          <a:prstGeom prst="rect">
            <a:avLst/>
          </a:prstGeom>
          <a:ln w="0">
            <a:noFill/>
          </a:ln>
        </p:spPr>
      </p:pic>
      <p:pic>
        <p:nvPicPr>
          <p:cNvPr id="166" name="BS01634_" descr=""/>
          <p:cNvPicPr/>
          <p:nvPr/>
        </p:nvPicPr>
        <p:blipFill>
          <a:blip r:embed="rId6"/>
          <a:stretch/>
        </p:blipFill>
        <p:spPr>
          <a:xfrm>
            <a:off x="7315200" y="2819520"/>
            <a:ext cx="1092240" cy="1110960"/>
          </a:xfrm>
          <a:prstGeom prst="rect">
            <a:avLst/>
          </a:prstGeom>
          <a:ln w="0">
            <a:noFill/>
          </a:ln>
        </p:spPr>
      </p:pic>
      <p:pic>
        <p:nvPicPr>
          <p:cNvPr id="167" name="HH01299_" descr=""/>
          <p:cNvPicPr/>
          <p:nvPr/>
        </p:nvPicPr>
        <p:blipFill>
          <a:blip r:embed="rId7"/>
          <a:stretch/>
        </p:blipFill>
        <p:spPr>
          <a:xfrm>
            <a:off x="1447920" y="3505320"/>
            <a:ext cx="1523880" cy="1238040"/>
          </a:xfrm>
          <a:prstGeom prst="rect">
            <a:avLst/>
          </a:prstGeom>
          <a:ln w="0">
            <a:noFill/>
          </a:ln>
        </p:spPr>
      </p:pic>
      <p:pic>
        <p:nvPicPr>
          <p:cNvPr id="168" name="HH01777_" descr=""/>
          <p:cNvPicPr/>
          <p:nvPr/>
        </p:nvPicPr>
        <p:blipFill>
          <a:blip r:embed="rId8"/>
          <a:stretch/>
        </p:blipFill>
        <p:spPr>
          <a:xfrm>
            <a:off x="1828800" y="21337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E01746_" descr=""/>
          <p:cNvPicPr/>
          <p:nvPr/>
        </p:nvPicPr>
        <p:blipFill>
          <a:blip r:embed="rId9"/>
          <a:stretch/>
        </p:blipFill>
        <p:spPr>
          <a:xfrm>
            <a:off x="380880" y="5029200"/>
            <a:ext cx="1752840" cy="1644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447920" y="0"/>
            <a:ext cx="5790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OSOWANE ŚRODKI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   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ECHNICZNE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1" name="basia+beata" descr=""/>
          <p:cNvPicPr/>
          <p:nvPr/>
        </p:nvPicPr>
        <p:blipFill>
          <a:blip r:embed="rId10"/>
          <a:stretch/>
        </p:blipFill>
        <p:spPr>
          <a:xfrm>
            <a:off x="6324480" y="45720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zas trwania: jeden semes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590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utorzy projekt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MVC-008S" descr=""/>
          <p:cNvPicPr/>
          <p:nvPr/>
        </p:nvPicPr>
        <p:blipFill>
          <a:blip r:embed="rId2"/>
          <a:stretch/>
        </p:blipFill>
        <p:spPr>
          <a:xfrm>
            <a:off x="6781680" y="3505320"/>
            <a:ext cx="236232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ilona" descr=""/>
          <p:cNvPicPr/>
          <p:nvPr/>
        </p:nvPicPr>
        <p:blipFill>
          <a:blip r:embed="rId3"/>
          <a:stretch/>
        </p:blipFill>
        <p:spPr>
          <a:xfrm>
            <a:off x="2666880" y="3505320"/>
            <a:ext cx="1676520" cy="2133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447920" y="304920"/>
            <a:ext cx="632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OJEKT  IMPREZY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     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ZKOLNEJ       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0" name="zdjecie_basi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162576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50532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5715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bara Adamczy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571500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lona Olch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638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ta Sokó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867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563868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gina Wasilew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43200" y="13716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FORMOWANIE CAŁEJ SZKOŁY O DNIU PATR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OŁANIE ZESPOŁU KOORDYNACYJNEG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tworzenia projektu scenariusza obchodów Święta Szk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5257800"/>
            <a:ext cx="640080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ŁĄCZENIE DO DZIAŁAŃ CAŁEJ SPOŁECZNOŚCI SZKOLNEJ I RODZIC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zaproszenia, plakaty, ulotki informacyjne., informacja w prasie lokalnej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657600"/>
            <a:ext cx="5334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ZATWIERDZENIE SCENARIUSZA WRAZ ZE WSTĘPNĄ KALKULACJĄ KOSZTÓW/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ojekt w excel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057400" cy="1984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33520" y="2286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PROWADZENIE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38280" y="6858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prowadzenie ucznia w dziedzictwo literackie i kulturowe epoki, w której żył patron - odpowiedzialni nauczyciele języka polskiego, historii, plastyki, bibliotekar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43828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zedstawienie osiągnięć danej postaci na różnych przedmiotach stosownie do dziedziny, którą się zajmował i jaki to miało wpływ na postęp ludzkości - odpowiedzialni wszyscy nauczycie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4343400"/>
            <a:ext cx="61722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ozwijanie postaw obywatelskich i patriotycznych, poczucie przynależności do wspólnoty szkolnej - odpowiedzialni nauczyciele wychowawcy.</a:t>
            </a:r>
            <a:br>
              <a:rPr sz="24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Wykorzystane środki audiowizualne: książka, kronika szkolna, strony www, plakaty, kamera video, aparat fotograficzny, projektor, rzut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828800" cy="259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22860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ZADANIA</a:t>
            </a:r>
            <a:endParaRPr b="0" lang="en-US" sz="32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09680" y="1447920"/>
            <a:ext cx="69343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szukiwanie i gromadzenie materiałó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orządzenie bibliografii o patronie   (bibliotekarz, polonista, historyk, informaty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235320"/>
            <a:ext cx="670572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. Zaprezentowanie zgromadzonych materiałó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stawa tematyczna (bibliotekar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gazetka szkolna (zespół redakcyj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rona www szkoły (informaty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cja filmu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kamera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ronika szkolna (zespół redakcyjny    kroniki szkolne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PE01746_" descr=""/>
          <p:cNvPicPr/>
          <p:nvPr/>
        </p:nvPicPr>
        <p:blipFill>
          <a:blip r:embed="rId3"/>
          <a:stretch/>
        </p:blipFill>
        <p:spPr>
          <a:xfrm>
            <a:off x="762120" y="3967200"/>
            <a:ext cx="2286000" cy="163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523880" y="0"/>
            <a:ext cx="5791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OSOWANE METODY 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    </a:t>
            </a:r>
            <a:r>
              <a:rPr b="0" lang="en-US" sz="2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YDAKTYCZNE   </a:t>
            </a:r>
            <a:endParaRPr b="0" lang="en-US" sz="2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36440"/>
            <a:ext cx="30492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21932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Wyjścia/wyjazdy: do kina, teatru, muzeum i na wystawy (poszczególni nauczyciele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jestracja wydarzeń aparatem fotograficznym, kamerą video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267080"/>
            <a:ext cx="5638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czestniczenie w  wykładach tematycznych organizowanych przez  wyższe uczelnie i inne instytucje (nauczyciele wytypowani przez zespół koordynacyj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66680" y="4191120"/>
          <a:ext cx="214020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4191120"/>
                    <a:ext cx="21402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BD05106_" descr=""/>
          <p:cNvPicPr/>
          <p:nvPr/>
        </p:nvPicPr>
        <p:blipFill>
          <a:blip r:embed="rId4"/>
          <a:stretch/>
        </p:blipFill>
        <p:spPr>
          <a:xfrm>
            <a:off x="5638680" y="2514600"/>
            <a:ext cx="247680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1676520"/>
            <a:ext cx="60199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Zorganizowanie zabawy szkolnej - obowiązują stroje z epoki patrona  (samorząd szkolny, wychowawcy-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zygotowanie zaproszeń, plakató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środków nagłaśniających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jestracja wydarzeń kamerą video, aparatem fotograficznym,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36440"/>
            <a:ext cx="30492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5880" y="304920"/>
          <a:ext cx="3048120" cy="256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304920"/>
                    <a:ext cx="304812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taniec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259092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14600" y="1523880"/>
            <a:ext cx="55627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6. Konkurs wiedzy o życiu i twórczości patro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 etap - wewnątrzkla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I etap - międzyklas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(uczniowie klas IV dla uczniów kla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rzygotowanie plakatów, rejestracja wydarzeń kamerą video, aparatem fotograficzny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80880"/>
            <a:ext cx="304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629400" y="4724280"/>
          <a:ext cx="2287440" cy="192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724280"/>
                    <a:ext cx="228744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124080" y="1219320"/>
            <a:ext cx="556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onkurs plastyczny na logo szkoły (uczniowie ze współudziałem rodziców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jestrowanie wydarzeń aparatem fotograficznym, kamerą video, sporządzenie na komputerze dyplomów dla laureató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0880"/>
            <a:ext cx="304920" cy="60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STOSOW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ET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DYDAKTYCZ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29200" y="2819520"/>
          <a:ext cx="24382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2819520"/>
                    <a:ext cx="24382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farby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1854360" cy="2743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10:04:29Z</dcterms:created>
  <dc:creator>Internet dla gmin</dc:creator>
  <dc:description/>
  <dc:language>en-US</dc:language>
  <cp:lastModifiedBy>Rafał Sil</cp:lastModifiedBy>
  <dcterms:modified xsi:type="dcterms:W3CDTF">2000-12-26T16:04:37Z</dcterms:modified>
  <cp:revision>16</cp:revision>
  <dc:subject/>
  <dc:title>Bez tytułu slajdu</dc:title>
</cp:coreProperties>
</file>